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F4C-F2C4-4D94-BD34-3E1453B6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C9D-403D-436F-9108-1F268D53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C17-7401-41A2-86D6-3320006C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FFC-D98F-4F72-96C8-AE9CB5AB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9C3-B557-4FD5-A879-DD9B662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29E-BF86-46D8-8FE7-72FAD02D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688-1656-488B-B9D3-5D75DE8C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B82-A2FC-43E6-84FB-AEAD2DEE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D05-5604-4AE6-9EB5-17F5C1E1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1E1-2BCF-4034-BB7A-88B7E972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4E8-39DD-4400-82BD-9EDE8505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B49-40EB-4E33-8596-D3C97E6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7C64-00DE-4C9E-A0AD-ADC4E9B47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your notes for Quadratics before class starts!  We have not seen these i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ver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e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ccer ball is kicked with an initial velocity of 30 feet per second so that its height s (in feet) above the ground after t seconds is given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-16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0t + 45.  How high would the ball be after 2 seco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3"/>
          <p:cNvSpPr/>
          <p:nvPr/>
        </p:nvSpPr>
        <p:spPr>
          <a:xfrm>
            <a:off x="1600200" y="3417840"/>
            <a:ext cx="3224160" cy="720720"/>
          </a:xfrm>
          <a:custGeom>
            <a:avLst/>
            <a:gdLst/>
            <a:ahLst/>
            <a:rect l="l" t="t" r="r" b="b"/>
            <a:pathLst>
              <a:path w="8954" h="2002">
                <a:moveTo>
                  <a:pt x="5175" y="10350"/>
                </a:moveTo>
                <a:cubicBezTo>
                  <a:pt x="5161" y="10295"/>
                  <a:pt x="5128" y="10244"/>
                  <a:pt x="5112" y="10192"/>
                </a:cubicBezTo>
                <a:cubicBezTo>
                  <a:pt x="5093" y="10130"/>
                  <a:pt x="5044" y="10100"/>
                  <a:pt x="4985" y="10065"/>
                </a:cubicBezTo>
                <a:cubicBezTo>
                  <a:pt x="4905" y="10017"/>
                  <a:pt x="4842" y="10033"/>
                  <a:pt x="4762" y="10065"/>
                </a:cubicBezTo>
                <a:cubicBezTo>
                  <a:pt x="4683" y="10096"/>
                  <a:pt x="4667" y="10115"/>
                  <a:pt x="4667" y="10192"/>
                </a:cubicBezTo>
                <a:cubicBezTo>
                  <a:pt x="4667" y="10281"/>
                  <a:pt x="4651" y="10368"/>
                  <a:pt x="4699" y="10446"/>
                </a:cubicBezTo>
                <a:cubicBezTo>
                  <a:pt x="4748" y="10526"/>
                  <a:pt x="4838" y="10589"/>
                  <a:pt x="4890" y="10668"/>
                </a:cubicBezTo>
                <a:cubicBezTo>
                  <a:pt x="4940" y="10744"/>
                  <a:pt x="4980" y="10834"/>
                  <a:pt x="4985" y="10922"/>
                </a:cubicBezTo>
                <a:cubicBezTo>
                  <a:pt x="4989" y="10999"/>
                  <a:pt x="4998" y="11078"/>
                  <a:pt x="4953" y="11144"/>
                </a:cubicBezTo>
                <a:cubicBezTo>
                  <a:pt x="4913" y="11204"/>
                  <a:pt x="4833" y="11236"/>
                  <a:pt x="4762" y="11208"/>
                </a:cubicBezTo>
                <a:cubicBezTo>
                  <a:pt x="4707" y="11187"/>
                  <a:pt x="4588" y="11163"/>
                  <a:pt x="4540" y="11112"/>
                </a:cubicBezTo>
                <a:cubicBezTo>
                  <a:pt x="4511" y="11081"/>
                  <a:pt x="4449" y="10994"/>
                  <a:pt x="4445" y="10954"/>
                </a:cubicBezTo>
                <a:cubicBezTo>
                  <a:pt x="4437" y="10887"/>
                  <a:pt x="4525" y="10853"/>
                  <a:pt x="4572" y="10827"/>
                </a:cubicBezTo>
              </a:path>
              <a:path w="8954" h="2002">
                <a:moveTo>
                  <a:pt x="5461" y="10478"/>
                </a:moveTo>
                <a:cubicBezTo>
                  <a:pt x="5541" y="10478"/>
                  <a:pt x="5577" y="10506"/>
                  <a:pt x="5652" y="10509"/>
                </a:cubicBezTo>
                <a:cubicBezTo>
                  <a:pt x="5762" y="10514"/>
                  <a:pt x="5835" y="10517"/>
                  <a:pt x="5937" y="10541"/>
                </a:cubicBezTo>
                <a:cubicBezTo>
                  <a:pt x="5969" y="10541"/>
                  <a:pt x="5980" y="10541"/>
                  <a:pt x="6001" y="10541"/>
                </a:cubicBezTo>
              </a:path>
              <a:path w="8954" h="2002">
                <a:moveTo>
                  <a:pt x="5461" y="10890"/>
                </a:moveTo>
                <a:cubicBezTo>
                  <a:pt x="5493" y="10890"/>
                  <a:pt x="5503" y="10890"/>
                  <a:pt x="5524" y="10890"/>
                </a:cubicBezTo>
                <a:cubicBezTo>
                  <a:pt x="5540" y="10842"/>
                  <a:pt x="5563" y="10858"/>
                  <a:pt x="5620" y="10858"/>
                </a:cubicBezTo>
                <a:cubicBezTo>
                  <a:pt x="5719" y="10858"/>
                  <a:pt x="5791" y="10862"/>
                  <a:pt x="5874" y="10890"/>
                </a:cubicBezTo>
                <a:cubicBezTo>
                  <a:pt x="5885" y="10890"/>
                  <a:pt x="5895" y="10890"/>
                  <a:pt x="5906" y="10890"/>
                </a:cubicBezTo>
              </a:path>
              <a:path w="8954" h="2002">
                <a:moveTo>
                  <a:pt x="6160" y="10096"/>
                </a:moveTo>
                <a:cubicBezTo>
                  <a:pt x="6209" y="10109"/>
                  <a:pt x="6229" y="10128"/>
                  <a:pt x="6286" y="10128"/>
                </a:cubicBezTo>
                <a:cubicBezTo>
                  <a:pt x="6378" y="10128"/>
                  <a:pt x="6426" y="10153"/>
                  <a:pt x="6509" y="10160"/>
                </a:cubicBezTo>
                <a:cubicBezTo>
                  <a:pt x="6579" y="10166"/>
                  <a:pt x="6583" y="10186"/>
                  <a:pt x="6636" y="10160"/>
                </a:cubicBezTo>
              </a:path>
              <a:path w="8954" h="2002">
                <a:moveTo>
                  <a:pt x="6858" y="9747"/>
                </a:moveTo>
                <a:cubicBezTo>
                  <a:pt x="6858" y="9837"/>
                  <a:pt x="6839" y="9882"/>
                  <a:pt x="6826" y="9970"/>
                </a:cubicBezTo>
                <a:cubicBezTo>
                  <a:pt x="6809" y="10080"/>
                  <a:pt x="6804" y="10210"/>
                  <a:pt x="6794" y="10319"/>
                </a:cubicBezTo>
                <a:cubicBezTo>
                  <a:pt x="6781" y="10457"/>
                  <a:pt x="6769" y="10596"/>
                  <a:pt x="6763" y="10732"/>
                </a:cubicBezTo>
                <a:cubicBezTo>
                  <a:pt x="6759" y="10814"/>
                  <a:pt x="6739" y="10877"/>
                  <a:pt x="6731" y="10954"/>
                </a:cubicBezTo>
                <a:cubicBezTo>
                  <a:pt x="6731" y="10965"/>
                  <a:pt x="6731" y="10975"/>
                  <a:pt x="6731" y="10986"/>
                </a:cubicBezTo>
              </a:path>
              <a:path w="8954" h="2002">
                <a:moveTo>
                  <a:pt x="7239" y="9874"/>
                </a:moveTo>
                <a:cubicBezTo>
                  <a:pt x="7239" y="9948"/>
                  <a:pt x="7229" y="10028"/>
                  <a:pt x="7207" y="10096"/>
                </a:cubicBezTo>
                <a:cubicBezTo>
                  <a:pt x="7168" y="10217"/>
                  <a:pt x="7139" y="10325"/>
                  <a:pt x="7112" y="10446"/>
                </a:cubicBezTo>
                <a:cubicBezTo>
                  <a:pt x="7081" y="10586"/>
                  <a:pt x="7090" y="10661"/>
                  <a:pt x="7112" y="10795"/>
                </a:cubicBezTo>
                <a:cubicBezTo>
                  <a:pt x="7130" y="10910"/>
                  <a:pt x="7185" y="10922"/>
                  <a:pt x="7271" y="10986"/>
                </a:cubicBezTo>
                <a:cubicBezTo>
                  <a:pt x="7342" y="11039"/>
                  <a:pt x="7413" y="11022"/>
                  <a:pt x="7493" y="10986"/>
                </a:cubicBezTo>
                <a:cubicBezTo>
                  <a:pt x="7569" y="10952"/>
                  <a:pt x="7637" y="10881"/>
                  <a:pt x="7652" y="10795"/>
                </a:cubicBezTo>
                <a:cubicBezTo>
                  <a:pt x="7670" y="10695"/>
                  <a:pt x="7654" y="10614"/>
                  <a:pt x="7588" y="10541"/>
                </a:cubicBezTo>
                <a:cubicBezTo>
                  <a:pt x="7547" y="10496"/>
                  <a:pt x="7500" y="10450"/>
                  <a:pt x="7430" y="10478"/>
                </a:cubicBezTo>
                <a:cubicBezTo>
                  <a:pt x="7370" y="10502"/>
                  <a:pt x="7329" y="10646"/>
                  <a:pt x="7302" y="10700"/>
                </a:cubicBezTo>
                <a:cubicBezTo>
                  <a:pt x="7264" y="10777"/>
                  <a:pt x="7246" y="10869"/>
                  <a:pt x="7239" y="10954"/>
                </a:cubicBezTo>
                <a:cubicBezTo>
                  <a:pt x="7234" y="11024"/>
                  <a:pt x="7232" y="11061"/>
                  <a:pt x="7271" y="11112"/>
                </a:cubicBezTo>
              </a:path>
              <a:path w="8954" h="2002">
                <a:moveTo>
                  <a:pt x="8541" y="9588"/>
                </a:moveTo>
                <a:cubicBezTo>
                  <a:pt x="8496" y="9614"/>
                  <a:pt x="8429" y="9646"/>
                  <a:pt x="8382" y="9684"/>
                </a:cubicBezTo>
                <a:cubicBezTo>
                  <a:pt x="8274" y="9772"/>
                  <a:pt x="8205" y="9887"/>
                  <a:pt x="8128" y="10001"/>
                </a:cubicBezTo>
                <a:cubicBezTo>
                  <a:pt x="8027" y="10151"/>
                  <a:pt x="7955" y="10305"/>
                  <a:pt x="7906" y="10478"/>
                </a:cubicBezTo>
                <a:cubicBezTo>
                  <a:pt x="7870" y="10608"/>
                  <a:pt x="7848" y="10786"/>
                  <a:pt x="7874" y="10922"/>
                </a:cubicBezTo>
                <a:cubicBezTo>
                  <a:pt x="7898" y="11048"/>
                  <a:pt x="7977" y="11135"/>
                  <a:pt x="8064" y="11208"/>
                </a:cubicBezTo>
                <a:cubicBezTo>
                  <a:pt x="8114" y="11250"/>
                  <a:pt x="8148" y="11308"/>
                  <a:pt x="8223" y="11303"/>
                </a:cubicBezTo>
                <a:cubicBezTo>
                  <a:pt x="8259" y="11267"/>
                  <a:pt x="8270" y="11250"/>
                  <a:pt x="8255" y="11208"/>
                </a:cubicBezTo>
              </a:path>
              <a:path w="8954" h="2002">
                <a:moveTo>
                  <a:pt x="8382" y="10319"/>
                </a:moveTo>
                <a:cubicBezTo>
                  <a:pt x="8382" y="10259"/>
                  <a:pt x="8384" y="10206"/>
                  <a:pt x="8414" y="10160"/>
                </a:cubicBezTo>
                <a:cubicBezTo>
                  <a:pt x="8439" y="10123"/>
                  <a:pt x="8461" y="10054"/>
                  <a:pt x="8509" y="10033"/>
                </a:cubicBezTo>
                <a:cubicBezTo>
                  <a:pt x="8562" y="10010"/>
                  <a:pt x="8603" y="10001"/>
                  <a:pt x="8668" y="10001"/>
                </a:cubicBezTo>
                <a:cubicBezTo>
                  <a:pt x="8720" y="10001"/>
                  <a:pt x="8759" y="10046"/>
                  <a:pt x="8763" y="10096"/>
                </a:cubicBezTo>
                <a:cubicBezTo>
                  <a:pt x="8771" y="10201"/>
                  <a:pt x="8746" y="10258"/>
                  <a:pt x="8700" y="10350"/>
                </a:cubicBezTo>
                <a:cubicBezTo>
                  <a:pt x="8630" y="10491"/>
                  <a:pt x="8556" y="10630"/>
                  <a:pt x="8477" y="10763"/>
                </a:cubicBezTo>
                <a:cubicBezTo>
                  <a:pt x="8444" y="10819"/>
                  <a:pt x="8428" y="10845"/>
                  <a:pt x="8382" y="10890"/>
                </a:cubicBezTo>
                <a:cubicBezTo>
                  <a:pt x="8398" y="10841"/>
                  <a:pt x="8410" y="10854"/>
                  <a:pt x="8446" y="10827"/>
                </a:cubicBezTo>
                <a:cubicBezTo>
                  <a:pt x="8484" y="10798"/>
                  <a:pt x="8549" y="10772"/>
                  <a:pt x="8604" y="10795"/>
                </a:cubicBezTo>
                <a:cubicBezTo>
                  <a:pt x="8654" y="10816"/>
                  <a:pt x="8712" y="10841"/>
                  <a:pt x="8763" y="10858"/>
                </a:cubicBezTo>
                <a:cubicBezTo>
                  <a:pt x="8811" y="10874"/>
                  <a:pt x="8834" y="10890"/>
                  <a:pt x="8890" y="10890"/>
                </a:cubicBezTo>
                <a:cubicBezTo>
                  <a:pt x="8926" y="10890"/>
                  <a:pt x="8940" y="10887"/>
                  <a:pt x="8954" y="10858"/>
                </a:cubicBezTo>
              </a:path>
              <a:path w="8954" h="2002">
                <a:moveTo>
                  <a:pt x="9017" y="9684"/>
                </a:moveTo>
                <a:cubicBezTo>
                  <a:pt x="9078" y="9760"/>
                  <a:pt x="9116" y="9843"/>
                  <a:pt x="9144" y="9938"/>
                </a:cubicBezTo>
                <a:cubicBezTo>
                  <a:pt x="9193" y="10107"/>
                  <a:pt x="9231" y="10275"/>
                  <a:pt x="9271" y="10446"/>
                </a:cubicBezTo>
                <a:cubicBezTo>
                  <a:pt x="9312" y="10624"/>
                  <a:pt x="9287" y="10750"/>
                  <a:pt x="9271" y="10922"/>
                </a:cubicBezTo>
                <a:cubicBezTo>
                  <a:pt x="9253" y="11115"/>
                  <a:pt x="9215" y="11182"/>
                  <a:pt x="9112" y="11335"/>
                </a:cubicBezTo>
                <a:cubicBezTo>
                  <a:pt x="9063" y="11408"/>
                  <a:pt x="9073" y="11430"/>
                  <a:pt x="8985" y="11430"/>
                </a:cubicBezTo>
                <a:cubicBezTo>
                  <a:pt x="8985" y="11369"/>
                  <a:pt x="8990" y="11366"/>
                  <a:pt x="9017" y="11303"/>
                </a:cubicBezTo>
              </a:path>
              <a:path w="8954" h="2002">
                <a:moveTo>
                  <a:pt x="9462" y="9684"/>
                </a:moveTo>
                <a:cubicBezTo>
                  <a:pt x="9462" y="9621"/>
                  <a:pt x="9476" y="9608"/>
                  <a:pt x="9493" y="9557"/>
                </a:cubicBezTo>
                <a:cubicBezTo>
                  <a:pt x="9504" y="9522"/>
                  <a:pt x="9517" y="9498"/>
                  <a:pt x="9557" y="9493"/>
                </a:cubicBezTo>
                <a:cubicBezTo>
                  <a:pt x="9616" y="9486"/>
                  <a:pt x="9645" y="9497"/>
                  <a:pt x="9652" y="9557"/>
                </a:cubicBezTo>
                <a:cubicBezTo>
                  <a:pt x="9661" y="9634"/>
                  <a:pt x="9652" y="9687"/>
                  <a:pt x="9620" y="9747"/>
                </a:cubicBezTo>
                <a:cubicBezTo>
                  <a:pt x="9582" y="9818"/>
                  <a:pt x="9518" y="9895"/>
                  <a:pt x="9493" y="9970"/>
                </a:cubicBezTo>
                <a:cubicBezTo>
                  <a:pt x="9493" y="10006"/>
                  <a:pt x="9490" y="10019"/>
                  <a:pt x="9462" y="10033"/>
                </a:cubicBezTo>
                <a:cubicBezTo>
                  <a:pt x="9509" y="10017"/>
                  <a:pt x="9488" y="10001"/>
                  <a:pt x="9557" y="10001"/>
                </a:cubicBezTo>
                <a:cubicBezTo>
                  <a:pt x="9628" y="10001"/>
                  <a:pt x="9631" y="10013"/>
                  <a:pt x="9684" y="10001"/>
                </a:cubicBezTo>
                <a:cubicBezTo>
                  <a:pt x="9695" y="10001"/>
                  <a:pt x="9705" y="10001"/>
                  <a:pt x="9716" y="10001"/>
                </a:cubicBezTo>
              </a:path>
              <a:path w="8954" h="2002">
                <a:moveTo>
                  <a:pt x="10478" y="10033"/>
                </a:moveTo>
                <a:cubicBezTo>
                  <a:pt x="10478" y="10116"/>
                  <a:pt x="10450" y="10174"/>
                  <a:pt x="10446" y="10255"/>
                </a:cubicBezTo>
                <a:cubicBezTo>
                  <a:pt x="10441" y="10373"/>
                  <a:pt x="10506" y="10923"/>
                  <a:pt x="10414" y="10954"/>
                </a:cubicBezTo>
              </a:path>
              <a:path w="8954" h="2002">
                <a:moveTo>
                  <a:pt x="10192" y="10509"/>
                </a:moveTo>
                <a:cubicBezTo>
                  <a:pt x="10209" y="10459"/>
                  <a:pt x="10255" y="10478"/>
                  <a:pt x="10319" y="10478"/>
                </a:cubicBezTo>
                <a:cubicBezTo>
                  <a:pt x="10435" y="10478"/>
                  <a:pt x="10552" y="10478"/>
                  <a:pt x="10668" y="10478"/>
                </a:cubicBezTo>
              </a:path>
              <a:path w="8954" h="2002">
                <a:moveTo>
                  <a:pt x="10922" y="10128"/>
                </a:moveTo>
                <a:cubicBezTo>
                  <a:pt x="10935" y="10076"/>
                  <a:pt x="10981" y="10011"/>
                  <a:pt x="11017" y="9970"/>
                </a:cubicBezTo>
                <a:cubicBezTo>
                  <a:pt x="11074" y="9905"/>
                  <a:pt x="11091" y="9906"/>
                  <a:pt x="11176" y="9906"/>
                </a:cubicBezTo>
                <a:cubicBezTo>
                  <a:pt x="11211" y="9906"/>
                  <a:pt x="11292" y="9963"/>
                  <a:pt x="11303" y="10001"/>
                </a:cubicBezTo>
                <a:cubicBezTo>
                  <a:pt x="11329" y="10094"/>
                  <a:pt x="11279" y="10176"/>
                  <a:pt x="11240" y="10255"/>
                </a:cubicBezTo>
                <a:cubicBezTo>
                  <a:pt x="11198" y="10339"/>
                  <a:pt x="11145" y="10371"/>
                  <a:pt x="11081" y="10414"/>
                </a:cubicBezTo>
                <a:cubicBezTo>
                  <a:pt x="11052" y="10443"/>
                  <a:pt x="11046" y="10454"/>
                  <a:pt x="11017" y="10446"/>
                </a:cubicBezTo>
                <a:cubicBezTo>
                  <a:pt x="11067" y="10434"/>
                  <a:pt x="11087" y="10414"/>
                  <a:pt x="11144" y="10414"/>
                </a:cubicBezTo>
                <a:cubicBezTo>
                  <a:pt x="11208" y="10414"/>
                  <a:pt x="11294" y="10451"/>
                  <a:pt x="11335" y="10509"/>
                </a:cubicBezTo>
                <a:cubicBezTo>
                  <a:pt x="11404" y="10606"/>
                  <a:pt x="11398" y="10715"/>
                  <a:pt x="11398" y="10827"/>
                </a:cubicBezTo>
                <a:cubicBezTo>
                  <a:pt x="11398" y="10910"/>
                  <a:pt x="11370" y="11049"/>
                  <a:pt x="11303" y="11112"/>
                </a:cubicBezTo>
                <a:cubicBezTo>
                  <a:pt x="11257" y="11155"/>
                  <a:pt x="11142" y="11226"/>
                  <a:pt x="11081" y="11240"/>
                </a:cubicBezTo>
                <a:cubicBezTo>
                  <a:pt x="11033" y="11251"/>
                  <a:pt x="10884" y="11217"/>
                  <a:pt x="10858" y="11176"/>
                </a:cubicBezTo>
                <a:cubicBezTo>
                  <a:pt x="10822" y="11118"/>
                  <a:pt x="10823" y="11076"/>
                  <a:pt x="10858" y="11017"/>
                </a:cubicBezTo>
              </a:path>
              <a:path w="8954" h="2002">
                <a:moveTo>
                  <a:pt x="11779" y="10065"/>
                </a:moveTo>
                <a:cubicBezTo>
                  <a:pt x="11701" y="10065"/>
                  <a:pt x="11677" y="10052"/>
                  <a:pt x="11620" y="10128"/>
                </a:cubicBezTo>
                <a:cubicBezTo>
                  <a:pt x="11542" y="10233"/>
                  <a:pt x="11477" y="10410"/>
                  <a:pt x="11462" y="10541"/>
                </a:cubicBezTo>
                <a:cubicBezTo>
                  <a:pt x="11445" y="10687"/>
                  <a:pt x="11453" y="10847"/>
                  <a:pt x="11494" y="10986"/>
                </a:cubicBezTo>
                <a:cubicBezTo>
                  <a:pt x="11523" y="11087"/>
                  <a:pt x="11606" y="11209"/>
                  <a:pt x="11716" y="11240"/>
                </a:cubicBezTo>
                <a:cubicBezTo>
                  <a:pt x="11814" y="11268"/>
                  <a:pt x="11944" y="11183"/>
                  <a:pt x="12002" y="11112"/>
                </a:cubicBezTo>
                <a:cubicBezTo>
                  <a:pt x="12111" y="10979"/>
                  <a:pt x="12075" y="10822"/>
                  <a:pt x="12065" y="10668"/>
                </a:cubicBezTo>
                <a:cubicBezTo>
                  <a:pt x="12054" y="10500"/>
                  <a:pt x="12015" y="10388"/>
                  <a:pt x="11906" y="10255"/>
                </a:cubicBezTo>
                <a:cubicBezTo>
                  <a:pt x="11843" y="10178"/>
                  <a:pt x="11755" y="10159"/>
                  <a:pt x="11684" y="10096"/>
                </a:cubicBezTo>
                <a:cubicBezTo>
                  <a:pt x="11673" y="10086"/>
                  <a:pt x="11663" y="10075"/>
                  <a:pt x="11652" y="10065"/>
                </a:cubicBezTo>
              </a:path>
              <a:path w="8954" h="2002">
                <a:moveTo>
                  <a:pt x="12573" y="9811"/>
                </a:moveTo>
                <a:cubicBezTo>
                  <a:pt x="12562" y="9788"/>
                  <a:pt x="12488" y="9825"/>
                  <a:pt x="12446" y="9874"/>
                </a:cubicBezTo>
                <a:cubicBezTo>
                  <a:pt x="12366" y="9968"/>
                  <a:pt x="12299" y="10075"/>
                  <a:pt x="12256" y="10192"/>
                </a:cubicBezTo>
                <a:cubicBezTo>
                  <a:pt x="12196" y="10356"/>
                  <a:pt x="12145" y="10493"/>
                  <a:pt x="12128" y="10668"/>
                </a:cubicBezTo>
                <a:cubicBezTo>
                  <a:pt x="12113" y="10826"/>
                  <a:pt x="12147" y="10963"/>
                  <a:pt x="12192" y="11112"/>
                </a:cubicBezTo>
                <a:cubicBezTo>
                  <a:pt x="12224" y="11219"/>
                  <a:pt x="12289" y="11311"/>
                  <a:pt x="12382" y="11366"/>
                </a:cubicBezTo>
                <a:cubicBezTo>
                  <a:pt x="12458" y="11411"/>
                  <a:pt x="12476" y="11406"/>
                  <a:pt x="12541" y="11366"/>
                </a:cubicBezTo>
              </a:path>
              <a:path w="8954" h="2002">
                <a:moveTo>
                  <a:pt x="12541" y="10287"/>
                </a:moveTo>
                <a:cubicBezTo>
                  <a:pt x="12600" y="10267"/>
                  <a:pt x="12572" y="10229"/>
                  <a:pt x="12668" y="10224"/>
                </a:cubicBezTo>
                <a:cubicBezTo>
                  <a:pt x="12772" y="10218"/>
                  <a:pt x="12810" y="10200"/>
                  <a:pt x="12922" y="10224"/>
                </a:cubicBezTo>
                <a:cubicBezTo>
                  <a:pt x="12974" y="10235"/>
                  <a:pt x="13014" y="10260"/>
                  <a:pt x="13018" y="10319"/>
                </a:cubicBezTo>
                <a:cubicBezTo>
                  <a:pt x="13025" y="10415"/>
                  <a:pt x="12949" y="10503"/>
                  <a:pt x="12890" y="10573"/>
                </a:cubicBezTo>
                <a:cubicBezTo>
                  <a:pt x="12816" y="10660"/>
                  <a:pt x="12751" y="10745"/>
                  <a:pt x="12668" y="10827"/>
                </a:cubicBezTo>
                <a:cubicBezTo>
                  <a:pt x="12617" y="10877"/>
                  <a:pt x="12605" y="10918"/>
                  <a:pt x="12605" y="10986"/>
                </a:cubicBezTo>
                <a:cubicBezTo>
                  <a:pt x="12731" y="10986"/>
                  <a:pt x="13021" y="11037"/>
                  <a:pt x="13113" y="10954"/>
                </a:cubicBezTo>
                <a:cubicBezTo>
                  <a:pt x="13123" y="10943"/>
                  <a:pt x="13134" y="10933"/>
                  <a:pt x="13144" y="10922"/>
                </a:cubicBezTo>
              </a:path>
              <a:path w="8954" h="2002">
                <a:moveTo>
                  <a:pt x="13081" y="9747"/>
                </a:moveTo>
                <a:cubicBezTo>
                  <a:pt x="13144" y="9810"/>
                  <a:pt x="13202" y="9889"/>
                  <a:pt x="13240" y="9970"/>
                </a:cubicBezTo>
                <a:cubicBezTo>
                  <a:pt x="13317" y="10135"/>
                  <a:pt x="13337" y="10307"/>
                  <a:pt x="13367" y="10478"/>
                </a:cubicBezTo>
                <a:cubicBezTo>
                  <a:pt x="13396" y="10641"/>
                  <a:pt x="13421" y="10819"/>
                  <a:pt x="13398" y="10986"/>
                </a:cubicBezTo>
                <a:cubicBezTo>
                  <a:pt x="13381" y="11110"/>
                  <a:pt x="13365" y="11254"/>
                  <a:pt x="13303" y="11366"/>
                </a:cubicBezTo>
                <a:cubicBezTo>
                  <a:pt x="13276" y="11415"/>
                  <a:pt x="13195" y="11488"/>
                  <a:pt x="13144" y="11494"/>
                </a:cubicBezTo>
                <a:cubicBezTo>
                  <a:pt x="13091" y="11500"/>
                  <a:pt x="13094" y="11502"/>
                  <a:pt x="13081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4"/>
          <p:cNvSpPr/>
          <p:nvPr/>
        </p:nvSpPr>
        <p:spPr>
          <a:xfrm>
            <a:off x="5005440" y="3543480"/>
            <a:ext cx="858960" cy="606240"/>
          </a:xfrm>
          <a:custGeom>
            <a:avLst/>
            <a:gdLst/>
            <a:ahLst/>
            <a:rect l="l" t="t" r="r" b="b"/>
            <a:pathLst>
              <a:path w="2383" h="1684">
                <a:moveTo>
                  <a:pt x="14160" y="10192"/>
                </a:moveTo>
                <a:cubicBezTo>
                  <a:pt x="14160" y="10316"/>
                  <a:pt x="14142" y="10423"/>
                  <a:pt x="14129" y="10541"/>
                </a:cubicBezTo>
                <a:cubicBezTo>
                  <a:pt x="14114" y="10670"/>
                  <a:pt x="14114" y="10796"/>
                  <a:pt x="14097" y="10922"/>
                </a:cubicBezTo>
                <a:cubicBezTo>
                  <a:pt x="14092" y="10961"/>
                  <a:pt x="14097" y="11009"/>
                  <a:pt x="14097" y="11049"/>
                </a:cubicBezTo>
              </a:path>
              <a:path w="2383" h="1684">
                <a:moveTo>
                  <a:pt x="13906" y="10604"/>
                </a:moveTo>
                <a:cubicBezTo>
                  <a:pt x="13998" y="10604"/>
                  <a:pt x="14076" y="10584"/>
                  <a:pt x="14160" y="10573"/>
                </a:cubicBezTo>
                <a:cubicBezTo>
                  <a:pt x="14260" y="10560"/>
                  <a:pt x="14320" y="10551"/>
                  <a:pt x="14414" y="10509"/>
                </a:cubicBezTo>
              </a:path>
              <a:path w="2383" h="1684">
                <a:moveTo>
                  <a:pt x="14700" y="9906"/>
                </a:moveTo>
                <a:cubicBezTo>
                  <a:pt x="14700" y="10019"/>
                  <a:pt x="14719" y="10120"/>
                  <a:pt x="14732" y="10224"/>
                </a:cubicBezTo>
                <a:cubicBezTo>
                  <a:pt x="14750" y="10367"/>
                  <a:pt x="14722" y="10504"/>
                  <a:pt x="14700" y="10636"/>
                </a:cubicBezTo>
                <a:cubicBezTo>
                  <a:pt x="14700" y="10689"/>
                  <a:pt x="14700" y="10700"/>
                  <a:pt x="14700" y="10732"/>
                </a:cubicBezTo>
                <a:cubicBezTo>
                  <a:pt x="14768" y="10732"/>
                  <a:pt x="14790" y="10706"/>
                  <a:pt x="14859" y="10700"/>
                </a:cubicBezTo>
                <a:cubicBezTo>
                  <a:pt x="14946" y="10693"/>
                  <a:pt x="15003" y="10719"/>
                  <a:pt x="15081" y="10732"/>
                </a:cubicBezTo>
                <a:cubicBezTo>
                  <a:pt x="15147" y="10743"/>
                  <a:pt x="15223" y="10739"/>
                  <a:pt x="15272" y="10700"/>
                </a:cubicBezTo>
                <a:cubicBezTo>
                  <a:pt x="15304" y="10668"/>
                  <a:pt x="15314" y="10658"/>
                  <a:pt x="15335" y="10636"/>
                </a:cubicBezTo>
              </a:path>
              <a:path w="2383" h="1684">
                <a:moveTo>
                  <a:pt x="15272" y="9842"/>
                </a:moveTo>
                <a:cubicBezTo>
                  <a:pt x="15210" y="9863"/>
                  <a:pt x="15256" y="9901"/>
                  <a:pt x="15240" y="9970"/>
                </a:cubicBezTo>
                <a:cubicBezTo>
                  <a:pt x="15208" y="10111"/>
                  <a:pt x="15177" y="10238"/>
                  <a:pt x="15145" y="10382"/>
                </a:cubicBezTo>
                <a:cubicBezTo>
                  <a:pt x="15108" y="10551"/>
                  <a:pt x="15109" y="10721"/>
                  <a:pt x="15081" y="10890"/>
                </a:cubicBezTo>
                <a:cubicBezTo>
                  <a:pt x="15061" y="11011"/>
                  <a:pt x="15050" y="11117"/>
                  <a:pt x="15050" y="11240"/>
                </a:cubicBezTo>
                <a:cubicBezTo>
                  <a:pt x="15050" y="11271"/>
                  <a:pt x="15050" y="11281"/>
                  <a:pt x="15081" y="11271"/>
                </a:cubicBezTo>
              </a:path>
              <a:path w="2383" h="1684">
                <a:moveTo>
                  <a:pt x="16097" y="9906"/>
                </a:moveTo>
                <a:cubicBezTo>
                  <a:pt x="16122" y="9978"/>
                  <a:pt x="16132" y="9911"/>
                  <a:pt x="16066" y="9938"/>
                </a:cubicBezTo>
                <a:cubicBezTo>
                  <a:pt x="15988" y="9969"/>
                  <a:pt x="15922" y="9974"/>
                  <a:pt x="15843" y="10001"/>
                </a:cubicBezTo>
                <a:cubicBezTo>
                  <a:pt x="15794" y="10018"/>
                  <a:pt x="15732" y="10017"/>
                  <a:pt x="15684" y="10033"/>
                </a:cubicBezTo>
                <a:cubicBezTo>
                  <a:pt x="15621" y="10054"/>
                  <a:pt x="15617" y="10075"/>
                  <a:pt x="15589" y="10128"/>
                </a:cubicBezTo>
                <a:cubicBezTo>
                  <a:pt x="15551" y="10201"/>
                  <a:pt x="15505" y="10268"/>
                  <a:pt x="15494" y="10350"/>
                </a:cubicBezTo>
                <a:cubicBezTo>
                  <a:pt x="15481" y="10447"/>
                  <a:pt x="15487" y="10549"/>
                  <a:pt x="15526" y="10636"/>
                </a:cubicBezTo>
                <a:cubicBezTo>
                  <a:pt x="15547" y="10683"/>
                  <a:pt x="15555" y="10720"/>
                  <a:pt x="15589" y="10763"/>
                </a:cubicBezTo>
                <a:cubicBezTo>
                  <a:pt x="15603" y="10739"/>
                  <a:pt x="15660" y="10662"/>
                  <a:pt x="15684" y="10604"/>
                </a:cubicBezTo>
                <a:cubicBezTo>
                  <a:pt x="15713" y="10532"/>
                  <a:pt x="15717" y="10468"/>
                  <a:pt x="15812" y="10446"/>
                </a:cubicBezTo>
                <a:cubicBezTo>
                  <a:pt x="15872" y="10432"/>
                  <a:pt x="15953" y="10443"/>
                  <a:pt x="16002" y="10478"/>
                </a:cubicBezTo>
                <a:cubicBezTo>
                  <a:pt x="16099" y="10547"/>
                  <a:pt x="16153" y="10689"/>
                  <a:pt x="16192" y="10795"/>
                </a:cubicBezTo>
                <a:cubicBezTo>
                  <a:pt x="16241" y="10928"/>
                  <a:pt x="16307" y="11097"/>
                  <a:pt x="16288" y="11240"/>
                </a:cubicBezTo>
                <a:cubicBezTo>
                  <a:pt x="16277" y="11324"/>
                  <a:pt x="16216" y="11468"/>
                  <a:pt x="16129" y="11494"/>
                </a:cubicBezTo>
                <a:cubicBezTo>
                  <a:pt x="16046" y="11519"/>
                  <a:pt x="15958" y="11522"/>
                  <a:pt x="15875" y="11494"/>
                </a:cubicBezTo>
                <a:cubicBezTo>
                  <a:pt x="15804" y="11470"/>
                  <a:pt x="15743" y="11445"/>
                  <a:pt x="15684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5"/>
          <p:cNvSpPr/>
          <p:nvPr/>
        </p:nvSpPr>
        <p:spPr>
          <a:xfrm>
            <a:off x="2685960" y="4286160"/>
            <a:ext cx="1200240" cy="606600"/>
          </a:xfrm>
          <a:custGeom>
            <a:avLst/>
            <a:gdLst/>
            <a:ahLst/>
            <a:rect l="l" t="t" r="r" b="b"/>
            <a:pathLst>
              <a:path w="3335" h="1684">
                <a:moveTo>
                  <a:pt x="8255" y="12414"/>
                </a:moveTo>
                <a:cubicBezTo>
                  <a:pt x="8296" y="12362"/>
                  <a:pt x="8315" y="12326"/>
                  <a:pt x="8318" y="12256"/>
                </a:cubicBezTo>
                <a:cubicBezTo>
                  <a:pt x="8321" y="12196"/>
                  <a:pt x="8332" y="12114"/>
                  <a:pt x="8287" y="12065"/>
                </a:cubicBezTo>
                <a:cubicBezTo>
                  <a:pt x="8226" y="12000"/>
                  <a:pt x="8116" y="11974"/>
                  <a:pt x="8033" y="11970"/>
                </a:cubicBezTo>
                <a:cubicBezTo>
                  <a:pt x="7939" y="11965"/>
                  <a:pt x="7881" y="11969"/>
                  <a:pt x="7810" y="12033"/>
                </a:cubicBezTo>
                <a:cubicBezTo>
                  <a:pt x="7740" y="12096"/>
                  <a:pt x="7747" y="12131"/>
                  <a:pt x="7747" y="12224"/>
                </a:cubicBezTo>
                <a:cubicBezTo>
                  <a:pt x="7747" y="12310"/>
                  <a:pt x="7789" y="12439"/>
                  <a:pt x="7842" y="12510"/>
                </a:cubicBezTo>
                <a:cubicBezTo>
                  <a:pt x="7912" y="12604"/>
                  <a:pt x="7968" y="12696"/>
                  <a:pt x="8033" y="12795"/>
                </a:cubicBezTo>
                <a:cubicBezTo>
                  <a:pt x="8093" y="12887"/>
                  <a:pt x="8142" y="12976"/>
                  <a:pt x="8160" y="13081"/>
                </a:cubicBezTo>
                <a:cubicBezTo>
                  <a:pt x="8176" y="13174"/>
                  <a:pt x="8106" y="13233"/>
                  <a:pt x="8064" y="13303"/>
                </a:cubicBezTo>
                <a:cubicBezTo>
                  <a:pt x="7996" y="13418"/>
                  <a:pt x="7972" y="13430"/>
                  <a:pt x="7842" y="13430"/>
                </a:cubicBezTo>
                <a:cubicBezTo>
                  <a:pt x="7751" y="13430"/>
                  <a:pt x="7674" y="13346"/>
                  <a:pt x="7588" y="13303"/>
                </a:cubicBezTo>
                <a:cubicBezTo>
                  <a:pt x="7519" y="13269"/>
                  <a:pt x="7477" y="13215"/>
                  <a:pt x="7461" y="13144"/>
                </a:cubicBezTo>
                <a:cubicBezTo>
                  <a:pt x="7450" y="13095"/>
                  <a:pt x="7490" y="13016"/>
                  <a:pt x="7525" y="12986"/>
                </a:cubicBezTo>
                <a:cubicBezTo>
                  <a:pt x="7546" y="12975"/>
                  <a:pt x="7567" y="12965"/>
                  <a:pt x="7588" y="12954"/>
                </a:cubicBezTo>
              </a:path>
              <a:path w="3335" h="1684">
                <a:moveTo>
                  <a:pt x="8604" y="12668"/>
                </a:moveTo>
                <a:cubicBezTo>
                  <a:pt x="8633" y="12611"/>
                  <a:pt x="8721" y="12585"/>
                  <a:pt x="8795" y="12573"/>
                </a:cubicBezTo>
                <a:cubicBezTo>
                  <a:pt x="8908" y="12554"/>
                  <a:pt x="9010" y="12588"/>
                  <a:pt x="9112" y="12605"/>
                </a:cubicBezTo>
                <a:cubicBezTo>
                  <a:pt x="9176" y="12605"/>
                  <a:pt x="9197" y="12605"/>
                  <a:pt x="9239" y="12605"/>
                </a:cubicBezTo>
              </a:path>
              <a:path w="3335" h="1684">
                <a:moveTo>
                  <a:pt x="8604" y="12922"/>
                </a:moveTo>
                <a:cubicBezTo>
                  <a:pt x="8621" y="12974"/>
                  <a:pt x="8666" y="12954"/>
                  <a:pt x="8731" y="12954"/>
                </a:cubicBezTo>
                <a:cubicBezTo>
                  <a:pt x="8837" y="12954"/>
                  <a:pt x="8920" y="12970"/>
                  <a:pt x="9017" y="12986"/>
                </a:cubicBezTo>
                <a:cubicBezTo>
                  <a:pt x="9038" y="12986"/>
                  <a:pt x="9059" y="12986"/>
                  <a:pt x="9080" y="12986"/>
                </a:cubicBezTo>
              </a:path>
              <a:path w="3335" h="1684">
                <a:moveTo>
                  <a:pt x="9779" y="11970"/>
                </a:moveTo>
                <a:cubicBezTo>
                  <a:pt x="9779" y="12047"/>
                  <a:pt x="9766" y="12120"/>
                  <a:pt x="9747" y="12192"/>
                </a:cubicBezTo>
                <a:cubicBezTo>
                  <a:pt x="9717" y="12310"/>
                  <a:pt x="9659" y="12425"/>
                  <a:pt x="9620" y="12541"/>
                </a:cubicBezTo>
                <a:cubicBezTo>
                  <a:pt x="9616" y="12554"/>
                  <a:pt x="9564" y="12795"/>
                  <a:pt x="9557" y="12795"/>
                </a:cubicBezTo>
                <a:cubicBezTo>
                  <a:pt x="9549" y="12795"/>
                  <a:pt x="9612" y="12704"/>
                  <a:pt x="9652" y="12700"/>
                </a:cubicBezTo>
                <a:cubicBezTo>
                  <a:pt x="9703" y="12694"/>
                  <a:pt x="9767" y="12716"/>
                  <a:pt x="9811" y="12732"/>
                </a:cubicBezTo>
                <a:cubicBezTo>
                  <a:pt x="9890" y="12760"/>
                  <a:pt x="9956" y="12801"/>
                  <a:pt x="10033" y="12827"/>
                </a:cubicBezTo>
                <a:cubicBezTo>
                  <a:pt x="10153" y="12867"/>
                  <a:pt x="10130" y="12855"/>
                  <a:pt x="10224" y="12795"/>
                </a:cubicBezTo>
                <a:cubicBezTo>
                  <a:pt x="10245" y="12785"/>
                  <a:pt x="10266" y="12774"/>
                  <a:pt x="10287" y="12764"/>
                </a:cubicBezTo>
              </a:path>
              <a:path w="3335" h="1684">
                <a:moveTo>
                  <a:pt x="10350" y="12573"/>
                </a:moveTo>
                <a:cubicBezTo>
                  <a:pt x="10361" y="12541"/>
                  <a:pt x="10371" y="12510"/>
                  <a:pt x="10382" y="12478"/>
                </a:cubicBezTo>
              </a:path>
              <a:path w="3335" h="1684">
                <a:moveTo>
                  <a:pt x="10382" y="11906"/>
                </a:moveTo>
                <a:cubicBezTo>
                  <a:pt x="10357" y="12067"/>
                  <a:pt x="10291" y="12217"/>
                  <a:pt x="10255" y="12382"/>
                </a:cubicBezTo>
                <a:cubicBezTo>
                  <a:pt x="10213" y="12576"/>
                  <a:pt x="10146" y="12788"/>
                  <a:pt x="10128" y="12986"/>
                </a:cubicBezTo>
                <a:cubicBezTo>
                  <a:pt x="10112" y="13159"/>
                  <a:pt x="10072" y="13322"/>
                  <a:pt x="10065" y="13494"/>
                </a:cubicBezTo>
                <a:cubicBezTo>
                  <a:pt x="10065" y="13547"/>
                  <a:pt x="10065" y="13557"/>
                  <a:pt x="10065" y="13589"/>
                </a:cubicBezTo>
              </a:path>
              <a:path w="3335" h="1684">
                <a:moveTo>
                  <a:pt x="10795" y="11938"/>
                </a:moveTo>
                <a:cubicBezTo>
                  <a:pt x="10795" y="12057"/>
                  <a:pt x="10746" y="12142"/>
                  <a:pt x="10732" y="12256"/>
                </a:cubicBezTo>
                <a:cubicBezTo>
                  <a:pt x="10711" y="12427"/>
                  <a:pt x="10706" y="12595"/>
                  <a:pt x="10668" y="12764"/>
                </a:cubicBezTo>
                <a:cubicBezTo>
                  <a:pt x="10634" y="12918"/>
                  <a:pt x="10595" y="13085"/>
                  <a:pt x="10573" y="13240"/>
                </a:cubicBezTo>
                <a:cubicBezTo>
                  <a:pt x="10562" y="13316"/>
                  <a:pt x="10554" y="13387"/>
                  <a:pt x="10541" y="13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6"/>
          <p:cNvSpPr/>
          <p:nvPr/>
        </p:nvSpPr>
        <p:spPr>
          <a:xfrm>
            <a:off x="4125960" y="4183200"/>
            <a:ext cx="584280" cy="674640"/>
          </a:xfrm>
          <a:custGeom>
            <a:avLst/>
            <a:gdLst/>
            <a:ahLst/>
            <a:rect l="l" t="t" r="r" b="b"/>
            <a:pathLst>
              <a:path w="1620" h="1875">
                <a:moveTo>
                  <a:pt x="12478" y="12065"/>
                </a:moveTo>
                <a:cubicBezTo>
                  <a:pt x="12490" y="11930"/>
                  <a:pt x="12508" y="11878"/>
                  <a:pt x="12446" y="11748"/>
                </a:cubicBezTo>
                <a:cubicBezTo>
                  <a:pt x="12406" y="11664"/>
                  <a:pt x="12343" y="11625"/>
                  <a:pt x="12256" y="11620"/>
                </a:cubicBezTo>
                <a:cubicBezTo>
                  <a:pt x="12156" y="11614"/>
                  <a:pt x="12051" y="11693"/>
                  <a:pt x="12002" y="11779"/>
                </a:cubicBezTo>
                <a:cubicBezTo>
                  <a:pt x="11932" y="11903"/>
                  <a:pt x="11882" y="12018"/>
                  <a:pt x="11843" y="12160"/>
                </a:cubicBezTo>
                <a:cubicBezTo>
                  <a:pt x="11801" y="12313"/>
                  <a:pt x="11783" y="12478"/>
                  <a:pt x="11779" y="12636"/>
                </a:cubicBezTo>
                <a:cubicBezTo>
                  <a:pt x="11775" y="12781"/>
                  <a:pt x="11785" y="12942"/>
                  <a:pt x="11748" y="13081"/>
                </a:cubicBezTo>
                <a:cubicBezTo>
                  <a:pt x="11732" y="13142"/>
                  <a:pt x="11716" y="13268"/>
                  <a:pt x="11652" y="13303"/>
                </a:cubicBezTo>
                <a:cubicBezTo>
                  <a:pt x="11641" y="13303"/>
                  <a:pt x="11631" y="13303"/>
                  <a:pt x="11620" y="13303"/>
                </a:cubicBezTo>
              </a:path>
              <a:path w="1620" h="1875">
                <a:moveTo>
                  <a:pt x="11589" y="13240"/>
                </a:moveTo>
                <a:cubicBezTo>
                  <a:pt x="11578" y="13208"/>
                  <a:pt x="11568" y="13176"/>
                  <a:pt x="11557" y="13144"/>
                </a:cubicBezTo>
              </a:path>
              <a:path w="1620" h="1875">
                <a:moveTo>
                  <a:pt x="11462" y="12510"/>
                </a:moveTo>
                <a:cubicBezTo>
                  <a:pt x="11545" y="12510"/>
                  <a:pt x="11637" y="12523"/>
                  <a:pt x="11716" y="12541"/>
                </a:cubicBezTo>
                <a:cubicBezTo>
                  <a:pt x="11847" y="12571"/>
                  <a:pt x="11961" y="12573"/>
                  <a:pt x="12097" y="12573"/>
                </a:cubicBezTo>
              </a:path>
              <a:path w="1620" h="1875">
                <a:moveTo>
                  <a:pt x="12700" y="11938"/>
                </a:moveTo>
                <a:cubicBezTo>
                  <a:pt x="12737" y="11962"/>
                  <a:pt x="12749" y="12059"/>
                  <a:pt x="12732" y="12128"/>
                </a:cubicBezTo>
                <a:cubicBezTo>
                  <a:pt x="12699" y="12260"/>
                  <a:pt x="12618" y="12386"/>
                  <a:pt x="12573" y="12510"/>
                </a:cubicBezTo>
                <a:cubicBezTo>
                  <a:pt x="12517" y="12664"/>
                  <a:pt x="12440" y="12857"/>
                  <a:pt x="12414" y="13018"/>
                </a:cubicBezTo>
                <a:cubicBezTo>
                  <a:pt x="12398" y="13115"/>
                  <a:pt x="12370" y="13245"/>
                  <a:pt x="12414" y="13335"/>
                </a:cubicBezTo>
                <a:cubicBezTo>
                  <a:pt x="12455" y="13420"/>
                  <a:pt x="12530" y="13513"/>
                  <a:pt x="12636" y="13494"/>
                </a:cubicBezTo>
                <a:cubicBezTo>
                  <a:pt x="12732" y="13462"/>
                  <a:pt x="12763" y="13452"/>
                  <a:pt x="12827" y="13430"/>
                </a:cubicBezTo>
              </a:path>
              <a:path w="1620" h="1875">
                <a:moveTo>
                  <a:pt x="12922" y="13367"/>
                </a:moveTo>
                <a:cubicBezTo>
                  <a:pt x="12986" y="13294"/>
                  <a:pt x="13034" y="13229"/>
                  <a:pt x="13081" y="13144"/>
                </a:cubicBezTo>
              </a:path>
              <a:path w="1620" h="1875">
                <a:moveTo>
                  <a:pt x="13081" y="12510"/>
                </a:moveTo>
                <a:cubicBezTo>
                  <a:pt x="12977" y="12548"/>
                  <a:pt x="12843" y="12584"/>
                  <a:pt x="12732" y="12605"/>
                </a:cubicBezTo>
                <a:cubicBezTo>
                  <a:pt x="12615" y="12627"/>
                  <a:pt x="12502" y="12664"/>
                  <a:pt x="12382" y="12668"/>
                </a:cubicBezTo>
                <a:cubicBezTo>
                  <a:pt x="12270" y="12672"/>
                  <a:pt x="12112" y="12674"/>
                  <a:pt x="12002" y="12700"/>
                </a:cubicBezTo>
                <a:cubicBezTo>
                  <a:pt x="11946" y="12728"/>
                  <a:pt x="11931" y="12745"/>
                  <a:pt x="11906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7"/>
          <p:cNvSpPr/>
          <p:nvPr/>
        </p:nvSpPr>
        <p:spPr>
          <a:xfrm>
            <a:off x="1096920" y="2389320"/>
            <a:ext cx="3875040" cy="593640"/>
          </a:xfrm>
          <a:custGeom>
            <a:avLst/>
            <a:gdLst/>
            <a:ahLst/>
            <a:rect l="l" t="t" r="r" b="b"/>
            <a:pathLst>
              <a:path w="10764" h="1652">
                <a:moveTo>
                  <a:pt x="4572" y="6731"/>
                </a:moveTo>
                <a:cubicBezTo>
                  <a:pt x="4438" y="6740"/>
                  <a:pt x="4320" y="6746"/>
                  <a:pt x="4191" y="6763"/>
                </a:cubicBezTo>
                <a:cubicBezTo>
                  <a:pt x="4034" y="6783"/>
                  <a:pt x="3867" y="6808"/>
                  <a:pt x="3715" y="6858"/>
                </a:cubicBezTo>
                <a:cubicBezTo>
                  <a:pt x="3573" y="6905"/>
                  <a:pt x="3321" y="6986"/>
                  <a:pt x="3207" y="7080"/>
                </a:cubicBezTo>
                <a:cubicBezTo>
                  <a:pt x="3148" y="7128"/>
                  <a:pt x="3074" y="7229"/>
                  <a:pt x="3048" y="7302"/>
                </a:cubicBezTo>
                <a:cubicBezTo>
                  <a:pt x="3019" y="7384"/>
                  <a:pt x="3061" y="7491"/>
                  <a:pt x="3080" y="7556"/>
                </a:cubicBezTo>
                <a:cubicBezTo>
                  <a:pt x="3108" y="7650"/>
                  <a:pt x="3142" y="7663"/>
                  <a:pt x="3207" y="7747"/>
                </a:cubicBezTo>
                <a:cubicBezTo>
                  <a:pt x="3291" y="7855"/>
                  <a:pt x="3410" y="7935"/>
                  <a:pt x="3524" y="8001"/>
                </a:cubicBezTo>
                <a:cubicBezTo>
                  <a:pt x="3618" y="8056"/>
                  <a:pt x="3738" y="8095"/>
                  <a:pt x="3842" y="8128"/>
                </a:cubicBezTo>
                <a:cubicBezTo>
                  <a:pt x="3979" y="8172"/>
                  <a:pt x="4143" y="8199"/>
                  <a:pt x="4286" y="8223"/>
                </a:cubicBezTo>
                <a:cubicBezTo>
                  <a:pt x="4433" y="8248"/>
                  <a:pt x="4581" y="8253"/>
                  <a:pt x="4731" y="8255"/>
                </a:cubicBezTo>
                <a:cubicBezTo>
                  <a:pt x="5545" y="8267"/>
                  <a:pt x="6366" y="8272"/>
                  <a:pt x="7176" y="8223"/>
                </a:cubicBezTo>
                <a:cubicBezTo>
                  <a:pt x="7358" y="8212"/>
                  <a:pt x="7532" y="8194"/>
                  <a:pt x="7715" y="8192"/>
                </a:cubicBezTo>
                <a:cubicBezTo>
                  <a:pt x="8971" y="8176"/>
                  <a:pt x="10246" y="8162"/>
                  <a:pt x="11494" y="8223"/>
                </a:cubicBezTo>
                <a:cubicBezTo>
                  <a:pt x="11679" y="8232"/>
                  <a:pt x="11853" y="8229"/>
                  <a:pt x="12033" y="8255"/>
                </a:cubicBezTo>
                <a:cubicBezTo>
                  <a:pt x="12172" y="8275"/>
                  <a:pt x="12303" y="8285"/>
                  <a:pt x="12446" y="8287"/>
                </a:cubicBezTo>
                <a:cubicBezTo>
                  <a:pt x="12585" y="8289"/>
                  <a:pt x="12727" y="8291"/>
                  <a:pt x="12859" y="8255"/>
                </a:cubicBezTo>
                <a:cubicBezTo>
                  <a:pt x="12941" y="8233"/>
                  <a:pt x="13108" y="8192"/>
                  <a:pt x="13176" y="8160"/>
                </a:cubicBezTo>
                <a:cubicBezTo>
                  <a:pt x="13293" y="8105"/>
                  <a:pt x="13457" y="7990"/>
                  <a:pt x="13557" y="7906"/>
                </a:cubicBezTo>
                <a:cubicBezTo>
                  <a:pt x="13678" y="7805"/>
                  <a:pt x="13727" y="7720"/>
                  <a:pt x="13780" y="7588"/>
                </a:cubicBezTo>
                <a:cubicBezTo>
                  <a:pt x="13815" y="7501"/>
                  <a:pt x="13827" y="7432"/>
                  <a:pt x="13780" y="7334"/>
                </a:cubicBezTo>
                <a:cubicBezTo>
                  <a:pt x="13737" y="7244"/>
                  <a:pt x="13697" y="7231"/>
                  <a:pt x="13621" y="7176"/>
                </a:cubicBezTo>
                <a:cubicBezTo>
                  <a:pt x="13436" y="7042"/>
                  <a:pt x="13138" y="6997"/>
                  <a:pt x="12922" y="6953"/>
                </a:cubicBezTo>
                <a:cubicBezTo>
                  <a:pt x="12764" y="6921"/>
                  <a:pt x="12606" y="6885"/>
                  <a:pt x="12446" y="6858"/>
                </a:cubicBezTo>
                <a:cubicBezTo>
                  <a:pt x="12268" y="6828"/>
                  <a:pt x="12083" y="6825"/>
                  <a:pt x="11906" y="6794"/>
                </a:cubicBezTo>
                <a:cubicBezTo>
                  <a:pt x="11697" y="6758"/>
                  <a:pt x="11514" y="6749"/>
                  <a:pt x="11303" y="6731"/>
                </a:cubicBezTo>
                <a:cubicBezTo>
                  <a:pt x="11102" y="6714"/>
                  <a:pt x="10904" y="6677"/>
                  <a:pt x="10700" y="6668"/>
                </a:cubicBezTo>
                <a:cubicBezTo>
                  <a:pt x="10382" y="6654"/>
                  <a:pt x="10063" y="6647"/>
                  <a:pt x="9747" y="6636"/>
                </a:cubicBezTo>
                <a:cubicBezTo>
                  <a:pt x="8473" y="6593"/>
                  <a:pt x="7175" y="6617"/>
                  <a:pt x="5906" y="6668"/>
                </a:cubicBezTo>
                <a:cubicBezTo>
                  <a:pt x="5681" y="6677"/>
                  <a:pt x="5462" y="6675"/>
                  <a:pt x="5239" y="6699"/>
                </a:cubicBezTo>
                <a:cubicBezTo>
                  <a:pt x="5069" y="6717"/>
                  <a:pt x="4901" y="6716"/>
                  <a:pt x="4731" y="6731"/>
                </a:cubicBezTo>
                <a:cubicBezTo>
                  <a:pt x="4582" y="6744"/>
                  <a:pt x="4437" y="6749"/>
                  <a:pt x="4286" y="6763"/>
                </a:cubicBezTo>
                <a:cubicBezTo>
                  <a:pt x="4158" y="6775"/>
                  <a:pt x="4032" y="6777"/>
                  <a:pt x="3905" y="6794"/>
                </a:cubicBezTo>
                <a:cubicBezTo>
                  <a:pt x="3789" y="6809"/>
                  <a:pt x="3697" y="6863"/>
                  <a:pt x="3588" y="6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8"/>
          <p:cNvSpPr/>
          <p:nvPr/>
        </p:nvSpPr>
        <p:spPr>
          <a:xfrm>
            <a:off x="4240080" y="3336840"/>
            <a:ext cx="1841760" cy="34920"/>
          </a:xfrm>
          <a:custGeom>
            <a:avLst/>
            <a:gdLst/>
            <a:ahLst/>
            <a:rect l="l" t="t" r="r" b="b"/>
            <a:pathLst>
              <a:path w="5113" h="96">
                <a:moveTo>
                  <a:pt x="11779" y="9366"/>
                </a:moveTo>
                <a:cubicBezTo>
                  <a:pt x="12609" y="9366"/>
                  <a:pt x="13433" y="9351"/>
                  <a:pt x="14256" y="9303"/>
                </a:cubicBezTo>
                <a:cubicBezTo>
                  <a:pt x="14489" y="9289"/>
                  <a:pt x="14722" y="9286"/>
                  <a:pt x="14954" y="9271"/>
                </a:cubicBezTo>
                <a:cubicBezTo>
                  <a:pt x="15293" y="9250"/>
                  <a:pt x="15637" y="9276"/>
                  <a:pt x="15970" y="9303"/>
                </a:cubicBezTo>
                <a:cubicBezTo>
                  <a:pt x="16130" y="9316"/>
                  <a:pt x="16290" y="9318"/>
                  <a:pt x="16446" y="9334"/>
                </a:cubicBezTo>
                <a:cubicBezTo>
                  <a:pt x="16562" y="9346"/>
                  <a:pt x="16659" y="9313"/>
                  <a:pt x="16764" y="9303"/>
                </a:cubicBezTo>
                <a:cubicBezTo>
                  <a:pt x="16821" y="9297"/>
                  <a:pt x="16809" y="9300"/>
                  <a:pt x="16859" y="9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all is thrown into the air with an upward velocity of 40 ft/s. Its heigh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feet aft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conds is given by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how many seconds does the ball reach its maximum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member how to label the valu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"/>
          <p:cNvGraphicFramePr/>
          <p:nvPr/>
        </p:nvGraphicFramePr>
        <p:xfrm>
          <a:off x="3048120" y="2209680"/>
          <a:ext cx="37335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3733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1828800" y="4572000"/>
          <a:ext cx="121932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1219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Ink 7"/>
          <p:cNvSpPr/>
          <p:nvPr/>
        </p:nvSpPr>
        <p:spPr>
          <a:xfrm>
            <a:off x="1314360" y="2697120"/>
            <a:ext cx="2789280" cy="674640"/>
          </a:xfrm>
          <a:custGeom>
            <a:avLst/>
            <a:gdLst/>
            <a:ahLst/>
            <a:rect l="l" t="t" r="r" b="b"/>
            <a:pathLst>
              <a:path w="7748" h="1874">
                <a:moveTo>
                  <a:pt x="4413" y="8255"/>
                </a:moveTo>
                <a:lnTo>
                  <a:pt x="4413" y="8255"/>
                </a:lnTo>
              </a:path>
              <a:path w="7748" h="1874">
                <a:moveTo>
                  <a:pt x="4794" y="8350"/>
                </a:moveTo>
                <a:cubicBezTo>
                  <a:pt x="4747" y="8444"/>
                  <a:pt x="4711" y="8541"/>
                  <a:pt x="4667" y="8636"/>
                </a:cubicBezTo>
                <a:cubicBezTo>
                  <a:pt x="4612" y="8754"/>
                  <a:pt x="4547" y="8849"/>
                  <a:pt x="4477" y="8954"/>
                </a:cubicBezTo>
                <a:cubicBezTo>
                  <a:pt x="4440" y="9009"/>
                  <a:pt x="4379" y="9045"/>
                  <a:pt x="4350" y="9080"/>
                </a:cubicBezTo>
                <a:cubicBezTo>
                  <a:pt x="4339" y="9101"/>
                  <a:pt x="4329" y="9123"/>
                  <a:pt x="4318" y="9144"/>
                </a:cubicBezTo>
                <a:cubicBezTo>
                  <a:pt x="4324" y="9107"/>
                  <a:pt x="4350" y="9039"/>
                  <a:pt x="4382" y="9017"/>
                </a:cubicBezTo>
                <a:cubicBezTo>
                  <a:pt x="4399" y="9006"/>
                  <a:pt x="4488" y="8987"/>
                  <a:pt x="4508" y="8985"/>
                </a:cubicBezTo>
                <a:cubicBezTo>
                  <a:pt x="4517" y="8984"/>
                  <a:pt x="4584" y="9006"/>
                  <a:pt x="4604" y="9017"/>
                </a:cubicBezTo>
                <a:cubicBezTo>
                  <a:pt x="4646" y="9041"/>
                  <a:pt x="4694" y="9028"/>
                  <a:pt x="4731" y="9049"/>
                </a:cubicBezTo>
                <a:cubicBezTo>
                  <a:pt x="4787" y="9080"/>
                  <a:pt x="4823" y="9080"/>
                  <a:pt x="4890" y="9080"/>
                </a:cubicBezTo>
                <a:cubicBezTo>
                  <a:pt x="4911" y="9080"/>
                  <a:pt x="5064" y="9080"/>
                  <a:pt x="4985" y="9080"/>
                </a:cubicBezTo>
              </a:path>
              <a:path w="7748" h="1874">
                <a:moveTo>
                  <a:pt x="4286" y="8223"/>
                </a:moveTo>
                <a:cubicBezTo>
                  <a:pt x="4317" y="8200"/>
                  <a:pt x="4354" y="8137"/>
                  <a:pt x="4382" y="8128"/>
                </a:cubicBezTo>
                <a:cubicBezTo>
                  <a:pt x="4429" y="8113"/>
                  <a:pt x="4497" y="8073"/>
                  <a:pt x="4540" y="8064"/>
                </a:cubicBezTo>
                <a:cubicBezTo>
                  <a:pt x="4626" y="8046"/>
                  <a:pt x="4695" y="8073"/>
                  <a:pt x="4762" y="8096"/>
                </a:cubicBezTo>
                <a:cubicBezTo>
                  <a:pt x="4799" y="8109"/>
                  <a:pt x="4821" y="8170"/>
                  <a:pt x="4794" y="8223"/>
                </a:cubicBezTo>
                <a:cubicBezTo>
                  <a:pt x="4771" y="8268"/>
                  <a:pt x="4751" y="8291"/>
                  <a:pt x="4731" y="8318"/>
                </a:cubicBezTo>
                <a:cubicBezTo>
                  <a:pt x="4693" y="8368"/>
                  <a:pt x="4666" y="8433"/>
                  <a:pt x="4636" y="8477"/>
                </a:cubicBezTo>
                <a:cubicBezTo>
                  <a:pt x="4607" y="8520"/>
                  <a:pt x="4568" y="8530"/>
                  <a:pt x="4540" y="8572"/>
                </a:cubicBezTo>
                <a:cubicBezTo>
                  <a:pt x="4529" y="8583"/>
                  <a:pt x="4519" y="8593"/>
                  <a:pt x="4508" y="8604"/>
                </a:cubicBezTo>
              </a:path>
              <a:path w="7748" h="1874">
                <a:moveTo>
                  <a:pt x="5207" y="8128"/>
                </a:moveTo>
                <a:cubicBezTo>
                  <a:pt x="5207" y="8234"/>
                  <a:pt x="5207" y="8340"/>
                  <a:pt x="5207" y="8446"/>
                </a:cubicBezTo>
                <a:cubicBezTo>
                  <a:pt x="5207" y="8499"/>
                  <a:pt x="5207" y="8403"/>
                  <a:pt x="5207" y="8350"/>
                </a:cubicBezTo>
                <a:cubicBezTo>
                  <a:pt x="5207" y="8267"/>
                  <a:pt x="5229" y="8209"/>
                  <a:pt x="5239" y="8128"/>
                </a:cubicBezTo>
              </a:path>
              <a:path w="7748" h="1874">
                <a:moveTo>
                  <a:pt x="5334" y="8160"/>
                </a:moveTo>
                <a:cubicBezTo>
                  <a:pt x="5342" y="8190"/>
                  <a:pt x="5351" y="8260"/>
                  <a:pt x="5366" y="8287"/>
                </a:cubicBezTo>
                <a:cubicBezTo>
                  <a:pt x="5377" y="8297"/>
                  <a:pt x="5387" y="8308"/>
                  <a:pt x="5398" y="8318"/>
                </a:cubicBezTo>
              </a:path>
              <a:path w="7748" h="1874">
                <a:moveTo>
                  <a:pt x="5429" y="8382"/>
                </a:moveTo>
                <a:cubicBezTo>
                  <a:pt x="5458" y="8411"/>
                  <a:pt x="5464" y="8422"/>
                  <a:pt x="5493" y="8414"/>
                </a:cubicBezTo>
                <a:cubicBezTo>
                  <a:pt x="5493" y="8294"/>
                  <a:pt x="5494" y="8198"/>
                  <a:pt x="5524" y="8096"/>
                </a:cubicBezTo>
                <a:cubicBezTo>
                  <a:pt x="5524" y="8085"/>
                  <a:pt x="5524" y="8075"/>
                  <a:pt x="5524" y="8064"/>
                </a:cubicBezTo>
              </a:path>
              <a:path w="7748" h="1874">
                <a:moveTo>
                  <a:pt x="5112" y="8096"/>
                </a:moveTo>
                <a:cubicBezTo>
                  <a:pt x="5112" y="8202"/>
                  <a:pt x="5112" y="8308"/>
                  <a:pt x="5112" y="8414"/>
                </a:cubicBezTo>
                <a:cubicBezTo>
                  <a:pt x="5112" y="8467"/>
                  <a:pt x="5112" y="8371"/>
                  <a:pt x="5112" y="8318"/>
                </a:cubicBezTo>
                <a:cubicBezTo>
                  <a:pt x="5112" y="8247"/>
                  <a:pt x="5144" y="8229"/>
                  <a:pt x="5144" y="8160"/>
                </a:cubicBezTo>
                <a:cubicBezTo>
                  <a:pt x="5144" y="8093"/>
                  <a:pt x="5161" y="8088"/>
                  <a:pt x="5175" y="8033"/>
                </a:cubicBezTo>
                <a:cubicBezTo>
                  <a:pt x="5200" y="8041"/>
                  <a:pt x="5231" y="8090"/>
                  <a:pt x="5239" y="8128"/>
                </a:cubicBezTo>
                <a:cubicBezTo>
                  <a:pt x="5254" y="8200"/>
                  <a:pt x="5281" y="8225"/>
                  <a:pt x="5302" y="8287"/>
                </a:cubicBezTo>
                <a:cubicBezTo>
                  <a:pt x="5320" y="8340"/>
                  <a:pt x="5386" y="8390"/>
                  <a:pt x="5398" y="8414"/>
                </a:cubicBezTo>
                <a:cubicBezTo>
                  <a:pt x="5398" y="8446"/>
                  <a:pt x="5398" y="8456"/>
                  <a:pt x="5429" y="8446"/>
                </a:cubicBezTo>
                <a:cubicBezTo>
                  <a:pt x="5429" y="8386"/>
                  <a:pt x="5404" y="8345"/>
                  <a:pt x="5398" y="8287"/>
                </a:cubicBezTo>
                <a:cubicBezTo>
                  <a:pt x="5390" y="8208"/>
                  <a:pt x="5423" y="8170"/>
                  <a:pt x="5429" y="8096"/>
                </a:cubicBezTo>
                <a:cubicBezTo>
                  <a:pt x="5435" y="8025"/>
                  <a:pt x="5446" y="7995"/>
                  <a:pt x="5493" y="7938"/>
                </a:cubicBezTo>
              </a:path>
              <a:path w="7748" h="1874">
                <a:moveTo>
                  <a:pt x="5715" y="8033"/>
                </a:moveTo>
                <a:cubicBezTo>
                  <a:pt x="5715" y="8159"/>
                  <a:pt x="5714" y="8274"/>
                  <a:pt x="5747" y="8382"/>
                </a:cubicBezTo>
                <a:cubicBezTo>
                  <a:pt x="5747" y="8393"/>
                  <a:pt x="5747" y="8403"/>
                  <a:pt x="5747" y="8414"/>
                </a:cubicBezTo>
                <a:cubicBezTo>
                  <a:pt x="5731" y="8350"/>
                  <a:pt x="5715" y="8332"/>
                  <a:pt x="5715" y="8255"/>
                </a:cubicBezTo>
                <a:cubicBezTo>
                  <a:pt x="5715" y="8176"/>
                  <a:pt x="5728" y="8128"/>
                  <a:pt x="5747" y="8064"/>
                </a:cubicBezTo>
                <a:cubicBezTo>
                  <a:pt x="5762" y="8016"/>
                  <a:pt x="5787" y="8033"/>
                  <a:pt x="5842" y="8033"/>
                </a:cubicBezTo>
                <a:cubicBezTo>
                  <a:pt x="5887" y="8033"/>
                  <a:pt x="5929" y="8087"/>
                  <a:pt x="5937" y="8128"/>
                </a:cubicBezTo>
                <a:cubicBezTo>
                  <a:pt x="5954" y="8210"/>
                  <a:pt x="5924" y="8281"/>
                  <a:pt x="5906" y="8318"/>
                </a:cubicBezTo>
                <a:cubicBezTo>
                  <a:pt x="5893" y="8346"/>
                  <a:pt x="5854" y="8367"/>
                  <a:pt x="5810" y="8382"/>
                </a:cubicBezTo>
                <a:cubicBezTo>
                  <a:pt x="5749" y="8402"/>
                  <a:pt x="5727" y="8365"/>
                  <a:pt x="5715" y="8318"/>
                </a:cubicBezTo>
              </a:path>
              <a:path w="7748" h="1874">
                <a:moveTo>
                  <a:pt x="6890" y="8064"/>
                </a:moveTo>
                <a:cubicBezTo>
                  <a:pt x="6890" y="8139"/>
                  <a:pt x="6874" y="8185"/>
                  <a:pt x="6858" y="8255"/>
                </a:cubicBezTo>
                <a:cubicBezTo>
                  <a:pt x="6840" y="8333"/>
                  <a:pt x="6826" y="8392"/>
                  <a:pt x="6826" y="8477"/>
                </a:cubicBezTo>
                <a:cubicBezTo>
                  <a:pt x="6826" y="8597"/>
                  <a:pt x="6822" y="8685"/>
                  <a:pt x="6794" y="8795"/>
                </a:cubicBezTo>
                <a:cubicBezTo>
                  <a:pt x="6792" y="8804"/>
                  <a:pt x="6810" y="9000"/>
                  <a:pt x="6763" y="8985"/>
                </a:cubicBezTo>
                <a:cubicBezTo>
                  <a:pt x="6763" y="8975"/>
                  <a:pt x="6763" y="8964"/>
                  <a:pt x="6763" y="8954"/>
                </a:cubicBezTo>
              </a:path>
              <a:path w="7748" h="1874">
                <a:moveTo>
                  <a:pt x="6477" y="8096"/>
                </a:moveTo>
                <a:cubicBezTo>
                  <a:pt x="6412" y="8096"/>
                  <a:pt x="6517" y="8072"/>
                  <a:pt x="6540" y="8064"/>
                </a:cubicBezTo>
                <a:cubicBezTo>
                  <a:pt x="6595" y="8046"/>
                  <a:pt x="6706" y="8042"/>
                  <a:pt x="6763" y="8033"/>
                </a:cubicBezTo>
                <a:cubicBezTo>
                  <a:pt x="6924" y="8007"/>
                  <a:pt x="7107" y="8033"/>
                  <a:pt x="7271" y="8033"/>
                </a:cubicBezTo>
              </a:path>
              <a:path w="7748" h="1874">
                <a:moveTo>
                  <a:pt x="7144" y="8350"/>
                </a:moveTo>
                <a:cubicBezTo>
                  <a:pt x="7144" y="8427"/>
                  <a:pt x="7164" y="8480"/>
                  <a:pt x="7176" y="8541"/>
                </a:cubicBezTo>
                <a:cubicBezTo>
                  <a:pt x="7204" y="8678"/>
                  <a:pt x="7123" y="8872"/>
                  <a:pt x="7207" y="8985"/>
                </a:cubicBezTo>
                <a:cubicBezTo>
                  <a:pt x="7188" y="8927"/>
                  <a:pt x="7176" y="8954"/>
                  <a:pt x="7176" y="8858"/>
                </a:cubicBezTo>
                <a:cubicBezTo>
                  <a:pt x="7176" y="8756"/>
                  <a:pt x="7164" y="8658"/>
                  <a:pt x="7207" y="8572"/>
                </a:cubicBezTo>
                <a:cubicBezTo>
                  <a:pt x="7231" y="8525"/>
                  <a:pt x="7272" y="8400"/>
                  <a:pt x="7334" y="8382"/>
                </a:cubicBezTo>
                <a:cubicBezTo>
                  <a:pt x="7405" y="8362"/>
                  <a:pt x="7463" y="8331"/>
                  <a:pt x="7525" y="8382"/>
                </a:cubicBezTo>
                <a:cubicBezTo>
                  <a:pt x="7535" y="8393"/>
                  <a:pt x="7546" y="8403"/>
                  <a:pt x="7556" y="8414"/>
                </a:cubicBezTo>
              </a:path>
              <a:path w="7748" h="1874">
                <a:moveTo>
                  <a:pt x="7969" y="8636"/>
                </a:moveTo>
                <a:cubicBezTo>
                  <a:pt x="7969" y="8566"/>
                  <a:pt x="7955" y="8545"/>
                  <a:pt x="7938" y="8477"/>
                </a:cubicBezTo>
                <a:cubicBezTo>
                  <a:pt x="7929" y="8440"/>
                  <a:pt x="7891" y="8419"/>
                  <a:pt x="7842" y="8414"/>
                </a:cubicBezTo>
                <a:cubicBezTo>
                  <a:pt x="7787" y="8408"/>
                  <a:pt x="7732" y="8475"/>
                  <a:pt x="7715" y="8509"/>
                </a:cubicBezTo>
                <a:cubicBezTo>
                  <a:pt x="7672" y="8596"/>
                  <a:pt x="7625" y="8667"/>
                  <a:pt x="7620" y="8763"/>
                </a:cubicBezTo>
                <a:cubicBezTo>
                  <a:pt x="7615" y="8859"/>
                  <a:pt x="7618" y="8888"/>
                  <a:pt x="7684" y="8954"/>
                </a:cubicBezTo>
                <a:cubicBezTo>
                  <a:pt x="7730" y="9000"/>
                  <a:pt x="7764" y="8995"/>
                  <a:pt x="7810" y="8954"/>
                </a:cubicBezTo>
                <a:cubicBezTo>
                  <a:pt x="7899" y="8875"/>
                  <a:pt x="7902" y="8872"/>
                  <a:pt x="7938" y="8763"/>
                </a:cubicBezTo>
                <a:cubicBezTo>
                  <a:pt x="7950" y="8727"/>
                  <a:pt x="7994" y="8650"/>
                  <a:pt x="7969" y="8604"/>
                </a:cubicBezTo>
                <a:cubicBezTo>
                  <a:pt x="7959" y="8593"/>
                  <a:pt x="7948" y="8583"/>
                  <a:pt x="7938" y="8572"/>
                </a:cubicBezTo>
                <a:cubicBezTo>
                  <a:pt x="7938" y="8631"/>
                  <a:pt x="7959" y="8654"/>
                  <a:pt x="7969" y="8700"/>
                </a:cubicBezTo>
                <a:cubicBezTo>
                  <a:pt x="7985" y="8777"/>
                  <a:pt x="7982" y="8846"/>
                  <a:pt x="8001" y="8922"/>
                </a:cubicBezTo>
                <a:cubicBezTo>
                  <a:pt x="8014" y="8973"/>
                  <a:pt x="8024" y="9003"/>
                  <a:pt x="8064" y="9017"/>
                </a:cubicBezTo>
              </a:path>
              <a:path w="7748" h="1874">
                <a:moveTo>
                  <a:pt x="8477" y="8446"/>
                </a:moveTo>
                <a:cubicBezTo>
                  <a:pt x="8477" y="8414"/>
                  <a:pt x="8477" y="8403"/>
                  <a:pt x="8477" y="8382"/>
                </a:cubicBezTo>
                <a:cubicBezTo>
                  <a:pt x="8408" y="8382"/>
                  <a:pt x="8371" y="8398"/>
                  <a:pt x="8318" y="8446"/>
                </a:cubicBezTo>
                <a:cubicBezTo>
                  <a:pt x="8270" y="8489"/>
                  <a:pt x="8203" y="8604"/>
                  <a:pt x="8192" y="8668"/>
                </a:cubicBezTo>
                <a:cubicBezTo>
                  <a:pt x="8180" y="8737"/>
                  <a:pt x="8187" y="8862"/>
                  <a:pt x="8223" y="8922"/>
                </a:cubicBezTo>
                <a:cubicBezTo>
                  <a:pt x="8255" y="8976"/>
                  <a:pt x="8328" y="8954"/>
                  <a:pt x="8382" y="8954"/>
                </a:cubicBezTo>
                <a:cubicBezTo>
                  <a:pt x="8440" y="8954"/>
                  <a:pt x="8456" y="8959"/>
                  <a:pt x="8477" y="8922"/>
                </a:cubicBezTo>
              </a:path>
              <a:path w="7748" h="1874">
                <a:moveTo>
                  <a:pt x="8763" y="8668"/>
                </a:moveTo>
                <a:cubicBezTo>
                  <a:pt x="8827" y="8668"/>
                  <a:pt x="8838" y="8653"/>
                  <a:pt x="8890" y="8636"/>
                </a:cubicBezTo>
                <a:cubicBezTo>
                  <a:pt x="8941" y="8619"/>
                  <a:pt x="9001" y="8620"/>
                  <a:pt x="9049" y="8604"/>
                </a:cubicBezTo>
                <a:cubicBezTo>
                  <a:pt x="9060" y="8600"/>
                  <a:pt x="9117" y="8532"/>
                  <a:pt x="9112" y="8509"/>
                </a:cubicBezTo>
                <a:cubicBezTo>
                  <a:pt x="9102" y="8466"/>
                  <a:pt x="9080" y="8469"/>
                  <a:pt x="9080" y="8414"/>
                </a:cubicBezTo>
                <a:cubicBezTo>
                  <a:pt x="9003" y="8414"/>
                  <a:pt x="8954" y="8412"/>
                  <a:pt x="8890" y="8446"/>
                </a:cubicBezTo>
                <a:cubicBezTo>
                  <a:pt x="8815" y="8485"/>
                  <a:pt x="8747" y="8544"/>
                  <a:pt x="8731" y="8636"/>
                </a:cubicBezTo>
                <a:cubicBezTo>
                  <a:pt x="8716" y="8724"/>
                  <a:pt x="8726" y="8820"/>
                  <a:pt x="8763" y="8890"/>
                </a:cubicBezTo>
                <a:cubicBezTo>
                  <a:pt x="8799" y="8958"/>
                  <a:pt x="8838" y="8980"/>
                  <a:pt x="8922" y="8985"/>
                </a:cubicBezTo>
                <a:cubicBezTo>
                  <a:pt x="9015" y="8991"/>
                  <a:pt x="9069" y="8933"/>
                  <a:pt x="9144" y="8890"/>
                </a:cubicBezTo>
              </a:path>
              <a:path w="7748" h="1874">
                <a:moveTo>
                  <a:pt x="10446" y="8509"/>
                </a:moveTo>
                <a:cubicBezTo>
                  <a:pt x="10419" y="8581"/>
                  <a:pt x="10401" y="8656"/>
                  <a:pt x="10382" y="8731"/>
                </a:cubicBezTo>
                <a:cubicBezTo>
                  <a:pt x="10369" y="8784"/>
                  <a:pt x="10391" y="8706"/>
                  <a:pt x="10446" y="8700"/>
                </a:cubicBezTo>
                <a:cubicBezTo>
                  <a:pt x="10501" y="8694"/>
                  <a:pt x="10535" y="8639"/>
                  <a:pt x="10604" y="8668"/>
                </a:cubicBezTo>
                <a:cubicBezTo>
                  <a:pt x="10663" y="8693"/>
                  <a:pt x="10736" y="8676"/>
                  <a:pt x="10795" y="8700"/>
                </a:cubicBezTo>
                <a:cubicBezTo>
                  <a:pt x="10869" y="8730"/>
                  <a:pt x="10854" y="8735"/>
                  <a:pt x="10922" y="8668"/>
                </a:cubicBezTo>
              </a:path>
              <a:path w="7748" h="1874">
                <a:moveTo>
                  <a:pt x="10922" y="8128"/>
                </a:moveTo>
                <a:lnTo>
                  <a:pt x="10922" y="8128"/>
                </a:lnTo>
              </a:path>
              <a:path w="7748" h="1874">
                <a:moveTo>
                  <a:pt x="10922" y="8128"/>
                </a:moveTo>
                <a:cubicBezTo>
                  <a:pt x="10922" y="8149"/>
                  <a:pt x="10922" y="8171"/>
                  <a:pt x="10922" y="8192"/>
                </a:cubicBezTo>
              </a:path>
              <a:path w="7748" h="1874">
                <a:moveTo>
                  <a:pt x="10922" y="8192"/>
                </a:moveTo>
                <a:cubicBezTo>
                  <a:pt x="10910" y="8283"/>
                  <a:pt x="10909" y="8386"/>
                  <a:pt x="10890" y="8477"/>
                </a:cubicBezTo>
                <a:cubicBezTo>
                  <a:pt x="10866" y="8590"/>
                  <a:pt x="10840" y="8711"/>
                  <a:pt x="10827" y="8826"/>
                </a:cubicBezTo>
                <a:cubicBezTo>
                  <a:pt x="10810" y="8981"/>
                  <a:pt x="10827" y="9147"/>
                  <a:pt x="10827" y="9303"/>
                </a:cubicBezTo>
              </a:path>
              <a:path w="7748" h="1874">
                <a:moveTo>
                  <a:pt x="10478" y="8128"/>
                </a:moveTo>
                <a:lnTo>
                  <a:pt x="10478" y="8128"/>
                </a:lnTo>
              </a:path>
              <a:path w="7748" h="1874">
                <a:moveTo>
                  <a:pt x="10478" y="8128"/>
                </a:moveTo>
                <a:lnTo>
                  <a:pt x="10478" y="8128"/>
                </a:lnTo>
              </a:path>
              <a:path w="7748" h="1874">
                <a:moveTo>
                  <a:pt x="10446" y="8255"/>
                </a:moveTo>
                <a:cubicBezTo>
                  <a:pt x="10446" y="8403"/>
                  <a:pt x="10446" y="8552"/>
                  <a:pt x="10446" y="8700"/>
                </a:cubicBezTo>
                <a:cubicBezTo>
                  <a:pt x="10478" y="8700"/>
                  <a:pt x="10489" y="8700"/>
                  <a:pt x="10478" y="8668"/>
                </a:cubicBezTo>
              </a:path>
              <a:path w="7748" h="1874">
                <a:moveTo>
                  <a:pt x="10096" y="8033"/>
                </a:moveTo>
                <a:cubicBezTo>
                  <a:pt x="10057" y="8139"/>
                  <a:pt x="10065" y="8234"/>
                  <a:pt x="10065" y="8350"/>
                </a:cubicBezTo>
                <a:cubicBezTo>
                  <a:pt x="10065" y="8636"/>
                  <a:pt x="10065" y="8922"/>
                  <a:pt x="10065" y="9208"/>
                </a:cubicBezTo>
                <a:cubicBezTo>
                  <a:pt x="10118" y="9200"/>
                  <a:pt x="10144" y="9184"/>
                  <a:pt x="10192" y="9176"/>
                </a:cubicBezTo>
                <a:cubicBezTo>
                  <a:pt x="10284" y="9160"/>
                  <a:pt x="10340" y="9144"/>
                  <a:pt x="10446" y="9144"/>
                </a:cubicBezTo>
                <a:cubicBezTo>
                  <a:pt x="10550" y="9144"/>
                  <a:pt x="10636" y="9161"/>
                  <a:pt x="10732" y="9176"/>
                </a:cubicBezTo>
                <a:cubicBezTo>
                  <a:pt x="10827" y="9191"/>
                  <a:pt x="10926" y="9193"/>
                  <a:pt x="11017" y="9208"/>
                </a:cubicBezTo>
                <a:cubicBezTo>
                  <a:pt x="11137" y="9228"/>
                  <a:pt x="11275" y="9208"/>
                  <a:pt x="11398" y="9208"/>
                </a:cubicBezTo>
                <a:cubicBezTo>
                  <a:pt x="11391" y="9151"/>
                  <a:pt x="11372" y="9104"/>
                  <a:pt x="11366" y="9049"/>
                </a:cubicBezTo>
                <a:cubicBezTo>
                  <a:pt x="11337" y="8798"/>
                  <a:pt x="11271" y="8179"/>
                  <a:pt x="11398" y="7969"/>
                </a:cubicBezTo>
                <a:cubicBezTo>
                  <a:pt x="11330" y="7969"/>
                  <a:pt x="11292" y="7991"/>
                  <a:pt x="11240" y="8001"/>
                </a:cubicBezTo>
                <a:cubicBezTo>
                  <a:pt x="10938" y="8062"/>
                  <a:pt x="10452" y="7876"/>
                  <a:pt x="10192" y="8033"/>
                </a:cubicBezTo>
              </a:path>
              <a:path w="7748" h="1874">
                <a:moveTo>
                  <a:pt x="9398" y="7715"/>
                </a:moveTo>
                <a:cubicBezTo>
                  <a:pt x="9405" y="7792"/>
                  <a:pt x="9423" y="7833"/>
                  <a:pt x="9430" y="7906"/>
                </a:cubicBezTo>
                <a:cubicBezTo>
                  <a:pt x="9440" y="8014"/>
                  <a:pt x="9458" y="8115"/>
                  <a:pt x="9462" y="8223"/>
                </a:cubicBezTo>
                <a:cubicBezTo>
                  <a:pt x="9469" y="8422"/>
                  <a:pt x="9568" y="9092"/>
                  <a:pt x="9430" y="9239"/>
                </a:cubicBezTo>
                <a:cubicBezTo>
                  <a:pt x="9397" y="9274"/>
                  <a:pt x="9404" y="9266"/>
                  <a:pt x="9334" y="9271"/>
                </a:cubicBezTo>
                <a:cubicBezTo>
                  <a:pt x="9250" y="9277"/>
                  <a:pt x="9187" y="9246"/>
                  <a:pt x="9112" y="9239"/>
                </a:cubicBezTo>
                <a:cubicBezTo>
                  <a:pt x="8729" y="9203"/>
                  <a:pt x="8309" y="9239"/>
                  <a:pt x="7938" y="9271"/>
                </a:cubicBezTo>
                <a:cubicBezTo>
                  <a:pt x="7580" y="9302"/>
                  <a:pt x="7208" y="9269"/>
                  <a:pt x="6858" y="9303"/>
                </a:cubicBezTo>
                <a:cubicBezTo>
                  <a:pt x="6693" y="9319"/>
                  <a:pt x="6460" y="9329"/>
                  <a:pt x="6318" y="9271"/>
                </a:cubicBezTo>
                <a:cubicBezTo>
                  <a:pt x="6234" y="9237"/>
                  <a:pt x="6297" y="9280"/>
                  <a:pt x="6255" y="9208"/>
                </a:cubicBezTo>
                <a:cubicBezTo>
                  <a:pt x="6229" y="9164"/>
                  <a:pt x="6215" y="9107"/>
                  <a:pt x="6223" y="9049"/>
                </a:cubicBezTo>
                <a:cubicBezTo>
                  <a:pt x="6235" y="8960"/>
                  <a:pt x="6252" y="8888"/>
                  <a:pt x="6255" y="8795"/>
                </a:cubicBezTo>
                <a:cubicBezTo>
                  <a:pt x="6263" y="8493"/>
                  <a:pt x="6197" y="8054"/>
                  <a:pt x="6223" y="7810"/>
                </a:cubicBezTo>
                <a:cubicBezTo>
                  <a:pt x="6227" y="7774"/>
                  <a:pt x="6274" y="7726"/>
                  <a:pt x="6286" y="7715"/>
                </a:cubicBezTo>
                <a:cubicBezTo>
                  <a:pt x="6321" y="7683"/>
                  <a:pt x="6395" y="7686"/>
                  <a:pt x="6445" y="7684"/>
                </a:cubicBezTo>
                <a:cubicBezTo>
                  <a:pt x="6588" y="7680"/>
                  <a:pt x="6718" y="7665"/>
                  <a:pt x="6858" y="7652"/>
                </a:cubicBezTo>
                <a:cubicBezTo>
                  <a:pt x="7244" y="7615"/>
                  <a:pt x="7651" y="7654"/>
                  <a:pt x="8033" y="7684"/>
                </a:cubicBezTo>
                <a:cubicBezTo>
                  <a:pt x="8340" y="7708"/>
                  <a:pt x="8651" y="7682"/>
                  <a:pt x="8954" y="7715"/>
                </a:cubicBezTo>
                <a:cubicBezTo>
                  <a:pt x="9077" y="7728"/>
                  <a:pt x="9209" y="7715"/>
                  <a:pt x="9334" y="7715"/>
                </a:cubicBezTo>
              </a:path>
              <a:path w="7748" h="1874">
                <a:moveTo>
                  <a:pt x="6032" y="7493"/>
                </a:moveTo>
                <a:cubicBezTo>
                  <a:pt x="6022" y="7493"/>
                  <a:pt x="6011" y="7493"/>
                  <a:pt x="6001" y="7493"/>
                </a:cubicBezTo>
              </a:path>
              <a:path w="7748" h="1874">
                <a:moveTo>
                  <a:pt x="6032" y="7747"/>
                </a:moveTo>
                <a:cubicBezTo>
                  <a:pt x="6032" y="7860"/>
                  <a:pt x="6059" y="7954"/>
                  <a:pt x="6064" y="8064"/>
                </a:cubicBezTo>
                <a:cubicBezTo>
                  <a:pt x="6070" y="8196"/>
                  <a:pt x="6091" y="8316"/>
                  <a:pt x="6096" y="8446"/>
                </a:cubicBezTo>
                <a:cubicBezTo>
                  <a:pt x="6101" y="8571"/>
                  <a:pt x="6078" y="8680"/>
                  <a:pt x="6064" y="8795"/>
                </a:cubicBezTo>
                <a:cubicBezTo>
                  <a:pt x="6052" y="8894"/>
                  <a:pt x="6063" y="8986"/>
                  <a:pt x="6032" y="9080"/>
                </a:cubicBezTo>
                <a:cubicBezTo>
                  <a:pt x="6028" y="9093"/>
                  <a:pt x="5977" y="9176"/>
                  <a:pt x="5937" y="9208"/>
                </a:cubicBezTo>
                <a:cubicBezTo>
                  <a:pt x="5884" y="9251"/>
                  <a:pt x="5848" y="9236"/>
                  <a:pt x="5778" y="9239"/>
                </a:cubicBezTo>
                <a:cubicBezTo>
                  <a:pt x="5694" y="9243"/>
                  <a:pt x="5616" y="9268"/>
                  <a:pt x="5556" y="9271"/>
                </a:cubicBezTo>
                <a:cubicBezTo>
                  <a:pt x="5421" y="9277"/>
                  <a:pt x="5306" y="9284"/>
                  <a:pt x="5175" y="9303"/>
                </a:cubicBezTo>
                <a:cubicBezTo>
                  <a:pt x="5069" y="9318"/>
                  <a:pt x="4962" y="9308"/>
                  <a:pt x="4858" y="9334"/>
                </a:cubicBezTo>
                <a:cubicBezTo>
                  <a:pt x="4747" y="9362"/>
                  <a:pt x="4655" y="9366"/>
                  <a:pt x="4540" y="9366"/>
                </a:cubicBezTo>
                <a:cubicBezTo>
                  <a:pt x="4311" y="9366"/>
                  <a:pt x="4015" y="9408"/>
                  <a:pt x="3810" y="9334"/>
                </a:cubicBezTo>
                <a:cubicBezTo>
                  <a:pt x="3773" y="9321"/>
                  <a:pt x="3719" y="9320"/>
                  <a:pt x="3683" y="9303"/>
                </a:cubicBezTo>
                <a:cubicBezTo>
                  <a:pt x="3661" y="9293"/>
                  <a:pt x="3653" y="9247"/>
                  <a:pt x="3651" y="9208"/>
                </a:cubicBezTo>
                <a:cubicBezTo>
                  <a:pt x="3642" y="9053"/>
                  <a:pt x="3664" y="8907"/>
                  <a:pt x="3683" y="8763"/>
                </a:cubicBezTo>
                <a:cubicBezTo>
                  <a:pt x="3703" y="8613"/>
                  <a:pt x="3675" y="8458"/>
                  <a:pt x="3651" y="8318"/>
                </a:cubicBezTo>
                <a:cubicBezTo>
                  <a:pt x="3630" y="8191"/>
                  <a:pt x="3632" y="7982"/>
                  <a:pt x="3683" y="7874"/>
                </a:cubicBezTo>
                <a:cubicBezTo>
                  <a:pt x="3704" y="7829"/>
                  <a:pt x="3727" y="7836"/>
                  <a:pt x="3778" y="7810"/>
                </a:cubicBezTo>
                <a:cubicBezTo>
                  <a:pt x="3840" y="7778"/>
                  <a:pt x="3900" y="7798"/>
                  <a:pt x="3969" y="7779"/>
                </a:cubicBezTo>
                <a:cubicBezTo>
                  <a:pt x="4067" y="7752"/>
                  <a:pt x="4155" y="7737"/>
                  <a:pt x="4254" y="7715"/>
                </a:cubicBezTo>
                <a:cubicBezTo>
                  <a:pt x="4394" y="7683"/>
                  <a:pt x="4523" y="7657"/>
                  <a:pt x="4667" y="7652"/>
                </a:cubicBezTo>
                <a:cubicBezTo>
                  <a:pt x="4808" y="7647"/>
                  <a:pt x="4944" y="7632"/>
                  <a:pt x="5080" y="7620"/>
                </a:cubicBezTo>
                <a:cubicBezTo>
                  <a:pt x="5413" y="7590"/>
                  <a:pt x="5761" y="7620"/>
                  <a:pt x="6096" y="7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8"/>
          <p:cNvSpPr/>
          <p:nvPr/>
        </p:nvSpPr>
        <p:spPr>
          <a:xfrm>
            <a:off x="4572000" y="2868480"/>
            <a:ext cx="925560" cy="400320"/>
          </a:xfrm>
          <a:custGeom>
            <a:avLst/>
            <a:gdLst/>
            <a:ahLst/>
            <a:rect l="l" t="t" r="r" b="b"/>
            <a:pathLst>
              <a:path w="2573" h="1112">
                <a:moveTo>
                  <a:pt x="12700" y="9080"/>
                </a:moveTo>
                <a:cubicBezTo>
                  <a:pt x="12707" y="9028"/>
                  <a:pt x="12712" y="8998"/>
                  <a:pt x="12732" y="8954"/>
                </a:cubicBezTo>
                <a:cubicBezTo>
                  <a:pt x="12758" y="8895"/>
                  <a:pt x="12794" y="8827"/>
                  <a:pt x="12827" y="8763"/>
                </a:cubicBezTo>
                <a:cubicBezTo>
                  <a:pt x="12874" y="8669"/>
                  <a:pt x="12929" y="8624"/>
                  <a:pt x="12986" y="8541"/>
                </a:cubicBezTo>
                <a:cubicBezTo>
                  <a:pt x="13041" y="8460"/>
                  <a:pt x="13104" y="8393"/>
                  <a:pt x="13176" y="8318"/>
                </a:cubicBezTo>
                <a:cubicBezTo>
                  <a:pt x="13259" y="8230"/>
                  <a:pt x="13356" y="8179"/>
                  <a:pt x="13462" y="8128"/>
                </a:cubicBezTo>
                <a:cubicBezTo>
                  <a:pt x="13565" y="8079"/>
                  <a:pt x="13672" y="8038"/>
                  <a:pt x="13780" y="8001"/>
                </a:cubicBezTo>
                <a:cubicBezTo>
                  <a:pt x="13906" y="7957"/>
                  <a:pt x="14028" y="7969"/>
                  <a:pt x="14160" y="7969"/>
                </a:cubicBezTo>
                <a:cubicBezTo>
                  <a:pt x="14266" y="7969"/>
                  <a:pt x="14415" y="8015"/>
                  <a:pt x="14510" y="8064"/>
                </a:cubicBezTo>
                <a:cubicBezTo>
                  <a:pt x="14621" y="8121"/>
                  <a:pt x="14733" y="8207"/>
                  <a:pt x="14827" y="8287"/>
                </a:cubicBezTo>
                <a:cubicBezTo>
                  <a:pt x="14920" y="8366"/>
                  <a:pt x="15022" y="8466"/>
                  <a:pt x="15081" y="8572"/>
                </a:cubicBezTo>
                <a:cubicBezTo>
                  <a:pt x="15120" y="8643"/>
                  <a:pt x="15146" y="8697"/>
                  <a:pt x="15176" y="8763"/>
                </a:cubicBezTo>
                <a:cubicBezTo>
                  <a:pt x="15196" y="8808"/>
                  <a:pt x="15201" y="8838"/>
                  <a:pt x="15208" y="8890"/>
                </a:cubicBezTo>
              </a:path>
              <a:path w="2573" h="1112">
                <a:moveTo>
                  <a:pt x="12827" y="8350"/>
                </a:moveTo>
                <a:cubicBezTo>
                  <a:pt x="12870" y="8394"/>
                  <a:pt x="12912" y="8418"/>
                  <a:pt x="12954" y="8446"/>
                </a:cubicBezTo>
                <a:cubicBezTo>
                  <a:pt x="13005" y="8479"/>
                  <a:pt x="13004" y="8550"/>
                  <a:pt x="13049" y="8572"/>
                </a:cubicBezTo>
                <a:cubicBezTo>
                  <a:pt x="13060" y="8572"/>
                  <a:pt x="13070" y="8572"/>
                  <a:pt x="13081" y="8572"/>
                </a:cubicBezTo>
                <a:cubicBezTo>
                  <a:pt x="13094" y="8623"/>
                  <a:pt x="13104" y="8654"/>
                  <a:pt x="13144" y="8668"/>
                </a:cubicBezTo>
              </a:path>
              <a:path w="2573" h="1112">
                <a:moveTo>
                  <a:pt x="13018" y="8287"/>
                </a:moveTo>
                <a:cubicBezTo>
                  <a:pt x="13018" y="8382"/>
                  <a:pt x="12974" y="8422"/>
                  <a:pt x="12954" y="8509"/>
                </a:cubicBezTo>
                <a:cubicBezTo>
                  <a:pt x="12937" y="8586"/>
                  <a:pt x="12909" y="8655"/>
                  <a:pt x="12890" y="8731"/>
                </a:cubicBezTo>
                <a:cubicBezTo>
                  <a:pt x="12879" y="8773"/>
                  <a:pt x="12867" y="8815"/>
                  <a:pt x="12859" y="8858"/>
                </a:cubicBezTo>
              </a:path>
              <a:path w="2573" h="1112">
                <a:moveTo>
                  <a:pt x="12859" y="8350"/>
                </a:moveTo>
                <a:cubicBezTo>
                  <a:pt x="12848" y="8350"/>
                  <a:pt x="12838" y="8350"/>
                  <a:pt x="12827" y="8350"/>
                </a:cubicBezTo>
                <a:cubicBezTo>
                  <a:pt x="12818" y="8419"/>
                  <a:pt x="12795" y="8472"/>
                  <a:pt x="12795" y="8541"/>
                </a:cubicBezTo>
                <a:cubicBezTo>
                  <a:pt x="12795" y="8597"/>
                  <a:pt x="12843" y="8621"/>
                  <a:pt x="12859" y="8668"/>
                </a:cubicBezTo>
                <a:cubicBezTo>
                  <a:pt x="12871" y="8703"/>
                  <a:pt x="12881" y="8726"/>
                  <a:pt x="12890" y="8763"/>
                </a:cubicBezTo>
              </a:path>
              <a:path w="2573" h="1112">
                <a:moveTo>
                  <a:pt x="12795" y="8604"/>
                </a:moveTo>
                <a:cubicBezTo>
                  <a:pt x="12795" y="8593"/>
                  <a:pt x="12795" y="8583"/>
                  <a:pt x="12795" y="8572"/>
                </a:cubicBezTo>
                <a:cubicBezTo>
                  <a:pt x="12855" y="8572"/>
                  <a:pt x="12896" y="8545"/>
                  <a:pt x="12954" y="8541"/>
                </a:cubicBezTo>
                <a:cubicBezTo>
                  <a:pt x="13026" y="8536"/>
                  <a:pt x="13057" y="8539"/>
                  <a:pt x="13113" y="8572"/>
                </a:cubicBezTo>
              </a:path>
              <a:path w="2573" h="1112">
                <a:moveTo>
                  <a:pt x="14796" y="8477"/>
                </a:moveTo>
                <a:cubicBezTo>
                  <a:pt x="14806" y="8477"/>
                  <a:pt x="14817" y="8477"/>
                  <a:pt x="14827" y="8477"/>
                </a:cubicBezTo>
                <a:cubicBezTo>
                  <a:pt x="14837" y="8517"/>
                  <a:pt x="14876" y="8584"/>
                  <a:pt x="14922" y="8604"/>
                </a:cubicBezTo>
                <a:cubicBezTo>
                  <a:pt x="14961" y="8621"/>
                  <a:pt x="15010" y="8655"/>
                  <a:pt x="15050" y="8668"/>
                </a:cubicBezTo>
                <a:cubicBezTo>
                  <a:pt x="15070" y="8675"/>
                  <a:pt x="15165" y="8705"/>
                  <a:pt x="15176" y="8700"/>
                </a:cubicBezTo>
                <a:cubicBezTo>
                  <a:pt x="15187" y="8689"/>
                  <a:pt x="15197" y="8679"/>
                  <a:pt x="15208" y="8668"/>
                </a:cubicBezTo>
              </a:path>
              <a:path w="2573" h="1112">
                <a:moveTo>
                  <a:pt x="15176" y="8287"/>
                </a:moveTo>
                <a:cubicBezTo>
                  <a:pt x="15111" y="8369"/>
                  <a:pt x="15113" y="8445"/>
                  <a:pt x="15081" y="8541"/>
                </a:cubicBezTo>
                <a:cubicBezTo>
                  <a:pt x="15048" y="8643"/>
                  <a:pt x="15012" y="8768"/>
                  <a:pt x="14954" y="8858"/>
                </a:cubicBezTo>
                <a:cubicBezTo>
                  <a:pt x="14935" y="8888"/>
                  <a:pt x="14877" y="9005"/>
                  <a:pt x="14859" y="9017"/>
                </a:cubicBezTo>
                <a:cubicBezTo>
                  <a:pt x="14848" y="9017"/>
                  <a:pt x="14838" y="9017"/>
                  <a:pt x="14827" y="9017"/>
                </a:cubicBezTo>
              </a:path>
              <a:path w="2573" h="1112">
                <a:moveTo>
                  <a:pt x="14986" y="8255"/>
                </a:moveTo>
                <a:cubicBezTo>
                  <a:pt x="14986" y="8483"/>
                  <a:pt x="15017" y="8749"/>
                  <a:pt x="14954" y="8954"/>
                </a:cubicBezTo>
                <a:cubicBezTo>
                  <a:pt x="14954" y="8964"/>
                  <a:pt x="14954" y="8975"/>
                  <a:pt x="14954" y="8985"/>
                </a:cubicBezTo>
              </a:path>
              <a:path w="2573" h="1112">
                <a:moveTo>
                  <a:pt x="14668" y="8826"/>
                </a:moveTo>
                <a:cubicBezTo>
                  <a:pt x="14678" y="8798"/>
                  <a:pt x="14723" y="8757"/>
                  <a:pt x="14764" y="8731"/>
                </a:cubicBezTo>
                <a:cubicBezTo>
                  <a:pt x="14852" y="8675"/>
                  <a:pt x="14956" y="8649"/>
                  <a:pt x="15050" y="8604"/>
                </a:cubicBezTo>
                <a:cubicBezTo>
                  <a:pt x="15142" y="8560"/>
                  <a:pt x="15169" y="8550"/>
                  <a:pt x="15272" y="8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9"/>
          <p:cNvSpPr/>
          <p:nvPr/>
        </p:nvSpPr>
        <p:spPr>
          <a:xfrm>
            <a:off x="6458040" y="2789280"/>
            <a:ext cx="1338120" cy="696960"/>
          </a:xfrm>
          <a:custGeom>
            <a:avLst/>
            <a:gdLst/>
            <a:ahLst/>
            <a:rect l="l" t="t" r="r" b="b"/>
            <a:pathLst>
              <a:path w="3716" h="1938">
                <a:moveTo>
                  <a:pt x="18415" y="7906"/>
                </a:moveTo>
                <a:cubicBezTo>
                  <a:pt x="18360" y="7948"/>
                  <a:pt x="18301" y="7933"/>
                  <a:pt x="18256" y="8001"/>
                </a:cubicBezTo>
                <a:cubicBezTo>
                  <a:pt x="18201" y="8086"/>
                  <a:pt x="18125" y="8135"/>
                  <a:pt x="18066" y="8223"/>
                </a:cubicBezTo>
                <a:cubicBezTo>
                  <a:pt x="17999" y="8324"/>
                  <a:pt x="18003" y="8428"/>
                  <a:pt x="17970" y="8541"/>
                </a:cubicBezTo>
                <a:cubicBezTo>
                  <a:pt x="17935" y="8661"/>
                  <a:pt x="17939" y="8766"/>
                  <a:pt x="17939" y="8890"/>
                </a:cubicBezTo>
                <a:cubicBezTo>
                  <a:pt x="17939" y="8986"/>
                  <a:pt x="17965" y="9085"/>
                  <a:pt x="18002" y="9176"/>
                </a:cubicBezTo>
                <a:cubicBezTo>
                  <a:pt x="18039" y="9266"/>
                  <a:pt x="18074" y="9290"/>
                  <a:pt x="18161" y="9303"/>
                </a:cubicBezTo>
              </a:path>
              <a:path w="3716" h="1938">
                <a:moveTo>
                  <a:pt x="21209" y="7779"/>
                </a:moveTo>
                <a:cubicBezTo>
                  <a:pt x="21198" y="7768"/>
                  <a:pt x="21188" y="7758"/>
                  <a:pt x="21177" y="7747"/>
                </a:cubicBezTo>
                <a:cubicBezTo>
                  <a:pt x="21195" y="7820"/>
                  <a:pt x="21258" y="7841"/>
                  <a:pt x="21304" y="7906"/>
                </a:cubicBezTo>
                <a:cubicBezTo>
                  <a:pt x="21379" y="8013"/>
                  <a:pt x="21406" y="8144"/>
                  <a:pt x="21463" y="8255"/>
                </a:cubicBezTo>
                <a:cubicBezTo>
                  <a:pt x="21534" y="8393"/>
                  <a:pt x="21574" y="8519"/>
                  <a:pt x="21622" y="8668"/>
                </a:cubicBezTo>
                <a:cubicBezTo>
                  <a:pt x="21658" y="8779"/>
                  <a:pt x="21657" y="8874"/>
                  <a:pt x="21622" y="8985"/>
                </a:cubicBezTo>
                <a:cubicBezTo>
                  <a:pt x="21597" y="9065"/>
                  <a:pt x="21495" y="9130"/>
                  <a:pt x="21431" y="9176"/>
                </a:cubicBezTo>
              </a:path>
              <a:path w="3716" h="1938">
                <a:moveTo>
                  <a:pt x="19717" y="8954"/>
                </a:moveTo>
                <a:cubicBezTo>
                  <a:pt x="19717" y="9053"/>
                  <a:pt x="19762" y="9140"/>
                  <a:pt x="19748" y="9239"/>
                </a:cubicBezTo>
                <a:cubicBezTo>
                  <a:pt x="19727" y="9386"/>
                  <a:pt x="19660" y="9540"/>
                  <a:pt x="19622" y="9684"/>
                </a:cubicBezTo>
              </a:path>
              <a:path w="3716" h="1938">
                <a:moveTo>
                  <a:pt x="18415" y="8318"/>
                </a:moveTo>
                <a:cubicBezTo>
                  <a:pt x="18402" y="8436"/>
                  <a:pt x="18365" y="8551"/>
                  <a:pt x="18352" y="8668"/>
                </a:cubicBezTo>
                <a:cubicBezTo>
                  <a:pt x="18340" y="8778"/>
                  <a:pt x="18320" y="8871"/>
                  <a:pt x="18320" y="8985"/>
                </a:cubicBezTo>
              </a:path>
              <a:path w="3716" h="1938">
                <a:moveTo>
                  <a:pt x="18510" y="9017"/>
                </a:moveTo>
                <a:lnTo>
                  <a:pt x="18510" y="9017"/>
                </a:lnTo>
              </a:path>
              <a:path w="3716" h="1938">
                <a:moveTo>
                  <a:pt x="18796" y="8446"/>
                </a:moveTo>
                <a:cubicBezTo>
                  <a:pt x="18811" y="8386"/>
                  <a:pt x="18858" y="8342"/>
                  <a:pt x="18891" y="8318"/>
                </a:cubicBezTo>
                <a:cubicBezTo>
                  <a:pt x="18947" y="8277"/>
                  <a:pt x="18975" y="8284"/>
                  <a:pt x="19018" y="8350"/>
                </a:cubicBezTo>
                <a:cubicBezTo>
                  <a:pt x="19078" y="8443"/>
                  <a:pt x="19048" y="8538"/>
                  <a:pt x="19018" y="8636"/>
                </a:cubicBezTo>
                <a:cubicBezTo>
                  <a:pt x="18983" y="8749"/>
                  <a:pt x="18915" y="8872"/>
                  <a:pt x="18891" y="8985"/>
                </a:cubicBezTo>
                <a:cubicBezTo>
                  <a:pt x="18879" y="9044"/>
                  <a:pt x="18829" y="9102"/>
                  <a:pt x="18860" y="9080"/>
                </a:cubicBezTo>
                <a:cubicBezTo>
                  <a:pt x="18917" y="9040"/>
                  <a:pt x="18913" y="9017"/>
                  <a:pt x="18986" y="9017"/>
                </a:cubicBezTo>
                <a:cubicBezTo>
                  <a:pt x="19055" y="9017"/>
                  <a:pt x="19093" y="9027"/>
                  <a:pt x="19145" y="9017"/>
                </a:cubicBezTo>
                <a:cubicBezTo>
                  <a:pt x="19156" y="9017"/>
                  <a:pt x="19166" y="9017"/>
                  <a:pt x="19177" y="9017"/>
                </a:cubicBezTo>
              </a:path>
              <a:path w="3716" h="1938">
                <a:moveTo>
                  <a:pt x="19558" y="8255"/>
                </a:moveTo>
                <a:cubicBezTo>
                  <a:pt x="19512" y="8290"/>
                  <a:pt x="19461" y="8312"/>
                  <a:pt x="19399" y="8318"/>
                </a:cubicBezTo>
                <a:cubicBezTo>
                  <a:pt x="19364" y="8321"/>
                  <a:pt x="19310" y="8329"/>
                  <a:pt x="19304" y="8350"/>
                </a:cubicBezTo>
                <a:cubicBezTo>
                  <a:pt x="19288" y="8409"/>
                  <a:pt x="19287" y="8481"/>
                  <a:pt x="19272" y="8541"/>
                </a:cubicBezTo>
                <a:cubicBezTo>
                  <a:pt x="19263" y="8578"/>
                  <a:pt x="19272" y="8630"/>
                  <a:pt x="19272" y="8668"/>
                </a:cubicBezTo>
                <a:cubicBezTo>
                  <a:pt x="19321" y="8652"/>
                  <a:pt x="19309" y="8640"/>
                  <a:pt x="19336" y="8604"/>
                </a:cubicBezTo>
                <a:cubicBezTo>
                  <a:pt x="19376" y="8551"/>
                  <a:pt x="19401" y="8541"/>
                  <a:pt x="19463" y="8541"/>
                </a:cubicBezTo>
                <a:cubicBezTo>
                  <a:pt x="19508" y="8541"/>
                  <a:pt x="19574" y="8548"/>
                  <a:pt x="19590" y="8604"/>
                </a:cubicBezTo>
                <a:cubicBezTo>
                  <a:pt x="19607" y="8665"/>
                  <a:pt x="19648" y="8792"/>
                  <a:pt x="19622" y="8858"/>
                </a:cubicBezTo>
                <a:cubicBezTo>
                  <a:pt x="19601" y="8912"/>
                  <a:pt x="19585" y="8979"/>
                  <a:pt x="19526" y="9017"/>
                </a:cubicBezTo>
                <a:cubicBezTo>
                  <a:pt x="19459" y="9060"/>
                  <a:pt x="19396" y="9065"/>
                  <a:pt x="19336" y="9017"/>
                </a:cubicBezTo>
                <a:cubicBezTo>
                  <a:pt x="19304" y="8985"/>
                  <a:pt x="19294" y="8975"/>
                  <a:pt x="19272" y="8954"/>
                </a:cubicBezTo>
              </a:path>
              <a:path w="3716" h="1938">
                <a:moveTo>
                  <a:pt x="20225" y="8096"/>
                </a:moveTo>
                <a:cubicBezTo>
                  <a:pt x="20235" y="8085"/>
                  <a:pt x="20246" y="8075"/>
                  <a:pt x="20256" y="8064"/>
                </a:cubicBezTo>
              </a:path>
              <a:path w="3716" h="1938">
                <a:moveTo>
                  <a:pt x="20384" y="8350"/>
                </a:moveTo>
                <a:cubicBezTo>
                  <a:pt x="20335" y="8387"/>
                  <a:pt x="20318" y="8382"/>
                  <a:pt x="20256" y="8382"/>
                </a:cubicBezTo>
                <a:cubicBezTo>
                  <a:pt x="20246" y="8382"/>
                  <a:pt x="20235" y="8382"/>
                  <a:pt x="20225" y="8382"/>
                </a:cubicBezTo>
                <a:cubicBezTo>
                  <a:pt x="20318" y="8382"/>
                  <a:pt x="20402" y="8372"/>
                  <a:pt x="20479" y="8414"/>
                </a:cubicBezTo>
                <a:cubicBezTo>
                  <a:pt x="20539" y="8446"/>
                  <a:pt x="20601" y="8502"/>
                  <a:pt x="20606" y="8572"/>
                </a:cubicBezTo>
                <a:cubicBezTo>
                  <a:pt x="20612" y="8662"/>
                  <a:pt x="20600" y="8686"/>
                  <a:pt x="20542" y="8731"/>
                </a:cubicBezTo>
                <a:cubicBezTo>
                  <a:pt x="20486" y="8774"/>
                  <a:pt x="20455" y="8795"/>
                  <a:pt x="20384" y="8795"/>
                </a:cubicBezTo>
                <a:cubicBezTo>
                  <a:pt x="20304" y="8795"/>
                  <a:pt x="20288" y="8807"/>
                  <a:pt x="20256" y="8763"/>
                </a:cubicBezTo>
                <a:cubicBezTo>
                  <a:pt x="20225" y="8731"/>
                  <a:pt x="20215" y="8720"/>
                  <a:pt x="20193" y="8700"/>
                </a:cubicBezTo>
              </a:path>
              <a:path w="3716" h="1938">
                <a:moveTo>
                  <a:pt x="20256" y="8064"/>
                </a:moveTo>
                <a:lnTo>
                  <a:pt x="20256" y="8064"/>
                </a:lnTo>
              </a:path>
              <a:path w="3716" h="1938">
                <a:moveTo>
                  <a:pt x="20256" y="8064"/>
                </a:moveTo>
                <a:cubicBezTo>
                  <a:pt x="20277" y="8054"/>
                  <a:pt x="20299" y="8043"/>
                  <a:pt x="20320" y="8033"/>
                </a:cubicBezTo>
              </a:path>
              <a:path w="3716" h="1938">
                <a:moveTo>
                  <a:pt x="20320" y="8033"/>
                </a:moveTo>
                <a:cubicBezTo>
                  <a:pt x="20369" y="7996"/>
                  <a:pt x="20385" y="8001"/>
                  <a:pt x="20447" y="8001"/>
                </a:cubicBezTo>
                <a:cubicBezTo>
                  <a:pt x="20481" y="8001"/>
                  <a:pt x="20555" y="8036"/>
                  <a:pt x="20574" y="8064"/>
                </a:cubicBezTo>
                <a:cubicBezTo>
                  <a:pt x="20605" y="8111"/>
                  <a:pt x="20551" y="8192"/>
                  <a:pt x="20542" y="8223"/>
                </a:cubicBezTo>
                <a:cubicBezTo>
                  <a:pt x="20535" y="8246"/>
                  <a:pt x="20486" y="8301"/>
                  <a:pt x="20447" y="8318"/>
                </a:cubicBezTo>
                <a:cubicBezTo>
                  <a:pt x="20416" y="8332"/>
                  <a:pt x="20352" y="8346"/>
                  <a:pt x="20320" y="8350"/>
                </a:cubicBezTo>
                <a:cubicBezTo>
                  <a:pt x="20288" y="8350"/>
                  <a:pt x="20277" y="8350"/>
                  <a:pt x="20288" y="8318"/>
                </a:cubicBezTo>
              </a:path>
              <a:path w="3716" h="1938">
                <a:moveTo>
                  <a:pt x="20892" y="8001"/>
                </a:moveTo>
                <a:lnTo>
                  <a:pt x="20892" y="8001"/>
                </a:lnTo>
              </a:path>
              <a:path w="3716" h="1938">
                <a:moveTo>
                  <a:pt x="20892" y="8001"/>
                </a:moveTo>
                <a:lnTo>
                  <a:pt x="20892" y="8001"/>
                </a:lnTo>
              </a:path>
              <a:path w="3716" h="1938">
                <a:moveTo>
                  <a:pt x="20892" y="8255"/>
                </a:moveTo>
                <a:cubicBezTo>
                  <a:pt x="20892" y="8382"/>
                  <a:pt x="20903" y="8485"/>
                  <a:pt x="20892" y="8604"/>
                </a:cubicBezTo>
                <a:cubicBezTo>
                  <a:pt x="20884" y="8698"/>
                  <a:pt x="20892" y="8796"/>
                  <a:pt x="20892" y="8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10"/>
          <p:cNvSpPr/>
          <p:nvPr/>
        </p:nvSpPr>
        <p:spPr>
          <a:xfrm>
            <a:off x="6240600" y="4138560"/>
            <a:ext cx="2342880" cy="1200240"/>
          </a:xfrm>
          <a:custGeom>
            <a:avLst/>
            <a:gdLst/>
            <a:ahLst/>
            <a:rect l="l" t="t" r="r" b="b"/>
            <a:pathLst>
              <a:path w="6509" h="3334">
                <a:moveTo>
                  <a:pt x="17399" y="12668"/>
                </a:moveTo>
                <a:cubicBezTo>
                  <a:pt x="17428" y="12639"/>
                  <a:pt x="17434" y="12629"/>
                  <a:pt x="17462" y="12636"/>
                </a:cubicBezTo>
                <a:cubicBezTo>
                  <a:pt x="17480" y="12583"/>
                  <a:pt x="17538" y="12605"/>
                  <a:pt x="17590" y="12573"/>
                </a:cubicBezTo>
                <a:cubicBezTo>
                  <a:pt x="17643" y="12541"/>
                  <a:pt x="17700" y="12567"/>
                  <a:pt x="17748" y="12541"/>
                </a:cubicBezTo>
                <a:cubicBezTo>
                  <a:pt x="17759" y="12531"/>
                  <a:pt x="17769" y="12520"/>
                  <a:pt x="17780" y="12510"/>
                </a:cubicBezTo>
                <a:cubicBezTo>
                  <a:pt x="17829" y="12545"/>
                  <a:pt x="17846" y="12541"/>
                  <a:pt x="17907" y="12541"/>
                </a:cubicBezTo>
              </a:path>
              <a:path w="6509" h="3334">
                <a:moveTo>
                  <a:pt x="18161" y="11970"/>
                </a:moveTo>
                <a:cubicBezTo>
                  <a:pt x="18218" y="11989"/>
                  <a:pt x="18193" y="12060"/>
                  <a:pt x="18193" y="12128"/>
                </a:cubicBezTo>
                <a:cubicBezTo>
                  <a:pt x="18193" y="12187"/>
                  <a:pt x="18178" y="12290"/>
                  <a:pt x="18161" y="12351"/>
                </a:cubicBezTo>
                <a:cubicBezTo>
                  <a:pt x="18142" y="12417"/>
                  <a:pt x="18105" y="12478"/>
                  <a:pt x="18098" y="12541"/>
                </a:cubicBezTo>
                <a:cubicBezTo>
                  <a:pt x="18090" y="12615"/>
                  <a:pt x="18062" y="12559"/>
                  <a:pt x="18098" y="12541"/>
                </a:cubicBezTo>
                <a:cubicBezTo>
                  <a:pt x="18112" y="12534"/>
                  <a:pt x="18219" y="12517"/>
                  <a:pt x="18224" y="12510"/>
                </a:cubicBezTo>
                <a:cubicBezTo>
                  <a:pt x="18253" y="12473"/>
                  <a:pt x="18253" y="12478"/>
                  <a:pt x="18320" y="12478"/>
                </a:cubicBezTo>
                <a:cubicBezTo>
                  <a:pt x="18392" y="12478"/>
                  <a:pt x="18415" y="12462"/>
                  <a:pt x="18447" y="12446"/>
                </a:cubicBezTo>
                <a:cubicBezTo>
                  <a:pt x="18457" y="12446"/>
                  <a:pt x="18468" y="12446"/>
                  <a:pt x="18478" y="12446"/>
                </a:cubicBezTo>
              </a:path>
              <a:path w="6509" h="3334">
                <a:moveTo>
                  <a:pt x="18574" y="11779"/>
                </a:moveTo>
                <a:cubicBezTo>
                  <a:pt x="18574" y="11850"/>
                  <a:pt x="18558" y="11935"/>
                  <a:pt x="18542" y="12002"/>
                </a:cubicBezTo>
                <a:cubicBezTo>
                  <a:pt x="18511" y="12138"/>
                  <a:pt x="18483" y="12274"/>
                  <a:pt x="18478" y="12414"/>
                </a:cubicBezTo>
                <a:cubicBezTo>
                  <a:pt x="18474" y="12528"/>
                  <a:pt x="18472" y="12684"/>
                  <a:pt x="18447" y="12795"/>
                </a:cubicBezTo>
                <a:cubicBezTo>
                  <a:pt x="18431" y="12865"/>
                  <a:pt x="18415" y="12911"/>
                  <a:pt x="18415" y="12986"/>
                </a:cubicBezTo>
              </a:path>
              <a:path w="6509" h="3334">
                <a:moveTo>
                  <a:pt x="18732" y="12033"/>
                </a:moveTo>
                <a:cubicBezTo>
                  <a:pt x="18758" y="11981"/>
                  <a:pt x="18769" y="11973"/>
                  <a:pt x="18764" y="11938"/>
                </a:cubicBezTo>
                <a:cubicBezTo>
                  <a:pt x="18752" y="12033"/>
                  <a:pt x="18723" y="12131"/>
                  <a:pt x="18701" y="12224"/>
                </a:cubicBezTo>
                <a:cubicBezTo>
                  <a:pt x="18674" y="12341"/>
                  <a:pt x="18643" y="12482"/>
                  <a:pt x="18669" y="12605"/>
                </a:cubicBezTo>
                <a:cubicBezTo>
                  <a:pt x="18688" y="12697"/>
                  <a:pt x="18739" y="12751"/>
                  <a:pt x="18796" y="12795"/>
                </a:cubicBezTo>
                <a:cubicBezTo>
                  <a:pt x="18835" y="12825"/>
                  <a:pt x="18888" y="12837"/>
                  <a:pt x="18923" y="12795"/>
                </a:cubicBezTo>
                <a:cubicBezTo>
                  <a:pt x="18981" y="12725"/>
                  <a:pt x="19018" y="12626"/>
                  <a:pt x="19050" y="12541"/>
                </a:cubicBezTo>
                <a:cubicBezTo>
                  <a:pt x="19089" y="12437"/>
                  <a:pt x="19107" y="12271"/>
                  <a:pt x="19082" y="12160"/>
                </a:cubicBezTo>
                <a:cubicBezTo>
                  <a:pt x="19063" y="12077"/>
                  <a:pt x="19006" y="11975"/>
                  <a:pt x="18955" y="11906"/>
                </a:cubicBezTo>
                <a:cubicBezTo>
                  <a:pt x="18930" y="11873"/>
                  <a:pt x="18877" y="11817"/>
                  <a:pt x="18828" y="11843"/>
                </a:cubicBezTo>
                <a:cubicBezTo>
                  <a:pt x="18817" y="11853"/>
                  <a:pt x="18807" y="11864"/>
                  <a:pt x="18796" y="11874"/>
                </a:cubicBezTo>
              </a:path>
              <a:path w="6509" h="3334">
                <a:moveTo>
                  <a:pt x="17431" y="13176"/>
                </a:moveTo>
                <a:cubicBezTo>
                  <a:pt x="17346" y="13164"/>
                  <a:pt x="17386" y="13174"/>
                  <a:pt x="17336" y="13144"/>
                </a:cubicBezTo>
                <a:cubicBezTo>
                  <a:pt x="17374" y="13160"/>
                  <a:pt x="17466" y="13162"/>
                  <a:pt x="17526" y="13144"/>
                </a:cubicBezTo>
                <a:cubicBezTo>
                  <a:pt x="17623" y="13114"/>
                  <a:pt x="17742" y="13093"/>
                  <a:pt x="17844" y="13081"/>
                </a:cubicBezTo>
                <a:cubicBezTo>
                  <a:pt x="17994" y="13064"/>
                  <a:pt x="18140" y="13052"/>
                  <a:pt x="18288" y="13018"/>
                </a:cubicBezTo>
                <a:cubicBezTo>
                  <a:pt x="18454" y="12980"/>
                  <a:pt x="18626" y="12960"/>
                  <a:pt x="18796" y="12954"/>
                </a:cubicBezTo>
                <a:cubicBezTo>
                  <a:pt x="18914" y="12950"/>
                  <a:pt x="19066" y="12904"/>
                  <a:pt x="19177" y="12922"/>
                </a:cubicBezTo>
                <a:cubicBezTo>
                  <a:pt x="19236" y="12932"/>
                  <a:pt x="19356" y="12951"/>
                  <a:pt x="19399" y="12986"/>
                </a:cubicBezTo>
                <a:cubicBezTo>
                  <a:pt x="19430" y="13011"/>
                  <a:pt x="19422" y="13009"/>
                  <a:pt x="19463" y="13049"/>
                </a:cubicBezTo>
              </a:path>
              <a:path w="6509" h="3334">
                <a:moveTo>
                  <a:pt x="17462" y="13875"/>
                </a:moveTo>
                <a:cubicBezTo>
                  <a:pt x="17431" y="13875"/>
                  <a:pt x="17420" y="13875"/>
                  <a:pt x="17431" y="13843"/>
                </a:cubicBezTo>
              </a:path>
              <a:path w="6509" h="3334">
                <a:moveTo>
                  <a:pt x="17462" y="13875"/>
                </a:moveTo>
                <a:cubicBezTo>
                  <a:pt x="17462" y="13864"/>
                  <a:pt x="17462" y="13854"/>
                  <a:pt x="17462" y="13843"/>
                </a:cubicBezTo>
              </a:path>
              <a:path w="6509" h="3334">
                <a:moveTo>
                  <a:pt x="17462" y="13843"/>
                </a:moveTo>
                <a:cubicBezTo>
                  <a:pt x="17477" y="13782"/>
                  <a:pt x="17524" y="13770"/>
                  <a:pt x="17558" y="13716"/>
                </a:cubicBezTo>
                <a:cubicBezTo>
                  <a:pt x="17623" y="13615"/>
                  <a:pt x="17660" y="13633"/>
                  <a:pt x="17748" y="13589"/>
                </a:cubicBezTo>
                <a:cubicBezTo>
                  <a:pt x="17812" y="13557"/>
                  <a:pt x="17847" y="13535"/>
                  <a:pt x="17907" y="13589"/>
                </a:cubicBezTo>
                <a:cubicBezTo>
                  <a:pt x="17971" y="13646"/>
                  <a:pt x="17970" y="13663"/>
                  <a:pt x="17970" y="13748"/>
                </a:cubicBezTo>
                <a:cubicBezTo>
                  <a:pt x="17970" y="13880"/>
                  <a:pt x="17920" y="13976"/>
                  <a:pt x="17875" y="14097"/>
                </a:cubicBezTo>
                <a:cubicBezTo>
                  <a:pt x="17840" y="14191"/>
                  <a:pt x="17807" y="14299"/>
                  <a:pt x="17748" y="14383"/>
                </a:cubicBezTo>
                <a:cubicBezTo>
                  <a:pt x="17735" y="14401"/>
                  <a:pt x="17657" y="14507"/>
                  <a:pt x="17653" y="14510"/>
                </a:cubicBezTo>
                <a:cubicBezTo>
                  <a:pt x="17642" y="14510"/>
                  <a:pt x="17632" y="14510"/>
                  <a:pt x="17621" y="14510"/>
                </a:cubicBezTo>
                <a:cubicBezTo>
                  <a:pt x="17662" y="14479"/>
                  <a:pt x="17710" y="14471"/>
                  <a:pt x="17748" y="14446"/>
                </a:cubicBezTo>
                <a:cubicBezTo>
                  <a:pt x="17799" y="14412"/>
                  <a:pt x="17812" y="14414"/>
                  <a:pt x="17875" y="14414"/>
                </a:cubicBezTo>
                <a:cubicBezTo>
                  <a:pt x="17917" y="14414"/>
                  <a:pt x="17960" y="14414"/>
                  <a:pt x="18002" y="14414"/>
                </a:cubicBezTo>
              </a:path>
              <a:path w="6509" h="3334">
                <a:moveTo>
                  <a:pt x="18542" y="13049"/>
                </a:moveTo>
                <a:cubicBezTo>
                  <a:pt x="18484" y="13087"/>
                  <a:pt x="18449" y="13213"/>
                  <a:pt x="18415" y="13303"/>
                </a:cubicBezTo>
                <a:cubicBezTo>
                  <a:pt x="18335" y="13511"/>
                  <a:pt x="18287" y="13725"/>
                  <a:pt x="18224" y="13938"/>
                </a:cubicBezTo>
                <a:cubicBezTo>
                  <a:pt x="18197" y="14028"/>
                  <a:pt x="18141" y="14195"/>
                  <a:pt x="18161" y="14288"/>
                </a:cubicBezTo>
                <a:cubicBezTo>
                  <a:pt x="18171" y="14335"/>
                  <a:pt x="18219" y="14434"/>
                  <a:pt x="18224" y="14446"/>
                </a:cubicBezTo>
                <a:cubicBezTo>
                  <a:pt x="18239" y="14482"/>
                  <a:pt x="18266" y="14504"/>
                  <a:pt x="18320" y="14510"/>
                </a:cubicBezTo>
                <a:cubicBezTo>
                  <a:pt x="18373" y="14516"/>
                  <a:pt x="18370" y="14519"/>
                  <a:pt x="18383" y="14478"/>
                </a:cubicBezTo>
              </a:path>
              <a:path w="6509" h="3334">
                <a:moveTo>
                  <a:pt x="18415" y="13780"/>
                </a:moveTo>
                <a:cubicBezTo>
                  <a:pt x="18404" y="13780"/>
                  <a:pt x="18394" y="13780"/>
                  <a:pt x="18383" y="13780"/>
                </a:cubicBezTo>
                <a:cubicBezTo>
                  <a:pt x="18447" y="13780"/>
                  <a:pt x="18510" y="13780"/>
                  <a:pt x="18574" y="13780"/>
                </a:cubicBezTo>
                <a:cubicBezTo>
                  <a:pt x="18588" y="13737"/>
                  <a:pt x="18591" y="13751"/>
                  <a:pt x="18637" y="13716"/>
                </a:cubicBezTo>
              </a:path>
              <a:path w="6509" h="3334">
                <a:moveTo>
                  <a:pt x="18796" y="13303"/>
                </a:moveTo>
                <a:cubicBezTo>
                  <a:pt x="18796" y="13447"/>
                  <a:pt x="18777" y="13578"/>
                  <a:pt x="18764" y="13716"/>
                </a:cubicBezTo>
                <a:cubicBezTo>
                  <a:pt x="18744" y="13923"/>
                  <a:pt x="18764" y="14142"/>
                  <a:pt x="18764" y="14351"/>
                </a:cubicBezTo>
              </a:path>
              <a:path w="6509" h="3334">
                <a:moveTo>
                  <a:pt x="18986" y="13367"/>
                </a:moveTo>
                <a:cubicBezTo>
                  <a:pt x="18986" y="13490"/>
                  <a:pt x="18966" y="13599"/>
                  <a:pt x="18955" y="13716"/>
                </a:cubicBezTo>
                <a:cubicBezTo>
                  <a:pt x="18943" y="13845"/>
                  <a:pt x="18898" y="13998"/>
                  <a:pt x="18923" y="14129"/>
                </a:cubicBezTo>
                <a:cubicBezTo>
                  <a:pt x="18938" y="14211"/>
                  <a:pt x="18963" y="14290"/>
                  <a:pt x="19018" y="14351"/>
                </a:cubicBezTo>
                <a:cubicBezTo>
                  <a:pt x="19060" y="14398"/>
                  <a:pt x="19101" y="14380"/>
                  <a:pt x="19145" y="14351"/>
                </a:cubicBezTo>
                <a:cubicBezTo>
                  <a:pt x="19239" y="14287"/>
                  <a:pt x="19227" y="14260"/>
                  <a:pt x="19272" y="14160"/>
                </a:cubicBezTo>
                <a:cubicBezTo>
                  <a:pt x="19314" y="14066"/>
                  <a:pt x="19304" y="13977"/>
                  <a:pt x="19304" y="13875"/>
                </a:cubicBezTo>
                <a:cubicBezTo>
                  <a:pt x="19304" y="13807"/>
                  <a:pt x="19329" y="13735"/>
                  <a:pt x="19272" y="13716"/>
                </a:cubicBezTo>
                <a:cubicBezTo>
                  <a:pt x="19228" y="13731"/>
                  <a:pt x="19207" y="13786"/>
                  <a:pt x="19177" y="13843"/>
                </a:cubicBezTo>
                <a:cubicBezTo>
                  <a:pt x="19133" y="13925"/>
                  <a:pt x="19118" y="14036"/>
                  <a:pt x="19114" y="14129"/>
                </a:cubicBezTo>
                <a:cubicBezTo>
                  <a:pt x="19113" y="14153"/>
                  <a:pt x="19089" y="14384"/>
                  <a:pt x="19145" y="14383"/>
                </a:cubicBezTo>
                <a:cubicBezTo>
                  <a:pt x="19145" y="14372"/>
                  <a:pt x="19145" y="14362"/>
                  <a:pt x="19145" y="14351"/>
                </a:cubicBezTo>
              </a:path>
              <a:path w="6509" h="3334">
                <a:moveTo>
                  <a:pt x="19209" y="13018"/>
                </a:moveTo>
                <a:cubicBezTo>
                  <a:pt x="19268" y="13077"/>
                  <a:pt x="19293" y="13114"/>
                  <a:pt x="19336" y="13208"/>
                </a:cubicBezTo>
                <a:cubicBezTo>
                  <a:pt x="19387" y="13322"/>
                  <a:pt x="19474" y="13417"/>
                  <a:pt x="19526" y="13526"/>
                </a:cubicBezTo>
                <a:cubicBezTo>
                  <a:pt x="19597" y="13675"/>
                  <a:pt x="19620" y="13813"/>
                  <a:pt x="19653" y="13970"/>
                </a:cubicBezTo>
                <a:cubicBezTo>
                  <a:pt x="19686" y="14126"/>
                  <a:pt x="19711" y="14318"/>
                  <a:pt x="19685" y="14478"/>
                </a:cubicBezTo>
                <a:cubicBezTo>
                  <a:pt x="19667" y="14587"/>
                  <a:pt x="19630" y="14687"/>
                  <a:pt x="19622" y="14796"/>
                </a:cubicBezTo>
                <a:cubicBezTo>
                  <a:pt x="19622" y="14806"/>
                  <a:pt x="19622" y="14817"/>
                  <a:pt x="19622" y="14827"/>
                </a:cubicBezTo>
              </a:path>
              <a:path w="6509" h="3334">
                <a:moveTo>
                  <a:pt x="19939" y="12827"/>
                </a:moveTo>
                <a:cubicBezTo>
                  <a:pt x="20003" y="12827"/>
                  <a:pt x="20014" y="12842"/>
                  <a:pt x="20066" y="12859"/>
                </a:cubicBezTo>
                <a:cubicBezTo>
                  <a:pt x="20113" y="12875"/>
                  <a:pt x="20139" y="12890"/>
                  <a:pt x="20193" y="12890"/>
                </a:cubicBezTo>
              </a:path>
              <a:path w="6509" h="3334">
                <a:moveTo>
                  <a:pt x="20002" y="13303"/>
                </a:moveTo>
                <a:cubicBezTo>
                  <a:pt x="19992" y="13303"/>
                  <a:pt x="19981" y="13303"/>
                  <a:pt x="19971" y="13303"/>
                </a:cubicBezTo>
                <a:cubicBezTo>
                  <a:pt x="20021" y="13316"/>
                  <a:pt x="20041" y="13335"/>
                  <a:pt x="20098" y="13335"/>
                </a:cubicBezTo>
                <a:cubicBezTo>
                  <a:pt x="20151" y="13335"/>
                  <a:pt x="20161" y="13335"/>
                  <a:pt x="20193" y="13335"/>
                </a:cubicBezTo>
              </a:path>
              <a:path w="6509" h="3334">
                <a:moveTo>
                  <a:pt x="20256" y="12033"/>
                </a:moveTo>
                <a:cubicBezTo>
                  <a:pt x="20312" y="12022"/>
                  <a:pt x="20356" y="12002"/>
                  <a:pt x="20415" y="12002"/>
                </a:cubicBezTo>
                <a:cubicBezTo>
                  <a:pt x="20479" y="12002"/>
                  <a:pt x="20542" y="12002"/>
                  <a:pt x="20606" y="12002"/>
                </a:cubicBezTo>
              </a:path>
              <a:path w="6509" h="3334">
                <a:moveTo>
                  <a:pt x="20860" y="11525"/>
                </a:moveTo>
                <a:cubicBezTo>
                  <a:pt x="20880" y="11584"/>
                  <a:pt x="20892" y="11556"/>
                  <a:pt x="20892" y="11652"/>
                </a:cubicBezTo>
                <a:cubicBezTo>
                  <a:pt x="20892" y="11798"/>
                  <a:pt x="20880" y="11924"/>
                  <a:pt x="20860" y="12065"/>
                </a:cubicBezTo>
                <a:cubicBezTo>
                  <a:pt x="20850" y="12135"/>
                  <a:pt x="20838" y="12153"/>
                  <a:pt x="20828" y="12224"/>
                </a:cubicBezTo>
                <a:cubicBezTo>
                  <a:pt x="20944" y="12224"/>
                  <a:pt x="21076" y="12228"/>
                  <a:pt x="21146" y="12192"/>
                </a:cubicBezTo>
                <a:cubicBezTo>
                  <a:pt x="21156" y="12192"/>
                  <a:pt x="21167" y="12192"/>
                  <a:pt x="21177" y="12192"/>
                </a:cubicBezTo>
              </a:path>
              <a:path w="6509" h="3334">
                <a:moveTo>
                  <a:pt x="21272" y="11494"/>
                </a:moveTo>
                <a:cubicBezTo>
                  <a:pt x="21272" y="11628"/>
                  <a:pt x="21242" y="11743"/>
                  <a:pt x="21209" y="11874"/>
                </a:cubicBezTo>
                <a:cubicBezTo>
                  <a:pt x="21169" y="12034"/>
                  <a:pt x="21135" y="12217"/>
                  <a:pt x="21114" y="12382"/>
                </a:cubicBezTo>
                <a:cubicBezTo>
                  <a:pt x="21107" y="12439"/>
                  <a:pt x="21067" y="12618"/>
                  <a:pt x="21082" y="12668"/>
                </a:cubicBezTo>
                <a:cubicBezTo>
                  <a:pt x="21093" y="12679"/>
                  <a:pt x="21103" y="12689"/>
                  <a:pt x="21114" y="12700"/>
                </a:cubicBezTo>
              </a:path>
              <a:path w="6509" h="3334">
                <a:moveTo>
                  <a:pt x="21431" y="11652"/>
                </a:moveTo>
                <a:cubicBezTo>
                  <a:pt x="21411" y="11757"/>
                  <a:pt x="21393" y="11861"/>
                  <a:pt x="21368" y="11970"/>
                </a:cubicBezTo>
                <a:cubicBezTo>
                  <a:pt x="21327" y="12146"/>
                  <a:pt x="21310" y="12329"/>
                  <a:pt x="21304" y="12510"/>
                </a:cubicBezTo>
                <a:cubicBezTo>
                  <a:pt x="21302" y="12576"/>
                  <a:pt x="21306" y="12757"/>
                  <a:pt x="21368" y="12795"/>
                </a:cubicBezTo>
                <a:cubicBezTo>
                  <a:pt x="21379" y="12795"/>
                  <a:pt x="21389" y="12795"/>
                  <a:pt x="21400" y="12795"/>
                </a:cubicBezTo>
                <a:cubicBezTo>
                  <a:pt x="21472" y="12777"/>
                  <a:pt x="21463" y="12737"/>
                  <a:pt x="21495" y="12668"/>
                </a:cubicBezTo>
                <a:cubicBezTo>
                  <a:pt x="21560" y="12528"/>
                  <a:pt x="21565" y="12402"/>
                  <a:pt x="21590" y="12256"/>
                </a:cubicBezTo>
                <a:cubicBezTo>
                  <a:pt x="21612" y="12131"/>
                  <a:pt x="21643" y="11996"/>
                  <a:pt x="21590" y="11874"/>
                </a:cubicBezTo>
                <a:cubicBezTo>
                  <a:pt x="21571" y="11829"/>
                  <a:pt x="21479" y="11766"/>
                  <a:pt x="21431" y="11779"/>
                </a:cubicBezTo>
                <a:cubicBezTo>
                  <a:pt x="21365" y="11797"/>
                  <a:pt x="21306" y="11818"/>
                  <a:pt x="21241" y="11843"/>
                </a:cubicBezTo>
              </a:path>
              <a:path w="6509" h="3334">
                <a:moveTo>
                  <a:pt x="20510" y="13081"/>
                </a:moveTo>
                <a:cubicBezTo>
                  <a:pt x="20593" y="13069"/>
                  <a:pt x="20676" y="13067"/>
                  <a:pt x="20764" y="13049"/>
                </a:cubicBezTo>
                <a:cubicBezTo>
                  <a:pt x="20886" y="13024"/>
                  <a:pt x="20990" y="12968"/>
                  <a:pt x="21114" y="12954"/>
                </a:cubicBezTo>
                <a:cubicBezTo>
                  <a:pt x="21193" y="12945"/>
                  <a:pt x="21475" y="12925"/>
                  <a:pt x="21495" y="12986"/>
                </a:cubicBezTo>
              </a:path>
              <a:path w="6509" h="3334">
                <a:moveTo>
                  <a:pt x="20415" y="13494"/>
                </a:moveTo>
                <a:cubicBezTo>
                  <a:pt x="20464" y="13531"/>
                  <a:pt x="20480" y="13526"/>
                  <a:pt x="20542" y="13526"/>
                </a:cubicBezTo>
                <a:cubicBezTo>
                  <a:pt x="20595" y="13526"/>
                  <a:pt x="20648" y="13526"/>
                  <a:pt x="20701" y="13526"/>
                </a:cubicBezTo>
              </a:path>
              <a:path w="6509" h="3334">
                <a:moveTo>
                  <a:pt x="20860" y="13335"/>
                </a:moveTo>
                <a:cubicBezTo>
                  <a:pt x="20868" y="13303"/>
                  <a:pt x="20909" y="13247"/>
                  <a:pt x="20923" y="13240"/>
                </a:cubicBezTo>
                <a:cubicBezTo>
                  <a:pt x="20977" y="13213"/>
                  <a:pt x="20999" y="13194"/>
                  <a:pt x="21050" y="13240"/>
                </a:cubicBezTo>
                <a:cubicBezTo>
                  <a:pt x="21102" y="13287"/>
                  <a:pt x="21082" y="13363"/>
                  <a:pt x="21082" y="13430"/>
                </a:cubicBezTo>
                <a:cubicBezTo>
                  <a:pt x="21082" y="13512"/>
                  <a:pt x="21052" y="13587"/>
                  <a:pt x="21018" y="13652"/>
                </a:cubicBezTo>
                <a:cubicBezTo>
                  <a:pt x="20982" y="13721"/>
                  <a:pt x="21006" y="13731"/>
                  <a:pt x="20955" y="13748"/>
                </a:cubicBezTo>
                <a:cubicBezTo>
                  <a:pt x="21004" y="13699"/>
                  <a:pt x="21014" y="13684"/>
                  <a:pt x="21082" y="13684"/>
                </a:cubicBezTo>
                <a:cubicBezTo>
                  <a:pt x="21118" y="13684"/>
                  <a:pt x="21198" y="13741"/>
                  <a:pt x="21209" y="13780"/>
                </a:cubicBezTo>
                <a:cubicBezTo>
                  <a:pt x="21236" y="13874"/>
                  <a:pt x="21191" y="13980"/>
                  <a:pt x="21177" y="14065"/>
                </a:cubicBezTo>
                <a:cubicBezTo>
                  <a:pt x="21165" y="14134"/>
                  <a:pt x="21156" y="14247"/>
                  <a:pt x="21082" y="14288"/>
                </a:cubicBezTo>
                <a:cubicBezTo>
                  <a:pt x="21059" y="14301"/>
                  <a:pt x="20989" y="14337"/>
                  <a:pt x="20955" y="14319"/>
                </a:cubicBezTo>
                <a:cubicBezTo>
                  <a:pt x="20880" y="14279"/>
                  <a:pt x="20869" y="14201"/>
                  <a:pt x="20860" y="14129"/>
                </a:cubicBezTo>
              </a:path>
              <a:path w="6509" h="3334">
                <a:moveTo>
                  <a:pt x="21336" y="13430"/>
                </a:moveTo>
                <a:cubicBezTo>
                  <a:pt x="21269" y="13386"/>
                  <a:pt x="21315" y="13364"/>
                  <a:pt x="21336" y="13303"/>
                </a:cubicBezTo>
                <a:cubicBezTo>
                  <a:pt x="21353" y="13251"/>
                  <a:pt x="21370" y="13172"/>
                  <a:pt x="21431" y="13144"/>
                </a:cubicBezTo>
                <a:cubicBezTo>
                  <a:pt x="21480" y="13122"/>
                  <a:pt x="21526" y="13105"/>
                  <a:pt x="21558" y="13176"/>
                </a:cubicBezTo>
                <a:cubicBezTo>
                  <a:pt x="21619" y="13313"/>
                  <a:pt x="21538" y="13543"/>
                  <a:pt x="21526" y="13684"/>
                </a:cubicBezTo>
                <a:cubicBezTo>
                  <a:pt x="21514" y="13818"/>
                  <a:pt x="21498" y="13969"/>
                  <a:pt x="21463" y="14097"/>
                </a:cubicBezTo>
                <a:cubicBezTo>
                  <a:pt x="21444" y="14166"/>
                  <a:pt x="21415" y="14224"/>
                  <a:pt x="21400" y="14288"/>
                </a:cubicBezTo>
                <a:cubicBezTo>
                  <a:pt x="21435" y="14240"/>
                  <a:pt x="21449" y="14206"/>
                  <a:pt x="21495" y="14160"/>
                </a:cubicBezTo>
                <a:cubicBezTo>
                  <a:pt x="21533" y="14122"/>
                  <a:pt x="21583" y="14123"/>
                  <a:pt x="21622" y="14097"/>
                </a:cubicBezTo>
                <a:cubicBezTo>
                  <a:pt x="21633" y="14086"/>
                  <a:pt x="21643" y="14076"/>
                  <a:pt x="21654" y="14065"/>
                </a:cubicBezTo>
              </a:path>
              <a:path w="6509" h="3334">
                <a:moveTo>
                  <a:pt x="21844" y="12922"/>
                </a:moveTo>
                <a:cubicBezTo>
                  <a:pt x="21907" y="12922"/>
                  <a:pt x="21971" y="12922"/>
                  <a:pt x="22034" y="12922"/>
                </a:cubicBezTo>
              </a:path>
              <a:path w="6509" h="3334">
                <a:moveTo>
                  <a:pt x="21876" y="13303"/>
                </a:moveTo>
                <a:cubicBezTo>
                  <a:pt x="21887" y="13303"/>
                  <a:pt x="21897" y="13303"/>
                  <a:pt x="21908" y="13303"/>
                </a:cubicBezTo>
                <a:cubicBezTo>
                  <a:pt x="21920" y="13266"/>
                  <a:pt x="21962" y="13249"/>
                  <a:pt x="22003" y="13208"/>
                </a:cubicBezTo>
              </a:path>
              <a:path w="6509" h="3334">
                <a:moveTo>
                  <a:pt x="22606" y="12065"/>
                </a:moveTo>
                <a:cubicBezTo>
                  <a:pt x="22606" y="12218"/>
                  <a:pt x="22591" y="12362"/>
                  <a:pt x="22574" y="12510"/>
                </a:cubicBezTo>
                <a:cubicBezTo>
                  <a:pt x="22557" y="12666"/>
                  <a:pt x="22546" y="12830"/>
                  <a:pt x="22542" y="12986"/>
                </a:cubicBezTo>
                <a:cubicBezTo>
                  <a:pt x="22537" y="13148"/>
                  <a:pt x="22511" y="13298"/>
                  <a:pt x="22511" y="13462"/>
                </a:cubicBezTo>
                <a:cubicBezTo>
                  <a:pt x="22511" y="13564"/>
                  <a:pt x="22504" y="13632"/>
                  <a:pt x="22479" y="13716"/>
                </a:cubicBezTo>
                <a:cubicBezTo>
                  <a:pt x="22479" y="13727"/>
                  <a:pt x="22479" y="13737"/>
                  <a:pt x="22479" y="13748"/>
                </a:cubicBezTo>
              </a:path>
              <a:path w="6509" h="3334">
                <a:moveTo>
                  <a:pt x="22701" y="13494"/>
                </a:moveTo>
                <a:cubicBezTo>
                  <a:pt x="22701" y="13556"/>
                  <a:pt x="22722" y="13635"/>
                  <a:pt x="22670" y="13652"/>
                </a:cubicBezTo>
              </a:path>
              <a:path w="6509" h="3334">
                <a:moveTo>
                  <a:pt x="22955" y="12573"/>
                </a:moveTo>
                <a:cubicBezTo>
                  <a:pt x="22955" y="12477"/>
                  <a:pt x="22992" y="12439"/>
                  <a:pt x="23019" y="12351"/>
                </a:cubicBezTo>
                <a:cubicBezTo>
                  <a:pt x="23032" y="12310"/>
                  <a:pt x="23066" y="12245"/>
                  <a:pt x="23114" y="12224"/>
                </a:cubicBezTo>
                <a:cubicBezTo>
                  <a:pt x="23125" y="12224"/>
                  <a:pt x="23135" y="12224"/>
                  <a:pt x="23146" y="12224"/>
                </a:cubicBezTo>
                <a:cubicBezTo>
                  <a:pt x="23168" y="12312"/>
                  <a:pt x="23205" y="12301"/>
                  <a:pt x="23209" y="12414"/>
                </a:cubicBezTo>
                <a:cubicBezTo>
                  <a:pt x="23216" y="12625"/>
                  <a:pt x="23157" y="12875"/>
                  <a:pt x="23114" y="13081"/>
                </a:cubicBezTo>
                <a:cubicBezTo>
                  <a:pt x="23076" y="13265"/>
                  <a:pt x="23040" y="13476"/>
                  <a:pt x="22987" y="13652"/>
                </a:cubicBezTo>
                <a:cubicBezTo>
                  <a:pt x="22980" y="13676"/>
                  <a:pt x="22914" y="13806"/>
                  <a:pt x="22955" y="13748"/>
                </a:cubicBezTo>
                <a:cubicBezTo>
                  <a:pt x="22979" y="13714"/>
                  <a:pt x="23044" y="13688"/>
                  <a:pt x="23082" y="13684"/>
                </a:cubicBezTo>
                <a:cubicBezTo>
                  <a:pt x="23126" y="13679"/>
                  <a:pt x="23126" y="13730"/>
                  <a:pt x="23178" y="13748"/>
                </a:cubicBezTo>
                <a:cubicBezTo>
                  <a:pt x="23229" y="13765"/>
                  <a:pt x="23269" y="13743"/>
                  <a:pt x="23304" y="13716"/>
                </a:cubicBezTo>
              </a:path>
              <a:path w="6509" h="3334">
                <a:moveTo>
                  <a:pt x="23812" y="12224"/>
                </a:moveTo>
                <a:cubicBezTo>
                  <a:pt x="23900" y="12136"/>
                  <a:pt x="23764" y="12280"/>
                  <a:pt x="23749" y="12287"/>
                </a:cubicBezTo>
                <a:cubicBezTo>
                  <a:pt x="23690" y="12312"/>
                  <a:pt x="23621" y="12361"/>
                  <a:pt x="23558" y="12382"/>
                </a:cubicBezTo>
                <a:cubicBezTo>
                  <a:pt x="23513" y="12397"/>
                  <a:pt x="23443" y="12409"/>
                  <a:pt x="23400" y="12414"/>
                </a:cubicBezTo>
                <a:cubicBezTo>
                  <a:pt x="23389" y="12414"/>
                  <a:pt x="23379" y="12414"/>
                  <a:pt x="23368" y="12414"/>
                </a:cubicBezTo>
                <a:cubicBezTo>
                  <a:pt x="23368" y="12495"/>
                  <a:pt x="23396" y="12529"/>
                  <a:pt x="23400" y="12605"/>
                </a:cubicBezTo>
                <a:cubicBezTo>
                  <a:pt x="23407" y="12720"/>
                  <a:pt x="23400" y="12838"/>
                  <a:pt x="23400" y="12954"/>
                </a:cubicBezTo>
                <a:cubicBezTo>
                  <a:pt x="23443" y="12897"/>
                  <a:pt x="23433" y="12854"/>
                  <a:pt x="23463" y="12795"/>
                </a:cubicBezTo>
                <a:cubicBezTo>
                  <a:pt x="23473" y="12775"/>
                  <a:pt x="23541" y="12677"/>
                  <a:pt x="23558" y="12668"/>
                </a:cubicBezTo>
                <a:cubicBezTo>
                  <a:pt x="23606" y="12643"/>
                  <a:pt x="23663" y="12696"/>
                  <a:pt x="23686" y="12732"/>
                </a:cubicBezTo>
                <a:cubicBezTo>
                  <a:pt x="23737" y="12811"/>
                  <a:pt x="23795" y="12926"/>
                  <a:pt x="23812" y="13018"/>
                </a:cubicBezTo>
                <a:cubicBezTo>
                  <a:pt x="23835" y="13140"/>
                  <a:pt x="23835" y="13243"/>
                  <a:pt x="23812" y="13367"/>
                </a:cubicBezTo>
                <a:cubicBezTo>
                  <a:pt x="23787" y="13500"/>
                  <a:pt x="23743" y="13587"/>
                  <a:pt x="23654" y="13684"/>
                </a:cubicBezTo>
                <a:cubicBezTo>
                  <a:pt x="23623" y="13717"/>
                  <a:pt x="23547" y="13777"/>
                  <a:pt x="23495" y="13748"/>
                </a:cubicBezTo>
                <a:cubicBezTo>
                  <a:pt x="23447" y="13721"/>
                  <a:pt x="23463" y="13667"/>
                  <a:pt x="23463" y="13621"/>
                </a:cubicBezTo>
              </a:path>
              <a:path w="6509" h="3334">
                <a:moveTo>
                  <a:pt x="22130" y="12065"/>
                </a:moveTo>
                <a:cubicBezTo>
                  <a:pt x="22119" y="12065"/>
                  <a:pt x="22109" y="12065"/>
                  <a:pt x="22098" y="12065"/>
                </a:cubicBezTo>
                <a:cubicBezTo>
                  <a:pt x="22127" y="12103"/>
                  <a:pt x="22173" y="12135"/>
                  <a:pt x="22193" y="12160"/>
                </a:cubicBezTo>
                <a:cubicBezTo>
                  <a:pt x="22239" y="12217"/>
                  <a:pt x="22242" y="12290"/>
                  <a:pt x="22288" y="12351"/>
                </a:cubicBezTo>
                <a:cubicBezTo>
                  <a:pt x="22319" y="12392"/>
                  <a:pt x="22327" y="12440"/>
                  <a:pt x="22352" y="12478"/>
                </a:cubicBezTo>
                <a:cubicBezTo>
                  <a:pt x="22382" y="12524"/>
                  <a:pt x="22376" y="12528"/>
                  <a:pt x="22416" y="12541"/>
                </a:cubicBezTo>
              </a:path>
              <a:path w="6509" h="3334">
                <a:moveTo>
                  <a:pt x="22384" y="11843"/>
                </a:moveTo>
                <a:cubicBezTo>
                  <a:pt x="22384" y="11928"/>
                  <a:pt x="22336" y="11980"/>
                  <a:pt x="22320" y="12065"/>
                </a:cubicBezTo>
                <a:cubicBezTo>
                  <a:pt x="22297" y="12183"/>
                  <a:pt x="22272" y="12300"/>
                  <a:pt x="22225" y="12414"/>
                </a:cubicBezTo>
                <a:cubicBezTo>
                  <a:pt x="22195" y="12487"/>
                  <a:pt x="22177" y="12560"/>
                  <a:pt x="22162" y="12636"/>
                </a:cubicBezTo>
              </a:path>
              <a:path w="6509" h="3334">
                <a:moveTo>
                  <a:pt x="22479" y="11938"/>
                </a:moveTo>
                <a:cubicBezTo>
                  <a:pt x="22490" y="11938"/>
                  <a:pt x="22500" y="11938"/>
                  <a:pt x="22511" y="11938"/>
                </a:cubicBezTo>
                <a:cubicBezTo>
                  <a:pt x="22523" y="11899"/>
                  <a:pt x="22564" y="11884"/>
                  <a:pt x="22606" y="11843"/>
                </a:cubicBezTo>
              </a:path>
              <a:path w="6509" h="3334">
                <a:moveTo>
                  <a:pt x="22574" y="12065"/>
                </a:moveTo>
                <a:cubicBezTo>
                  <a:pt x="22643" y="12065"/>
                  <a:pt x="22622" y="12049"/>
                  <a:pt x="22670" y="12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11"/>
          <p:cNvSpPr/>
          <p:nvPr/>
        </p:nvSpPr>
        <p:spPr>
          <a:xfrm>
            <a:off x="5908680" y="5246640"/>
            <a:ext cx="949320" cy="514440"/>
          </a:xfrm>
          <a:custGeom>
            <a:avLst/>
            <a:gdLst/>
            <a:ahLst/>
            <a:rect l="l" t="t" r="r" b="b"/>
            <a:pathLst>
              <a:path w="2636" h="1430">
                <a:moveTo>
                  <a:pt x="16446" y="14986"/>
                </a:moveTo>
                <a:cubicBezTo>
                  <a:pt x="16436" y="14986"/>
                  <a:pt x="16425" y="14986"/>
                  <a:pt x="16415" y="14986"/>
                </a:cubicBezTo>
                <a:cubicBezTo>
                  <a:pt x="16449" y="14960"/>
                  <a:pt x="16503" y="14935"/>
                  <a:pt x="16542" y="14922"/>
                </a:cubicBezTo>
                <a:cubicBezTo>
                  <a:pt x="16566" y="14914"/>
                  <a:pt x="16612" y="14922"/>
                  <a:pt x="16637" y="14922"/>
                </a:cubicBezTo>
                <a:cubicBezTo>
                  <a:pt x="16657" y="14982"/>
                  <a:pt x="16681" y="14926"/>
                  <a:pt x="16700" y="14986"/>
                </a:cubicBezTo>
                <a:cubicBezTo>
                  <a:pt x="16711" y="14975"/>
                  <a:pt x="16721" y="14965"/>
                  <a:pt x="16732" y="14954"/>
                </a:cubicBezTo>
              </a:path>
              <a:path w="2636" h="1430">
                <a:moveTo>
                  <a:pt x="16954" y="14573"/>
                </a:moveTo>
                <a:cubicBezTo>
                  <a:pt x="16954" y="14906"/>
                  <a:pt x="16895" y="15317"/>
                  <a:pt x="16986" y="15621"/>
                </a:cubicBezTo>
                <a:cubicBezTo>
                  <a:pt x="16994" y="15646"/>
                  <a:pt x="16986" y="15690"/>
                  <a:pt x="16986" y="15716"/>
                </a:cubicBezTo>
              </a:path>
              <a:path w="2636" h="1430">
                <a:moveTo>
                  <a:pt x="17145" y="14827"/>
                </a:moveTo>
                <a:cubicBezTo>
                  <a:pt x="17145" y="14910"/>
                  <a:pt x="17118" y="14969"/>
                  <a:pt x="17113" y="15050"/>
                </a:cubicBezTo>
                <a:cubicBezTo>
                  <a:pt x="17107" y="15161"/>
                  <a:pt x="17088" y="15261"/>
                  <a:pt x="17082" y="15367"/>
                </a:cubicBezTo>
                <a:cubicBezTo>
                  <a:pt x="17079" y="15414"/>
                  <a:pt x="17093" y="15549"/>
                  <a:pt x="17113" y="15589"/>
                </a:cubicBezTo>
                <a:cubicBezTo>
                  <a:pt x="17136" y="15634"/>
                  <a:pt x="17154" y="15678"/>
                  <a:pt x="17208" y="15684"/>
                </a:cubicBezTo>
                <a:cubicBezTo>
                  <a:pt x="17253" y="15689"/>
                  <a:pt x="17321" y="15674"/>
                  <a:pt x="17336" y="15621"/>
                </a:cubicBezTo>
                <a:cubicBezTo>
                  <a:pt x="17352" y="15567"/>
                  <a:pt x="17348" y="15514"/>
                  <a:pt x="17367" y="15462"/>
                </a:cubicBezTo>
                <a:cubicBezTo>
                  <a:pt x="17394" y="15386"/>
                  <a:pt x="17399" y="15355"/>
                  <a:pt x="17399" y="15272"/>
                </a:cubicBezTo>
                <a:cubicBezTo>
                  <a:pt x="17399" y="15165"/>
                  <a:pt x="17385" y="15249"/>
                  <a:pt x="17367" y="15145"/>
                </a:cubicBezTo>
                <a:cubicBezTo>
                  <a:pt x="17337" y="15217"/>
                  <a:pt x="17328" y="15268"/>
                  <a:pt x="17304" y="15335"/>
                </a:cubicBezTo>
                <a:cubicBezTo>
                  <a:pt x="17274" y="15419"/>
                  <a:pt x="17245" y="15499"/>
                  <a:pt x="17240" y="15589"/>
                </a:cubicBezTo>
                <a:cubicBezTo>
                  <a:pt x="17239" y="15608"/>
                  <a:pt x="17218" y="15743"/>
                  <a:pt x="17272" y="15716"/>
                </a:cubicBezTo>
                <a:cubicBezTo>
                  <a:pt x="17283" y="15705"/>
                  <a:pt x="17293" y="15695"/>
                  <a:pt x="17304" y="15684"/>
                </a:cubicBezTo>
              </a:path>
              <a:path w="2636" h="1430">
                <a:moveTo>
                  <a:pt x="17685" y="14637"/>
                </a:moveTo>
                <a:cubicBezTo>
                  <a:pt x="17641" y="14695"/>
                  <a:pt x="17653" y="14755"/>
                  <a:pt x="17621" y="14827"/>
                </a:cubicBezTo>
                <a:cubicBezTo>
                  <a:pt x="17578" y="14924"/>
                  <a:pt x="17536" y="15039"/>
                  <a:pt x="17526" y="15145"/>
                </a:cubicBezTo>
                <a:cubicBezTo>
                  <a:pt x="17511" y="15295"/>
                  <a:pt x="17494" y="15436"/>
                  <a:pt x="17494" y="15589"/>
                </a:cubicBezTo>
                <a:cubicBezTo>
                  <a:pt x="17494" y="15681"/>
                  <a:pt x="17493" y="15760"/>
                  <a:pt x="17526" y="15843"/>
                </a:cubicBezTo>
                <a:cubicBezTo>
                  <a:pt x="17556" y="15916"/>
                  <a:pt x="17627" y="15930"/>
                  <a:pt x="17653" y="15970"/>
                </a:cubicBezTo>
                <a:cubicBezTo>
                  <a:pt x="17681" y="16012"/>
                  <a:pt x="17658" y="16014"/>
                  <a:pt x="17716" y="15970"/>
                </a:cubicBezTo>
              </a:path>
              <a:path w="2636" h="1430">
                <a:moveTo>
                  <a:pt x="17780" y="15050"/>
                </a:moveTo>
                <a:cubicBezTo>
                  <a:pt x="17744" y="15050"/>
                  <a:pt x="17780" y="15065"/>
                  <a:pt x="17780" y="15145"/>
                </a:cubicBezTo>
                <a:cubicBezTo>
                  <a:pt x="17780" y="15292"/>
                  <a:pt x="17771" y="15421"/>
                  <a:pt x="17748" y="15558"/>
                </a:cubicBezTo>
                <a:cubicBezTo>
                  <a:pt x="17737" y="15624"/>
                  <a:pt x="17744" y="15668"/>
                  <a:pt x="17780" y="15716"/>
                </a:cubicBezTo>
              </a:path>
              <a:path w="2636" h="1430">
                <a:moveTo>
                  <a:pt x="17939" y="15367"/>
                </a:moveTo>
                <a:cubicBezTo>
                  <a:pt x="17928" y="15367"/>
                  <a:pt x="17918" y="15367"/>
                  <a:pt x="17907" y="15367"/>
                </a:cubicBezTo>
              </a:path>
              <a:path w="2636" h="1430">
                <a:moveTo>
                  <a:pt x="17939" y="15367"/>
                </a:moveTo>
                <a:lnTo>
                  <a:pt x="17939" y="15367"/>
                </a:lnTo>
              </a:path>
              <a:path w="2636" h="1430">
                <a:moveTo>
                  <a:pt x="18098" y="15145"/>
                </a:moveTo>
                <a:cubicBezTo>
                  <a:pt x="18098" y="15099"/>
                  <a:pt x="18106" y="15052"/>
                  <a:pt x="18129" y="15018"/>
                </a:cubicBezTo>
                <a:cubicBezTo>
                  <a:pt x="18160" y="14971"/>
                  <a:pt x="18208" y="14934"/>
                  <a:pt x="18256" y="14922"/>
                </a:cubicBezTo>
                <a:cubicBezTo>
                  <a:pt x="18256" y="15001"/>
                  <a:pt x="18242" y="15069"/>
                  <a:pt x="18224" y="15145"/>
                </a:cubicBezTo>
                <a:cubicBezTo>
                  <a:pt x="18196" y="15264"/>
                  <a:pt x="18167" y="15373"/>
                  <a:pt x="18161" y="15494"/>
                </a:cubicBezTo>
                <a:cubicBezTo>
                  <a:pt x="18157" y="15585"/>
                  <a:pt x="18114" y="15595"/>
                  <a:pt x="18129" y="15589"/>
                </a:cubicBezTo>
                <a:cubicBezTo>
                  <a:pt x="18173" y="15571"/>
                  <a:pt x="18208" y="15531"/>
                  <a:pt x="18256" y="15526"/>
                </a:cubicBezTo>
                <a:cubicBezTo>
                  <a:pt x="18292" y="15526"/>
                  <a:pt x="18306" y="15529"/>
                  <a:pt x="18320" y="15558"/>
                </a:cubicBezTo>
              </a:path>
              <a:path w="2636" h="1430">
                <a:moveTo>
                  <a:pt x="18542" y="14891"/>
                </a:moveTo>
                <a:cubicBezTo>
                  <a:pt x="18574" y="14891"/>
                  <a:pt x="18585" y="14891"/>
                  <a:pt x="18574" y="14859"/>
                </a:cubicBezTo>
                <a:cubicBezTo>
                  <a:pt x="18562" y="14906"/>
                  <a:pt x="18527" y="14938"/>
                  <a:pt x="18478" y="14954"/>
                </a:cubicBezTo>
                <a:cubicBezTo>
                  <a:pt x="18454" y="14962"/>
                  <a:pt x="18409" y="14954"/>
                  <a:pt x="18383" y="14954"/>
                </a:cubicBezTo>
                <a:cubicBezTo>
                  <a:pt x="18383" y="15060"/>
                  <a:pt x="18383" y="15166"/>
                  <a:pt x="18383" y="15272"/>
                </a:cubicBezTo>
                <a:cubicBezTo>
                  <a:pt x="18410" y="15237"/>
                  <a:pt x="18442" y="15157"/>
                  <a:pt x="18447" y="15145"/>
                </a:cubicBezTo>
                <a:cubicBezTo>
                  <a:pt x="18447" y="15109"/>
                  <a:pt x="18450" y="15095"/>
                  <a:pt x="18478" y="15081"/>
                </a:cubicBezTo>
                <a:cubicBezTo>
                  <a:pt x="18505" y="15090"/>
                  <a:pt x="18548" y="15108"/>
                  <a:pt x="18574" y="15145"/>
                </a:cubicBezTo>
                <a:cubicBezTo>
                  <a:pt x="18599" y="15180"/>
                  <a:pt x="18634" y="15264"/>
                  <a:pt x="18637" y="15304"/>
                </a:cubicBezTo>
                <a:cubicBezTo>
                  <a:pt x="18642" y="15381"/>
                  <a:pt x="18634" y="15457"/>
                  <a:pt x="18606" y="15526"/>
                </a:cubicBezTo>
                <a:cubicBezTo>
                  <a:pt x="18591" y="15564"/>
                  <a:pt x="18559" y="15644"/>
                  <a:pt x="18542" y="15653"/>
                </a:cubicBezTo>
                <a:cubicBezTo>
                  <a:pt x="18484" y="15682"/>
                  <a:pt x="18457" y="15630"/>
                  <a:pt x="18447" y="15589"/>
                </a:cubicBezTo>
              </a:path>
              <a:path w="2636" h="1430">
                <a:moveTo>
                  <a:pt x="18606" y="14637"/>
                </a:moveTo>
                <a:cubicBezTo>
                  <a:pt x="18677" y="14708"/>
                  <a:pt x="18748" y="14770"/>
                  <a:pt x="18796" y="14859"/>
                </a:cubicBezTo>
                <a:cubicBezTo>
                  <a:pt x="18844" y="14949"/>
                  <a:pt x="18850" y="15108"/>
                  <a:pt x="18860" y="15208"/>
                </a:cubicBezTo>
                <a:cubicBezTo>
                  <a:pt x="18873" y="15333"/>
                  <a:pt x="18842" y="15444"/>
                  <a:pt x="18828" y="15558"/>
                </a:cubicBezTo>
                <a:cubicBezTo>
                  <a:pt x="18816" y="15651"/>
                  <a:pt x="18846" y="15760"/>
                  <a:pt x="18796" y="15843"/>
                </a:cubicBezTo>
                <a:cubicBezTo>
                  <a:pt x="18785" y="15854"/>
                  <a:pt x="18775" y="15864"/>
                  <a:pt x="18764" y="15875"/>
                </a:cubicBezTo>
              </a:path>
              <a:path w="2636" h="1430">
                <a:moveTo>
                  <a:pt x="18860" y="14732"/>
                </a:moveTo>
                <a:cubicBezTo>
                  <a:pt x="18860" y="14801"/>
                  <a:pt x="18875" y="14708"/>
                  <a:pt x="18891" y="14700"/>
                </a:cubicBezTo>
                <a:cubicBezTo>
                  <a:pt x="18933" y="14679"/>
                  <a:pt x="18909" y="14683"/>
                  <a:pt x="18955" y="14668"/>
                </a:cubicBezTo>
                <a:cubicBezTo>
                  <a:pt x="18955" y="14738"/>
                  <a:pt x="18940" y="14759"/>
                  <a:pt x="18923" y="14827"/>
                </a:cubicBezTo>
                <a:cubicBezTo>
                  <a:pt x="18912" y="14872"/>
                  <a:pt x="18896" y="14912"/>
                  <a:pt x="18891" y="14954"/>
                </a:cubicBezTo>
                <a:cubicBezTo>
                  <a:pt x="18891" y="14965"/>
                  <a:pt x="18891" y="14975"/>
                  <a:pt x="18891" y="14986"/>
                </a:cubicBezTo>
                <a:cubicBezTo>
                  <a:pt x="18963" y="14986"/>
                  <a:pt x="18986" y="14970"/>
                  <a:pt x="19018" y="14954"/>
                </a:cubicBezTo>
                <a:cubicBezTo>
                  <a:pt x="19029" y="14954"/>
                  <a:pt x="19039" y="14954"/>
                  <a:pt x="19050" y="14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2"/>
          <p:cNvSpPr/>
          <p:nvPr/>
        </p:nvSpPr>
        <p:spPr>
          <a:xfrm>
            <a:off x="6961320" y="5222880"/>
            <a:ext cx="1336680" cy="434880"/>
          </a:xfrm>
          <a:custGeom>
            <a:avLst/>
            <a:gdLst/>
            <a:ahLst/>
            <a:rect l="l" t="t" r="r" b="b"/>
            <a:pathLst>
              <a:path w="3715" h="1207">
                <a:moveTo>
                  <a:pt x="19494" y="15050"/>
                </a:moveTo>
                <a:cubicBezTo>
                  <a:pt x="19510" y="15114"/>
                  <a:pt x="19526" y="15131"/>
                  <a:pt x="19526" y="15208"/>
                </a:cubicBezTo>
                <a:cubicBezTo>
                  <a:pt x="19526" y="15284"/>
                  <a:pt x="19506" y="15340"/>
                  <a:pt x="19494" y="15399"/>
                </a:cubicBezTo>
                <a:cubicBezTo>
                  <a:pt x="19480" y="15466"/>
                  <a:pt x="19522" y="15506"/>
                  <a:pt x="19463" y="15526"/>
                </a:cubicBezTo>
              </a:path>
              <a:path w="3715" h="1207">
                <a:moveTo>
                  <a:pt x="19336" y="15272"/>
                </a:moveTo>
                <a:cubicBezTo>
                  <a:pt x="19394" y="15272"/>
                  <a:pt x="19411" y="15246"/>
                  <a:pt x="19463" y="15240"/>
                </a:cubicBezTo>
                <a:cubicBezTo>
                  <a:pt x="19472" y="15239"/>
                  <a:pt x="19586" y="15212"/>
                  <a:pt x="19590" y="15208"/>
                </a:cubicBezTo>
                <a:cubicBezTo>
                  <a:pt x="19616" y="15157"/>
                  <a:pt x="19613" y="15136"/>
                  <a:pt x="19653" y="15145"/>
                </a:cubicBezTo>
              </a:path>
              <a:path w="3715" h="1207">
                <a:moveTo>
                  <a:pt x="19907" y="14668"/>
                </a:moveTo>
                <a:cubicBezTo>
                  <a:pt x="19907" y="14727"/>
                  <a:pt x="19886" y="14750"/>
                  <a:pt x="19876" y="14796"/>
                </a:cubicBezTo>
                <a:cubicBezTo>
                  <a:pt x="19861" y="14869"/>
                  <a:pt x="19868" y="14947"/>
                  <a:pt x="19844" y="15018"/>
                </a:cubicBezTo>
                <a:cubicBezTo>
                  <a:pt x="19820" y="15090"/>
                  <a:pt x="19788" y="15164"/>
                  <a:pt x="19780" y="15240"/>
                </a:cubicBezTo>
                <a:cubicBezTo>
                  <a:pt x="19774" y="15297"/>
                  <a:pt x="19774" y="15188"/>
                  <a:pt x="19812" y="15145"/>
                </a:cubicBezTo>
                <a:cubicBezTo>
                  <a:pt x="19832" y="15122"/>
                  <a:pt x="19902" y="15113"/>
                  <a:pt x="19939" y="15113"/>
                </a:cubicBezTo>
                <a:cubicBezTo>
                  <a:pt x="20036" y="15113"/>
                  <a:pt x="19997" y="15171"/>
                  <a:pt x="20034" y="15208"/>
                </a:cubicBezTo>
                <a:cubicBezTo>
                  <a:pt x="20045" y="15208"/>
                  <a:pt x="20055" y="15208"/>
                  <a:pt x="20066" y="15208"/>
                </a:cubicBezTo>
              </a:path>
              <a:path w="3715" h="1207">
                <a:moveTo>
                  <a:pt x="20130" y="14732"/>
                </a:moveTo>
                <a:cubicBezTo>
                  <a:pt x="20130" y="14801"/>
                  <a:pt x="20102" y="14820"/>
                  <a:pt x="20098" y="14891"/>
                </a:cubicBezTo>
                <a:cubicBezTo>
                  <a:pt x="20091" y="15012"/>
                  <a:pt x="20066" y="15114"/>
                  <a:pt x="20066" y="15240"/>
                </a:cubicBezTo>
                <a:cubicBezTo>
                  <a:pt x="20066" y="15356"/>
                  <a:pt x="20066" y="15473"/>
                  <a:pt x="20066" y="15589"/>
                </a:cubicBezTo>
              </a:path>
              <a:path w="3715" h="1207">
                <a:moveTo>
                  <a:pt x="20256" y="14891"/>
                </a:moveTo>
                <a:cubicBezTo>
                  <a:pt x="20256" y="14880"/>
                  <a:pt x="20256" y="14870"/>
                  <a:pt x="20256" y="14859"/>
                </a:cubicBezTo>
              </a:path>
              <a:path w="3715" h="1207">
                <a:moveTo>
                  <a:pt x="20256" y="14891"/>
                </a:moveTo>
                <a:lnTo>
                  <a:pt x="20256" y="14891"/>
                </a:lnTo>
                <a:lnTo>
                  <a:pt x="20256" y="14891"/>
                </a:lnTo>
              </a:path>
              <a:path w="3715" h="1207">
                <a:moveTo>
                  <a:pt x="20256" y="14891"/>
                </a:moveTo>
                <a:cubicBezTo>
                  <a:pt x="20256" y="14961"/>
                  <a:pt x="20229" y="15011"/>
                  <a:pt x="20225" y="15081"/>
                </a:cubicBezTo>
                <a:cubicBezTo>
                  <a:pt x="20220" y="15180"/>
                  <a:pt x="20193" y="15265"/>
                  <a:pt x="20193" y="15367"/>
                </a:cubicBezTo>
                <a:cubicBezTo>
                  <a:pt x="20193" y="15418"/>
                  <a:pt x="20195" y="15479"/>
                  <a:pt x="20225" y="15494"/>
                </a:cubicBezTo>
                <a:cubicBezTo>
                  <a:pt x="20235" y="15494"/>
                  <a:pt x="20246" y="15494"/>
                  <a:pt x="20256" y="15494"/>
                </a:cubicBezTo>
                <a:cubicBezTo>
                  <a:pt x="20279" y="15486"/>
                  <a:pt x="20335" y="15438"/>
                  <a:pt x="20352" y="15399"/>
                </a:cubicBezTo>
                <a:cubicBezTo>
                  <a:pt x="20372" y="15354"/>
                  <a:pt x="20409" y="15250"/>
                  <a:pt x="20415" y="15208"/>
                </a:cubicBezTo>
                <a:cubicBezTo>
                  <a:pt x="20421" y="15165"/>
                  <a:pt x="20425" y="15013"/>
                  <a:pt x="20384" y="14986"/>
                </a:cubicBezTo>
                <a:cubicBezTo>
                  <a:pt x="20363" y="14972"/>
                  <a:pt x="20281" y="14960"/>
                  <a:pt x="20256" y="14954"/>
                </a:cubicBezTo>
              </a:path>
              <a:path w="3715" h="1207">
                <a:moveTo>
                  <a:pt x="20669" y="14573"/>
                </a:moveTo>
                <a:cubicBezTo>
                  <a:pt x="20609" y="14649"/>
                  <a:pt x="20582" y="14708"/>
                  <a:pt x="20542" y="14796"/>
                </a:cubicBezTo>
                <a:cubicBezTo>
                  <a:pt x="20487" y="14917"/>
                  <a:pt x="20471" y="15019"/>
                  <a:pt x="20447" y="15145"/>
                </a:cubicBezTo>
                <a:cubicBezTo>
                  <a:pt x="20428" y="15246"/>
                  <a:pt x="20385" y="15388"/>
                  <a:pt x="20415" y="15494"/>
                </a:cubicBezTo>
                <a:cubicBezTo>
                  <a:pt x="20432" y="15555"/>
                  <a:pt x="20454" y="15602"/>
                  <a:pt x="20510" y="15621"/>
                </a:cubicBezTo>
                <a:cubicBezTo>
                  <a:pt x="20556" y="15636"/>
                  <a:pt x="20574" y="15613"/>
                  <a:pt x="20606" y="15589"/>
                </a:cubicBezTo>
              </a:path>
              <a:path w="3715" h="1207">
                <a:moveTo>
                  <a:pt x="20733" y="14859"/>
                </a:moveTo>
                <a:cubicBezTo>
                  <a:pt x="20733" y="14944"/>
                  <a:pt x="20714" y="15003"/>
                  <a:pt x="20701" y="15081"/>
                </a:cubicBezTo>
                <a:cubicBezTo>
                  <a:pt x="20683" y="15186"/>
                  <a:pt x="20666" y="15436"/>
                  <a:pt x="20733" y="15526"/>
                </a:cubicBezTo>
              </a:path>
              <a:path w="3715" h="1207">
                <a:moveTo>
                  <a:pt x="20860" y="14986"/>
                </a:moveTo>
                <a:cubicBezTo>
                  <a:pt x="20868" y="14954"/>
                  <a:pt x="20887" y="14877"/>
                  <a:pt x="20923" y="14859"/>
                </a:cubicBezTo>
                <a:cubicBezTo>
                  <a:pt x="20951" y="14845"/>
                  <a:pt x="20986" y="14835"/>
                  <a:pt x="21018" y="14827"/>
                </a:cubicBezTo>
                <a:cubicBezTo>
                  <a:pt x="21018" y="14891"/>
                  <a:pt x="21004" y="14902"/>
                  <a:pt x="20987" y="14954"/>
                </a:cubicBezTo>
                <a:cubicBezTo>
                  <a:pt x="20983" y="14965"/>
                  <a:pt x="20959" y="15077"/>
                  <a:pt x="20955" y="15081"/>
                </a:cubicBezTo>
                <a:cubicBezTo>
                  <a:pt x="20912" y="15114"/>
                  <a:pt x="20923" y="15127"/>
                  <a:pt x="20923" y="15208"/>
                </a:cubicBezTo>
                <a:cubicBezTo>
                  <a:pt x="20923" y="15272"/>
                  <a:pt x="20905" y="15278"/>
                  <a:pt x="20892" y="15304"/>
                </a:cubicBezTo>
                <a:cubicBezTo>
                  <a:pt x="20892" y="15314"/>
                  <a:pt x="20892" y="15325"/>
                  <a:pt x="20892" y="15335"/>
                </a:cubicBezTo>
                <a:cubicBezTo>
                  <a:pt x="20934" y="15321"/>
                  <a:pt x="20932" y="15291"/>
                  <a:pt x="20987" y="15272"/>
                </a:cubicBezTo>
                <a:cubicBezTo>
                  <a:pt x="21023" y="15272"/>
                  <a:pt x="21036" y="15269"/>
                  <a:pt x="21050" y="15240"/>
                </a:cubicBezTo>
                <a:cubicBezTo>
                  <a:pt x="21098" y="15276"/>
                  <a:pt x="21105" y="15290"/>
                  <a:pt x="21146" y="15304"/>
                </a:cubicBezTo>
              </a:path>
              <a:path w="3715" h="1207">
                <a:moveTo>
                  <a:pt x="20860" y="15304"/>
                </a:moveTo>
                <a:cubicBezTo>
                  <a:pt x="20871" y="15314"/>
                  <a:pt x="20881" y="15325"/>
                  <a:pt x="20892" y="15335"/>
                </a:cubicBezTo>
              </a:path>
              <a:path w="3715" h="1207">
                <a:moveTo>
                  <a:pt x="21368" y="14700"/>
                </a:moveTo>
                <a:cubicBezTo>
                  <a:pt x="21354" y="14743"/>
                  <a:pt x="21317" y="14738"/>
                  <a:pt x="21304" y="14764"/>
                </a:cubicBezTo>
                <a:cubicBezTo>
                  <a:pt x="21293" y="14786"/>
                  <a:pt x="21251" y="14841"/>
                  <a:pt x="21209" y="14859"/>
                </a:cubicBezTo>
                <a:cubicBezTo>
                  <a:pt x="21141" y="14889"/>
                  <a:pt x="21132" y="14824"/>
                  <a:pt x="21146" y="14859"/>
                </a:cubicBezTo>
                <a:cubicBezTo>
                  <a:pt x="21171" y="14922"/>
                  <a:pt x="21133" y="14957"/>
                  <a:pt x="21177" y="15018"/>
                </a:cubicBezTo>
                <a:cubicBezTo>
                  <a:pt x="21152" y="15057"/>
                  <a:pt x="21160" y="15093"/>
                  <a:pt x="21177" y="15050"/>
                </a:cubicBezTo>
                <a:cubicBezTo>
                  <a:pt x="21192" y="15012"/>
                  <a:pt x="21179" y="14969"/>
                  <a:pt x="21209" y="14954"/>
                </a:cubicBezTo>
                <a:cubicBezTo>
                  <a:pt x="21265" y="14926"/>
                  <a:pt x="21328" y="14973"/>
                  <a:pt x="21368" y="14986"/>
                </a:cubicBezTo>
                <a:cubicBezTo>
                  <a:pt x="21411" y="15000"/>
                  <a:pt x="21415" y="15062"/>
                  <a:pt x="21431" y="15113"/>
                </a:cubicBezTo>
                <a:cubicBezTo>
                  <a:pt x="21469" y="15232"/>
                  <a:pt x="21461" y="15235"/>
                  <a:pt x="21431" y="15335"/>
                </a:cubicBezTo>
                <a:cubicBezTo>
                  <a:pt x="21424" y="15358"/>
                  <a:pt x="21382" y="15452"/>
                  <a:pt x="21368" y="15462"/>
                </a:cubicBezTo>
                <a:cubicBezTo>
                  <a:pt x="21329" y="15488"/>
                  <a:pt x="21276" y="15462"/>
                  <a:pt x="21272" y="15430"/>
                </a:cubicBezTo>
                <a:cubicBezTo>
                  <a:pt x="21272" y="15420"/>
                  <a:pt x="21272" y="15409"/>
                  <a:pt x="21272" y="15399"/>
                </a:cubicBezTo>
              </a:path>
              <a:path w="3715" h="1207">
                <a:moveTo>
                  <a:pt x="21463" y="14573"/>
                </a:moveTo>
                <a:cubicBezTo>
                  <a:pt x="21471" y="14596"/>
                  <a:pt x="21518" y="14651"/>
                  <a:pt x="21558" y="14668"/>
                </a:cubicBezTo>
                <a:cubicBezTo>
                  <a:pt x="21618" y="14694"/>
                  <a:pt x="21647" y="14733"/>
                  <a:pt x="21685" y="14796"/>
                </a:cubicBezTo>
                <a:cubicBezTo>
                  <a:pt x="21746" y="14898"/>
                  <a:pt x="21749" y="14963"/>
                  <a:pt x="21749" y="15081"/>
                </a:cubicBezTo>
                <a:cubicBezTo>
                  <a:pt x="21749" y="15256"/>
                  <a:pt x="21709" y="15362"/>
                  <a:pt x="21685" y="15526"/>
                </a:cubicBezTo>
                <a:cubicBezTo>
                  <a:pt x="21674" y="15602"/>
                  <a:pt x="21668" y="15777"/>
                  <a:pt x="21622" y="15716"/>
                </a:cubicBezTo>
                <a:cubicBezTo>
                  <a:pt x="21622" y="15705"/>
                  <a:pt x="21622" y="15695"/>
                  <a:pt x="21622" y="15684"/>
                </a:cubicBezTo>
              </a:path>
              <a:path w="3715" h="1207">
                <a:moveTo>
                  <a:pt x="21908" y="14796"/>
                </a:moveTo>
                <a:cubicBezTo>
                  <a:pt x="21918" y="14785"/>
                  <a:pt x="21929" y="14775"/>
                  <a:pt x="21939" y="14764"/>
                </a:cubicBezTo>
              </a:path>
              <a:path w="3715" h="1207">
                <a:moveTo>
                  <a:pt x="21908" y="14796"/>
                </a:moveTo>
                <a:cubicBezTo>
                  <a:pt x="21929" y="14796"/>
                  <a:pt x="21950" y="14796"/>
                  <a:pt x="21971" y="14796"/>
                </a:cubicBezTo>
              </a:path>
              <a:path w="3715" h="1207">
                <a:moveTo>
                  <a:pt x="21971" y="14796"/>
                </a:moveTo>
                <a:cubicBezTo>
                  <a:pt x="21932" y="14860"/>
                  <a:pt x="21939" y="14907"/>
                  <a:pt x="21939" y="14986"/>
                </a:cubicBezTo>
                <a:cubicBezTo>
                  <a:pt x="21939" y="15100"/>
                  <a:pt x="21924" y="15198"/>
                  <a:pt x="21908" y="15304"/>
                </a:cubicBezTo>
                <a:cubicBezTo>
                  <a:pt x="21902" y="15342"/>
                  <a:pt x="21908" y="15391"/>
                  <a:pt x="21908" y="15430"/>
                </a:cubicBezTo>
              </a:path>
              <a:path w="3715" h="1207">
                <a:moveTo>
                  <a:pt x="21812" y="15050"/>
                </a:moveTo>
                <a:cubicBezTo>
                  <a:pt x="21846" y="15058"/>
                  <a:pt x="21898" y="15103"/>
                  <a:pt x="21939" y="15081"/>
                </a:cubicBezTo>
                <a:cubicBezTo>
                  <a:pt x="21971" y="15064"/>
                  <a:pt x="22081" y="15043"/>
                  <a:pt x="22098" y="15018"/>
                </a:cubicBezTo>
                <a:cubicBezTo>
                  <a:pt x="22098" y="15007"/>
                  <a:pt x="22098" y="14997"/>
                  <a:pt x="22098" y="14986"/>
                </a:cubicBezTo>
              </a:path>
              <a:path w="3715" h="1207">
                <a:moveTo>
                  <a:pt x="22257" y="14510"/>
                </a:moveTo>
                <a:cubicBezTo>
                  <a:pt x="22242" y="14582"/>
                  <a:pt x="22202" y="14660"/>
                  <a:pt x="22193" y="14732"/>
                </a:cubicBezTo>
                <a:cubicBezTo>
                  <a:pt x="22176" y="14861"/>
                  <a:pt x="22162" y="14981"/>
                  <a:pt x="22162" y="15113"/>
                </a:cubicBezTo>
                <a:cubicBezTo>
                  <a:pt x="22162" y="15198"/>
                  <a:pt x="22140" y="15300"/>
                  <a:pt x="22193" y="15367"/>
                </a:cubicBezTo>
                <a:cubicBezTo>
                  <a:pt x="22245" y="15433"/>
                  <a:pt x="22287" y="15410"/>
                  <a:pt x="22352" y="15399"/>
                </a:cubicBezTo>
                <a:cubicBezTo>
                  <a:pt x="22424" y="15387"/>
                  <a:pt x="22432" y="15324"/>
                  <a:pt x="22479" y="15272"/>
                </a:cubicBezTo>
                <a:cubicBezTo>
                  <a:pt x="22526" y="15219"/>
                  <a:pt x="22516" y="15165"/>
                  <a:pt x="22511" y="15145"/>
                </a:cubicBezTo>
                <a:cubicBezTo>
                  <a:pt x="22511" y="15109"/>
                  <a:pt x="22508" y="15095"/>
                  <a:pt x="22479" y="15081"/>
                </a:cubicBezTo>
                <a:cubicBezTo>
                  <a:pt x="22432" y="15097"/>
                  <a:pt x="22398" y="15172"/>
                  <a:pt x="22384" y="15240"/>
                </a:cubicBezTo>
                <a:cubicBezTo>
                  <a:pt x="22363" y="15347"/>
                  <a:pt x="22352" y="15447"/>
                  <a:pt x="22352" y="15558"/>
                </a:cubicBezTo>
                <a:cubicBezTo>
                  <a:pt x="22352" y="15579"/>
                  <a:pt x="22352" y="15600"/>
                  <a:pt x="22352" y="15621"/>
                </a:cubicBezTo>
              </a:path>
              <a:path w="3715" h="1207">
                <a:moveTo>
                  <a:pt x="22860" y="14700"/>
                </a:moveTo>
                <a:cubicBezTo>
                  <a:pt x="22791" y="14700"/>
                  <a:pt x="22812" y="14716"/>
                  <a:pt x="22765" y="14732"/>
                </a:cubicBezTo>
                <a:cubicBezTo>
                  <a:pt x="22809" y="14762"/>
                  <a:pt x="22805" y="14732"/>
                  <a:pt x="22892" y="14732"/>
                </a:cubicBezTo>
                <a:cubicBezTo>
                  <a:pt x="22960" y="14732"/>
                  <a:pt x="22997" y="14724"/>
                  <a:pt x="23050" y="14764"/>
                </a:cubicBezTo>
              </a:path>
              <a:path w="3715" h="1207">
                <a:moveTo>
                  <a:pt x="22701" y="15018"/>
                </a:moveTo>
                <a:cubicBezTo>
                  <a:pt x="22808" y="15018"/>
                  <a:pt x="22968" y="14987"/>
                  <a:pt x="23050" y="15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3"/>
          <p:cNvSpPr/>
          <p:nvPr/>
        </p:nvSpPr>
        <p:spPr>
          <a:xfrm>
            <a:off x="8423280" y="5064120"/>
            <a:ext cx="241200" cy="411120"/>
          </a:xfrm>
          <a:custGeom>
            <a:avLst/>
            <a:gdLst/>
            <a:ahLst/>
            <a:rect l="l" t="t" r="r" b="b"/>
            <a:pathLst>
              <a:path w="667" h="1144">
                <a:moveTo>
                  <a:pt x="23432" y="14446"/>
                </a:moveTo>
                <a:cubicBezTo>
                  <a:pt x="23362" y="14423"/>
                  <a:pt x="23415" y="14401"/>
                  <a:pt x="23432" y="14351"/>
                </a:cubicBezTo>
                <a:cubicBezTo>
                  <a:pt x="23456" y="14280"/>
                  <a:pt x="23480" y="14224"/>
                  <a:pt x="23558" y="14192"/>
                </a:cubicBezTo>
                <a:cubicBezTo>
                  <a:pt x="23590" y="14192"/>
                  <a:pt x="23601" y="14192"/>
                  <a:pt x="23622" y="14192"/>
                </a:cubicBezTo>
                <a:cubicBezTo>
                  <a:pt x="23670" y="14208"/>
                  <a:pt x="23668" y="14288"/>
                  <a:pt x="23654" y="14351"/>
                </a:cubicBezTo>
                <a:cubicBezTo>
                  <a:pt x="23628" y="14468"/>
                  <a:pt x="23611" y="14560"/>
                  <a:pt x="23558" y="14668"/>
                </a:cubicBezTo>
                <a:cubicBezTo>
                  <a:pt x="23531" y="14724"/>
                  <a:pt x="23527" y="14739"/>
                  <a:pt x="23495" y="14764"/>
                </a:cubicBezTo>
                <a:cubicBezTo>
                  <a:pt x="23495" y="14669"/>
                  <a:pt x="23526" y="14677"/>
                  <a:pt x="23558" y="14605"/>
                </a:cubicBezTo>
                <a:cubicBezTo>
                  <a:pt x="23584" y="14545"/>
                  <a:pt x="23609" y="14529"/>
                  <a:pt x="23686" y="14510"/>
                </a:cubicBezTo>
                <a:cubicBezTo>
                  <a:pt x="23764" y="14490"/>
                  <a:pt x="23800" y="14605"/>
                  <a:pt x="23812" y="14637"/>
                </a:cubicBezTo>
                <a:cubicBezTo>
                  <a:pt x="23855" y="14751"/>
                  <a:pt x="23831" y="14780"/>
                  <a:pt x="23812" y="14891"/>
                </a:cubicBezTo>
                <a:cubicBezTo>
                  <a:pt x="23797" y="14981"/>
                  <a:pt x="23780" y="15042"/>
                  <a:pt x="23717" y="15113"/>
                </a:cubicBezTo>
                <a:cubicBezTo>
                  <a:pt x="23640" y="15199"/>
                  <a:pt x="23650" y="15163"/>
                  <a:pt x="23622" y="15145"/>
                </a:cubicBezTo>
                <a:cubicBezTo>
                  <a:pt x="23586" y="15145"/>
                  <a:pt x="23572" y="15142"/>
                  <a:pt x="23558" y="15113"/>
                </a:cubicBezTo>
              </a:path>
              <a:path w="667" h="1144">
                <a:moveTo>
                  <a:pt x="24035" y="14065"/>
                </a:moveTo>
                <a:cubicBezTo>
                  <a:pt x="24079" y="14125"/>
                  <a:pt x="24066" y="14178"/>
                  <a:pt x="24066" y="14256"/>
                </a:cubicBezTo>
                <a:cubicBezTo>
                  <a:pt x="24066" y="14408"/>
                  <a:pt x="24018" y="14550"/>
                  <a:pt x="24003" y="14700"/>
                </a:cubicBezTo>
                <a:cubicBezTo>
                  <a:pt x="23988" y="14848"/>
                  <a:pt x="23982" y="14997"/>
                  <a:pt x="23971" y="15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14"/>
          <p:cNvSpPr/>
          <p:nvPr/>
        </p:nvSpPr>
        <p:spPr>
          <a:xfrm>
            <a:off x="8023320" y="5510160"/>
            <a:ext cx="984240" cy="844560"/>
          </a:xfrm>
          <a:custGeom>
            <a:avLst/>
            <a:gdLst/>
            <a:ahLst/>
            <a:rect l="l" t="t" r="r" b="b"/>
            <a:pathLst>
              <a:path w="2732" h="2350">
                <a:moveTo>
                  <a:pt x="22733" y="15780"/>
                </a:moveTo>
                <a:cubicBezTo>
                  <a:pt x="22694" y="15847"/>
                  <a:pt x="22664" y="15907"/>
                  <a:pt x="22606" y="15970"/>
                </a:cubicBezTo>
                <a:cubicBezTo>
                  <a:pt x="22540" y="16041"/>
                  <a:pt x="22511" y="16133"/>
                  <a:pt x="22479" y="16224"/>
                </a:cubicBezTo>
                <a:cubicBezTo>
                  <a:pt x="22429" y="16367"/>
                  <a:pt x="22338" y="16480"/>
                  <a:pt x="22320" y="16637"/>
                </a:cubicBezTo>
                <a:cubicBezTo>
                  <a:pt x="22303" y="16786"/>
                  <a:pt x="22288" y="16931"/>
                  <a:pt x="22288" y="17082"/>
                </a:cubicBezTo>
                <a:cubicBezTo>
                  <a:pt x="22288" y="17190"/>
                  <a:pt x="22308" y="17302"/>
                  <a:pt x="22352" y="17399"/>
                </a:cubicBezTo>
                <a:cubicBezTo>
                  <a:pt x="22389" y="17481"/>
                  <a:pt x="22382" y="17525"/>
                  <a:pt x="22447" y="17590"/>
                </a:cubicBezTo>
                <a:cubicBezTo>
                  <a:pt x="22484" y="17626"/>
                  <a:pt x="22502" y="17621"/>
                  <a:pt x="22542" y="17653"/>
                </a:cubicBezTo>
              </a:path>
              <a:path w="2732" h="2350">
                <a:moveTo>
                  <a:pt x="22670" y="16446"/>
                </a:moveTo>
                <a:cubicBezTo>
                  <a:pt x="22670" y="16732"/>
                  <a:pt x="22670" y="17018"/>
                  <a:pt x="22670" y="17304"/>
                </a:cubicBezTo>
              </a:path>
              <a:path w="2732" h="2350">
                <a:moveTo>
                  <a:pt x="22955" y="17082"/>
                </a:moveTo>
                <a:cubicBezTo>
                  <a:pt x="22955" y="17124"/>
                  <a:pt x="22955" y="17166"/>
                  <a:pt x="22955" y="17208"/>
                </a:cubicBezTo>
              </a:path>
              <a:path w="2732" h="2350">
                <a:moveTo>
                  <a:pt x="22955" y="16510"/>
                </a:moveTo>
                <a:cubicBezTo>
                  <a:pt x="22990" y="16452"/>
                  <a:pt x="22974" y="16402"/>
                  <a:pt x="23019" y="16351"/>
                </a:cubicBezTo>
                <a:cubicBezTo>
                  <a:pt x="23053" y="16313"/>
                  <a:pt x="23059" y="16248"/>
                  <a:pt x="23114" y="16224"/>
                </a:cubicBezTo>
                <a:cubicBezTo>
                  <a:pt x="23158" y="16205"/>
                  <a:pt x="23144" y="16192"/>
                  <a:pt x="23209" y="16192"/>
                </a:cubicBezTo>
                <a:cubicBezTo>
                  <a:pt x="23220" y="16192"/>
                  <a:pt x="23230" y="16192"/>
                  <a:pt x="23241" y="16192"/>
                </a:cubicBezTo>
                <a:cubicBezTo>
                  <a:pt x="23241" y="16367"/>
                  <a:pt x="23228" y="16531"/>
                  <a:pt x="23209" y="16700"/>
                </a:cubicBezTo>
                <a:cubicBezTo>
                  <a:pt x="23198" y="16794"/>
                  <a:pt x="23184" y="16896"/>
                  <a:pt x="23178" y="16986"/>
                </a:cubicBezTo>
                <a:cubicBezTo>
                  <a:pt x="23178" y="17007"/>
                  <a:pt x="23178" y="17029"/>
                  <a:pt x="23178" y="17050"/>
                </a:cubicBezTo>
                <a:cubicBezTo>
                  <a:pt x="23220" y="17018"/>
                  <a:pt x="23235" y="16991"/>
                  <a:pt x="23273" y="16986"/>
                </a:cubicBezTo>
                <a:cubicBezTo>
                  <a:pt x="23315" y="16981"/>
                  <a:pt x="23342" y="16985"/>
                  <a:pt x="23368" y="17018"/>
                </a:cubicBezTo>
                <a:cubicBezTo>
                  <a:pt x="23396" y="17053"/>
                  <a:pt x="23367" y="17050"/>
                  <a:pt x="23432" y="17050"/>
                </a:cubicBezTo>
              </a:path>
              <a:path w="2732" h="2350">
                <a:moveTo>
                  <a:pt x="23717" y="16097"/>
                </a:moveTo>
                <a:cubicBezTo>
                  <a:pt x="23735" y="16043"/>
                  <a:pt x="23768" y="16059"/>
                  <a:pt x="23749" y="16066"/>
                </a:cubicBezTo>
                <a:cubicBezTo>
                  <a:pt x="23716" y="16079"/>
                  <a:pt x="23654" y="16087"/>
                  <a:pt x="23622" y="16097"/>
                </a:cubicBezTo>
                <a:cubicBezTo>
                  <a:pt x="23588" y="16108"/>
                  <a:pt x="23531" y="16097"/>
                  <a:pt x="23495" y="16097"/>
                </a:cubicBezTo>
                <a:cubicBezTo>
                  <a:pt x="23495" y="16224"/>
                  <a:pt x="23495" y="16351"/>
                  <a:pt x="23495" y="16478"/>
                </a:cubicBezTo>
                <a:cubicBezTo>
                  <a:pt x="23502" y="16458"/>
                  <a:pt x="23525" y="16400"/>
                  <a:pt x="23558" y="16383"/>
                </a:cubicBezTo>
                <a:cubicBezTo>
                  <a:pt x="23590" y="16383"/>
                  <a:pt x="23601" y="16383"/>
                  <a:pt x="23590" y="16351"/>
                </a:cubicBezTo>
                <a:cubicBezTo>
                  <a:pt x="23635" y="16396"/>
                  <a:pt x="23664" y="16426"/>
                  <a:pt x="23686" y="16478"/>
                </a:cubicBezTo>
                <a:cubicBezTo>
                  <a:pt x="23717" y="16552"/>
                  <a:pt x="23717" y="16588"/>
                  <a:pt x="23717" y="16669"/>
                </a:cubicBezTo>
                <a:cubicBezTo>
                  <a:pt x="23717" y="16753"/>
                  <a:pt x="23705" y="16860"/>
                  <a:pt x="23654" y="16923"/>
                </a:cubicBezTo>
                <a:cubicBezTo>
                  <a:pt x="23631" y="16951"/>
                  <a:pt x="23568" y="17003"/>
                  <a:pt x="23558" y="17018"/>
                </a:cubicBezTo>
                <a:cubicBezTo>
                  <a:pt x="23533" y="17056"/>
                  <a:pt x="23558" y="17034"/>
                  <a:pt x="23558" y="16986"/>
                </a:cubicBezTo>
              </a:path>
              <a:path w="2732" h="2350">
                <a:moveTo>
                  <a:pt x="23971" y="16669"/>
                </a:moveTo>
                <a:cubicBezTo>
                  <a:pt x="23957" y="16739"/>
                  <a:pt x="23940" y="16784"/>
                  <a:pt x="23940" y="16859"/>
                </a:cubicBezTo>
                <a:cubicBezTo>
                  <a:pt x="23940" y="16965"/>
                  <a:pt x="23940" y="17071"/>
                  <a:pt x="23940" y="17177"/>
                </a:cubicBezTo>
              </a:path>
              <a:path w="2732" h="2350">
                <a:moveTo>
                  <a:pt x="23971" y="16097"/>
                </a:moveTo>
                <a:cubicBezTo>
                  <a:pt x="24040" y="16097"/>
                  <a:pt x="24068" y="16106"/>
                  <a:pt x="24098" y="16066"/>
                </a:cubicBezTo>
                <a:cubicBezTo>
                  <a:pt x="24133" y="16019"/>
                  <a:pt x="24158" y="15978"/>
                  <a:pt x="24194" y="15938"/>
                </a:cubicBezTo>
                <a:cubicBezTo>
                  <a:pt x="24235" y="15892"/>
                  <a:pt x="24209" y="15891"/>
                  <a:pt x="24257" y="15875"/>
                </a:cubicBezTo>
                <a:cubicBezTo>
                  <a:pt x="24257" y="15932"/>
                  <a:pt x="24246" y="16019"/>
                  <a:pt x="24225" y="16066"/>
                </a:cubicBezTo>
                <a:cubicBezTo>
                  <a:pt x="24191" y="16141"/>
                  <a:pt x="24150" y="16203"/>
                  <a:pt x="24130" y="16288"/>
                </a:cubicBezTo>
                <a:cubicBezTo>
                  <a:pt x="24114" y="16356"/>
                  <a:pt x="24156" y="16241"/>
                  <a:pt x="24194" y="16224"/>
                </a:cubicBezTo>
                <a:cubicBezTo>
                  <a:pt x="24243" y="16202"/>
                  <a:pt x="24273" y="16192"/>
                  <a:pt x="24320" y="16224"/>
                </a:cubicBezTo>
                <a:cubicBezTo>
                  <a:pt x="24367" y="16256"/>
                  <a:pt x="24381" y="16332"/>
                  <a:pt x="24384" y="16383"/>
                </a:cubicBezTo>
                <a:cubicBezTo>
                  <a:pt x="24389" y="16474"/>
                  <a:pt x="24340" y="16552"/>
                  <a:pt x="24320" y="16637"/>
                </a:cubicBezTo>
                <a:cubicBezTo>
                  <a:pt x="24307" y="16692"/>
                  <a:pt x="24290" y="16742"/>
                  <a:pt x="24257" y="16764"/>
                </a:cubicBezTo>
                <a:cubicBezTo>
                  <a:pt x="24227" y="16734"/>
                  <a:pt x="24225" y="16705"/>
                  <a:pt x="24225" y="16637"/>
                </a:cubicBezTo>
              </a:path>
              <a:path w="2732" h="2350">
                <a:moveTo>
                  <a:pt x="24543" y="15843"/>
                </a:moveTo>
                <a:cubicBezTo>
                  <a:pt x="24588" y="15920"/>
                  <a:pt x="24574" y="16002"/>
                  <a:pt x="24574" y="16097"/>
                </a:cubicBezTo>
                <a:cubicBezTo>
                  <a:pt x="24574" y="16256"/>
                  <a:pt x="24574" y="16415"/>
                  <a:pt x="24574" y="16574"/>
                </a:cubicBezTo>
              </a:path>
              <a:path w="2732" h="2350">
                <a:moveTo>
                  <a:pt x="24574" y="15304"/>
                </a:moveTo>
                <a:cubicBezTo>
                  <a:pt x="24620" y="15304"/>
                  <a:pt x="24668" y="15312"/>
                  <a:pt x="24702" y="15335"/>
                </a:cubicBezTo>
                <a:cubicBezTo>
                  <a:pt x="24773" y="15383"/>
                  <a:pt x="24803" y="15433"/>
                  <a:pt x="24860" y="15494"/>
                </a:cubicBezTo>
                <a:cubicBezTo>
                  <a:pt x="24951" y="15592"/>
                  <a:pt x="24973" y="15712"/>
                  <a:pt x="24987" y="15843"/>
                </a:cubicBezTo>
                <a:cubicBezTo>
                  <a:pt x="25004" y="15995"/>
                  <a:pt x="25022" y="16104"/>
                  <a:pt x="24987" y="16256"/>
                </a:cubicBezTo>
              </a:path>
              <a:path w="2732" h="2350">
                <a:moveTo>
                  <a:pt x="24924" y="16574"/>
                </a:moveTo>
                <a:cubicBezTo>
                  <a:pt x="24888" y="16681"/>
                  <a:pt x="24829" y="16785"/>
                  <a:pt x="24797" y="16891"/>
                </a:cubicBezTo>
                <a:cubicBezTo>
                  <a:pt x="24784" y="16932"/>
                  <a:pt x="24753" y="16941"/>
                  <a:pt x="24702" y="16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15"/>
          <p:cNvSpPr/>
          <p:nvPr/>
        </p:nvSpPr>
        <p:spPr>
          <a:xfrm>
            <a:off x="2892600" y="4206960"/>
            <a:ext cx="3429000" cy="206280"/>
          </a:xfrm>
          <a:custGeom>
            <a:avLst/>
            <a:gdLst/>
            <a:ahLst/>
            <a:rect l="l" t="t" r="r" b="b"/>
            <a:pathLst>
              <a:path w="9526" h="573">
                <a:moveTo>
                  <a:pt x="8192" y="11843"/>
                </a:moveTo>
                <a:cubicBezTo>
                  <a:pt x="8236" y="11821"/>
                  <a:pt x="8251" y="11827"/>
                  <a:pt x="8287" y="11811"/>
                </a:cubicBezTo>
                <a:cubicBezTo>
                  <a:pt x="8295" y="11808"/>
                  <a:pt x="8348" y="11758"/>
                  <a:pt x="8382" y="11748"/>
                </a:cubicBezTo>
                <a:cubicBezTo>
                  <a:pt x="8433" y="11732"/>
                  <a:pt x="8523" y="11721"/>
                  <a:pt x="8572" y="11716"/>
                </a:cubicBezTo>
                <a:cubicBezTo>
                  <a:pt x="8655" y="11708"/>
                  <a:pt x="8750" y="11690"/>
                  <a:pt x="8826" y="11684"/>
                </a:cubicBezTo>
                <a:cubicBezTo>
                  <a:pt x="9446" y="11632"/>
                  <a:pt x="10151" y="11648"/>
                  <a:pt x="10763" y="11716"/>
                </a:cubicBezTo>
                <a:cubicBezTo>
                  <a:pt x="10996" y="11742"/>
                  <a:pt x="11229" y="11724"/>
                  <a:pt x="11462" y="11748"/>
                </a:cubicBezTo>
                <a:cubicBezTo>
                  <a:pt x="11777" y="11780"/>
                  <a:pt x="12096" y="11805"/>
                  <a:pt x="12414" y="11811"/>
                </a:cubicBezTo>
                <a:cubicBezTo>
                  <a:pt x="12675" y="11816"/>
                  <a:pt x="12947" y="11822"/>
                  <a:pt x="13208" y="11843"/>
                </a:cubicBezTo>
                <a:cubicBezTo>
                  <a:pt x="13486" y="11866"/>
                  <a:pt x="13754" y="11874"/>
                  <a:pt x="14034" y="11874"/>
                </a:cubicBezTo>
                <a:cubicBezTo>
                  <a:pt x="14639" y="11874"/>
                  <a:pt x="15242" y="11872"/>
                  <a:pt x="15843" y="11906"/>
                </a:cubicBezTo>
                <a:cubicBezTo>
                  <a:pt x="16065" y="11918"/>
                  <a:pt x="16286" y="11874"/>
                  <a:pt x="16510" y="11874"/>
                </a:cubicBezTo>
                <a:cubicBezTo>
                  <a:pt x="16736" y="11874"/>
                  <a:pt x="16956" y="11895"/>
                  <a:pt x="17177" y="11906"/>
                </a:cubicBezTo>
                <a:cubicBezTo>
                  <a:pt x="17291" y="11912"/>
                  <a:pt x="17386" y="11927"/>
                  <a:pt x="17494" y="11938"/>
                </a:cubicBezTo>
                <a:cubicBezTo>
                  <a:pt x="17526" y="11938"/>
                  <a:pt x="17537" y="11938"/>
                  <a:pt x="17558" y="11938"/>
                </a:cubicBezTo>
                <a:cubicBezTo>
                  <a:pt x="17510" y="11955"/>
                  <a:pt x="17528" y="11959"/>
                  <a:pt x="17462" y="11970"/>
                </a:cubicBezTo>
                <a:cubicBezTo>
                  <a:pt x="17414" y="11978"/>
                  <a:pt x="17333" y="11992"/>
                  <a:pt x="17272" y="12002"/>
                </a:cubicBezTo>
                <a:cubicBezTo>
                  <a:pt x="17153" y="12021"/>
                  <a:pt x="17044" y="12020"/>
                  <a:pt x="16923" y="12033"/>
                </a:cubicBezTo>
                <a:cubicBezTo>
                  <a:pt x="16774" y="12048"/>
                  <a:pt x="16628" y="12052"/>
                  <a:pt x="16478" y="12065"/>
                </a:cubicBezTo>
                <a:cubicBezTo>
                  <a:pt x="16296" y="12081"/>
                  <a:pt x="16123" y="12094"/>
                  <a:pt x="15938" y="12097"/>
                </a:cubicBezTo>
                <a:cubicBezTo>
                  <a:pt x="14388" y="12120"/>
                  <a:pt x="12814" y="12170"/>
                  <a:pt x="11271" y="12097"/>
                </a:cubicBezTo>
                <a:cubicBezTo>
                  <a:pt x="10816" y="12076"/>
                  <a:pt x="10357" y="12100"/>
                  <a:pt x="9906" y="12128"/>
                </a:cubicBezTo>
                <a:cubicBezTo>
                  <a:pt x="9683" y="12142"/>
                  <a:pt x="9460" y="12130"/>
                  <a:pt x="9239" y="12160"/>
                </a:cubicBezTo>
                <a:cubicBezTo>
                  <a:pt x="8996" y="12193"/>
                  <a:pt x="8752" y="12196"/>
                  <a:pt x="8509" y="12224"/>
                </a:cubicBezTo>
                <a:cubicBezTo>
                  <a:pt x="8344" y="12243"/>
                  <a:pt x="8219" y="12233"/>
                  <a:pt x="8064" y="12224"/>
                </a:cubicBezTo>
                <a:cubicBezTo>
                  <a:pt x="8054" y="12224"/>
                  <a:pt x="8043" y="12224"/>
                  <a:pt x="8033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16"/>
          <p:cNvSpPr/>
          <p:nvPr/>
        </p:nvSpPr>
        <p:spPr>
          <a:xfrm>
            <a:off x="3714840" y="2182680"/>
            <a:ext cx="3325680" cy="685800"/>
          </a:xfrm>
          <a:custGeom>
            <a:avLst/>
            <a:gdLst/>
            <a:ahLst/>
            <a:rect l="l" t="t" r="r" b="b"/>
            <a:pathLst>
              <a:path w="9240" h="1906">
                <a:moveTo>
                  <a:pt x="12890" y="6255"/>
                </a:moveTo>
                <a:cubicBezTo>
                  <a:pt x="12820" y="6232"/>
                  <a:pt x="12750" y="6205"/>
                  <a:pt x="12668" y="6191"/>
                </a:cubicBezTo>
                <a:cubicBezTo>
                  <a:pt x="12534" y="6169"/>
                  <a:pt x="12396" y="6137"/>
                  <a:pt x="12256" y="6128"/>
                </a:cubicBezTo>
                <a:cubicBezTo>
                  <a:pt x="12105" y="6118"/>
                  <a:pt x="11958" y="6142"/>
                  <a:pt x="11811" y="6160"/>
                </a:cubicBezTo>
                <a:cubicBezTo>
                  <a:pt x="11671" y="6178"/>
                  <a:pt x="11533" y="6205"/>
                  <a:pt x="11398" y="6255"/>
                </a:cubicBezTo>
                <a:cubicBezTo>
                  <a:pt x="11250" y="6309"/>
                  <a:pt x="11115" y="6387"/>
                  <a:pt x="10986" y="6477"/>
                </a:cubicBezTo>
                <a:cubicBezTo>
                  <a:pt x="10876" y="6554"/>
                  <a:pt x="10762" y="6635"/>
                  <a:pt x="10668" y="6731"/>
                </a:cubicBezTo>
                <a:cubicBezTo>
                  <a:pt x="10549" y="6853"/>
                  <a:pt x="10412" y="7014"/>
                  <a:pt x="10350" y="7176"/>
                </a:cubicBezTo>
                <a:cubicBezTo>
                  <a:pt x="10328" y="7234"/>
                  <a:pt x="10299" y="7365"/>
                  <a:pt x="10319" y="7430"/>
                </a:cubicBezTo>
                <a:cubicBezTo>
                  <a:pt x="10336" y="7486"/>
                  <a:pt x="10406" y="7543"/>
                  <a:pt x="10446" y="7588"/>
                </a:cubicBezTo>
                <a:cubicBezTo>
                  <a:pt x="10504" y="7654"/>
                  <a:pt x="10589" y="7710"/>
                  <a:pt x="10668" y="7747"/>
                </a:cubicBezTo>
                <a:cubicBezTo>
                  <a:pt x="10764" y="7792"/>
                  <a:pt x="10881" y="7794"/>
                  <a:pt x="10986" y="7810"/>
                </a:cubicBezTo>
                <a:cubicBezTo>
                  <a:pt x="11126" y="7832"/>
                  <a:pt x="11258" y="7865"/>
                  <a:pt x="11398" y="7874"/>
                </a:cubicBezTo>
                <a:cubicBezTo>
                  <a:pt x="11579" y="7886"/>
                  <a:pt x="11760" y="7896"/>
                  <a:pt x="11938" y="7906"/>
                </a:cubicBezTo>
                <a:cubicBezTo>
                  <a:pt x="13217" y="7975"/>
                  <a:pt x="14504" y="7852"/>
                  <a:pt x="15780" y="7938"/>
                </a:cubicBezTo>
                <a:cubicBezTo>
                  <a:pt x="15951" y="7950"/>
                  <a:pt x="16115" y="7979"/>
                  <a:pt x="16288" y="7969"/>
                </a:cubicBezTo>
                <a:cubicBezTo>
                  <a:pt x="16447" y="7960"/>
                  <a:pt x="16604" y="7952"/>
                  <a:pt x="16764" y="7938"/>
                </a:cubicBezTo>
                <a:cubicBezTo>
                  <a:pt x="16933" y="7924"/>
                  <a:pt x="17104" y="7883"/>
                  <a:pt x="17272" y="7874"/>
                </a:cubicBezTo>
                <a:cubicBezTo>
                  <a:pt x="17444" y="7864"/>
                  <a:pt x="17610" y="7862"/>
                  <a:pt x="17780" y="7842"/>
                </a:cubicBezTo>
                <a:cubicBezTo>
                  <a:pt x="17935" y="7823"/>
                  <a:pt x="18100" y="7788"/>
                  <a:pt x="18256" y="7779"/>
                </a:cubicBezTo>
                <a:cubicBezTo>
                  <a:pt x="18415" y="7770"/>
                  <a:pt x="18577" y="7781"/>
                  <a:pt x="18732" y="7747"/>
                </a:cubicBezTo>
                <a:cubicBezTo>
                  <a:pt x="18860" y="7719"/>
                  <a:pt x="18989" y="7687"/>
                  <a:pt x="19114" y="7652"/>
                </a:cubicBezTo>
                <a:cubicBezTo>
                  <a:pt x="19276" y="7607"/>
                  <a:pt x="19524" y="7534"/>
                  <a:pt x="19558" y="7334"/>
                </a:cubicBezTo>
                <a:cubicBezTo>
                  <a:pt x="19572" y="7251"/>
                  <a:pt x="19555" y="7123"/>
                  <a:pt x="19526" y="7048"/>
                </a:cubicBezTo>
                <a:cubicBezTo>
                  <a:pt x="19492" y="6959"/>
                  <a:pt x="19402" y="6863"/>
                  <a:pt x="19336" y="6794"/>
                </a:cubicBezTo>
                <a:cubicBezTo>
                  <a:pt x="19239" y="6692"/>
                  <a:pt x="19106" y="6635"/>
                  <a:pt x="18986" y="6572"/>
                </a:cubicBezTo>
                <a:cubicBezTo>
                  <a:pt x="18865" y="6508"/>
                  <a:pt x="18738" y="6456"/>
                  <a:pt x="18606" y="6414"/>
                </a:cubicBezTo>
                <a:cubicBezTo>
                  <a:pt x="18453" y="6365"/>
                  <a:pt x="18287" y="6315"/>
                  <a:pt x="18129" y="6286"/>
                </a:cubicBezTo>
                <a:cubicBezTo>
                  <a:pt x="17919" y="6248"/>
                  <a:pt x="17707" y="6244"/>
                  <a:pt x="17494" y="6223"/>
                </a:cubicBezTo>
                <a:cubicBezTo>
                  <a:pt x="17306" y="6205"/>
                  <a:pt x="17112" y="6180"/>
                  <a:pt x="16923" y="6160"/>
                </a:cubicBezTo>
                <a:cubicBezTo>
                  <a:pt x="16733" y="6139"/>
                  <a:pt x="16542" y="6116"/>
                  <a:pt x="16351" y="6096"/>
                </a:cubicBezTo>
                <a:cubicBezTo>
                  <a:pt x="16150" y="6075"/>
                  <a:pt x="15951" y="6066"/>
                  <a:pt x="15748" y="6064"/>
                </a:cubicBezTo>
                <a:cubicBezTo>
                  <a:pt x="15448" y="6061"/>
                  <a:pt x="15155" y="6065"/>
                  <a:pt x="14859" y="6096"/>
                </a:cubicBezTo>
                <a:cubicBezTo>
                  <a:pt x="14682" y="6115"/>
                  <a:pt x="14494" y="6102"/>
                  <a:pt x="14319" y="6128"/>
                </a:cubicBezTo>
                <a:cubicBezTo>
                  <a:pt x="14148" y="6153"/>
                  <a:pt x="13981" y="6197"/>
                  <a:pt x="13811" y="6223"/>
                </a:cubicBezTo>
                <a:cubicBezTo>
                  <a:pt x="13663" y="6245"/>
                  <a:pt x="13516" y="6241"/>
                  <a:pt x="13367" y="6255"/>
                </a:cubicBezTo>
                <a:cubicBezTo>
                  <a:pt x="13189" y="6272"/>
                  <a:pt x="13008" y="6309"/>
                  <a:pt x="12827" y="6318"/>
                </a:cubicBezTo>
                <a:cubicBezTo>
                  <a:pt x="12685" y="6325"/>
                  <a:pt x="12553" y="6333"/>
                  <a:pt x="12414" y="6350"/>
                </a:cubicBezTo>
                <a:cubicBezTo>
                  <a:pt x="12297" y="6365"/>
                  <a:pt x="12182" y="6368"/>
                  <a:pt x="12065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all is thrown into the air with an upward velocity of 40 ft/s. Its heigh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feet aft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conds is given by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ball’s maximum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Plug in the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the equation to solve for its maximum h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"/>
          <p:cNvGraphicFramePr/>
          <p:nvPr/>
        </p:nvGraphicFramePr>
        <p:xfrm>
          <a:off x="3048120" y="2209680"/>
          <a:ext cx="37335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3733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Try… A small company markets a new toy. Th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s, in dollars, the total sal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a function of the pri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t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) What price will produce the highest total s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) What is the maximum total sales predi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1"/>
          <p:cNvGraphicFramePr/>
          <p:nvPr/>
        </p:nvGraphicFramePr>
        <p:xfrm>
          <a:off x="5486400" y="1143000"/>
          <a:ext cx="284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143000"/>
                    <a:ext cx="284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Ink 5"/>
          <p:cNvSpPr/>
          <p:nvPr/>
        </p:nvSpPr>
        <p:spPr>
          <a:xfrm>
            <a:off x="3279600" y="3840120"/>
            <a:ext cx="2652840" cy="938160"/>
          </a:xfrm>
          <a:custGeom>
            <a:avLst/>
            <a:gdLst/>
            <a:ahLst/>
            <a:rect l="l" t="t" r="r" b="b"/>
            <a:pathLst>
              <a:path w="7367" h="2605">
                <a:moveTo>
                  <a:pt x="9430" y="11430"/>
                </a:moveTo>
                <a:cubicBezTo>
                  <a:pt x="9430" y="11504"/>
                  <a:pt x="9445" y="11582"/>
                  <a:pt x="9462" y="11652"/>
                </a:cubicBezTo>
                <a:cubicBezTo>
                  <a:pt x="9497" y="11795"/>
                  <a:pt x="9557" y="11968"/>
                  <a:pt x="9620" y="12097"/>
                </a:cubicBezTo>
                <a:cubicBezTo>
                  <a:pt x="9690" y="12242"/>
                  <a:pt x="9740" y="12398"/>
                  <a:pt x="9811" y="12541"/>
                </a:cubicBezTo>
                <a:cubicBezTo>
                  <a:pt x="9836" y="12592"/>
                  <a:pt x="9915" y="12765"/>
                  <a:pt x="9970" y="12795"/>
                </a:cubicBezTo>
                <a:cubicBezTo>
                  <a:pt x="9980" y="12795"/>
                  <a:pt x="9991" y="12795"/>
                  <a:pt x="10001" y="12795"/>
                </a:cubicBezTo>
              </a:path>
              <a:path w="7367" h="2605">
                <a:moveTo>
                  <a:pt x="10096" y="11589"/>
                </a:moveTo>
                <a:cubicBezTo>
                  <a:pt x="10059" y="11626"/>
                  <a:pt x="10044" y="11686"/>
                  <a:pt x="10001" y="11748"/>
                </a:cubicBezTo>
                <a:cubicBezTo>
                  <a:pt x="9847" y="11969"/>
                  <a:pt x="9657" y="12169"/>
                  <a:pt x="9493" y="12382"/>
                </a:cubicBezTo>
                <a:cubicBezTo>
                  <a:pt x="9393" y="12512"/>
                  <a:pt x="9268" y="12629"/>
                  <a:pt x="9176" y="12764"/>
                </a:cubicBezTo>
                <a:cubicBezTo>
                  <a:pt x="9148" y="12819"/>
                  <a:pt x="9143" y="12834"/>
                  <a:pt x="9112" y="12859"/>
                </a:cubicBezTo>
              </a:path>
              <a:path w="7367" h="2605">
                <a:moveTo>
                  <a:pt x="10382" y="11748"/>
                </a:moveTo>
                <a:cubicBezTo>
                  <a:pt x="10485" y="11748"/>
                  <a:pt x="10569" y="11766"/>
                  <a:pt x="10668" y="11779"/>
                </a:cubicBezTo>
                <a:cubicBezTo>
                  <a:pt x="10743" y="11789"/>
                  <a:pt x="10814" y="11802"/>
                  <a:pt x="10890" y="11811"/>
                </a:cubicBezTo>
              </a:path>
              <a:path w="7367" h="2605">
                <a:moveTo>
                  <a:pt x="10478" y="12256"/>
                </a:moveTo>
                <a:cubicBezTo>
                  <a:pt x="10612" y="12256"/>
                  <a:pt x="10733" y="12267"/>
                  <a:pt x="10858" y="12287"/>
                </a:cubicBezTo>
                <a:cubicBezTo>
                  <a:pt x="10947" y="12301"/>
                  <a:pt x="11019" y="12319"/>
                  <a:pt x="11112" y="12319"/>
                </a:cubicBezTo>
              </a:path>
              <a:path w="7367" h="2605">
                <a:moveTo>
                  <a:pt x="11271" y="11144"/>
                </a:moveTo>
                <a:cubicBezTo>
                  <a:pt x="11378" y="11144"/>
                  <a:pt x="11458" y="11137"/>
                  <a:pt x="11557" y="11112"/>
                </a:cubicBezTo>
                <a:cubicBezTo>
                  <a:pt x="11599" y="11112"/>
                  <a:pt x="11620" y="11112"/>
                  <a:pt x="11652" y="11112"/>
                </a:cubicBezTo>
              </a:path>
              <a:path w="7367" h="2605">
                <a:moveTo>
                  <a:pt x="12002" y="10763"/>
                </a:moveTo>
                <a:cubicBezTo>
                  <a:pt x="12002" y="10836"/>
                  <a:pt x="11993" y="10919"/>
                  <a:pt x="11970" y="10986"/>
                </a:cubicBezTo>
                <a:cubicBezTo>
                  <a:pt x="11931" y="11101"/>
                  <a:pt x="11913" y="11245"/>
                  <a:pt x="11906" y="11366"/>
                </a:cubicBezTo>
                <a:cubicBezTo>
                  <a:pt x="11906" y="11430"/>
                  <a:pt x="11906" y="11451"/>
                  <a:pt x="11906" y="11494"/>
                </a:cubicBezTo>
                <a:cubicBezTo>
                  <a:pt x="11906" y="11558"/>
                  <a:pt x="11924" y="11428"/>
                  <a:pt x="11938" y="11398"/>
                </a:cubicBezTo>
                <a:cubicBezTo>
                  <a:pt x="11967" y="11337"/>
                  <a:pt x="11974" y="11250"/>
                  <a:pt x="12033" y="11208"/>
                </a:cubicBezTo>
                <a:cubicBezTo>
                  <a:pt x="12082" y="11173"/>
                  <a:pt x="12199" y="11154"/>
                  <a:pt x="12256" y="11176"/>
                </a:cubicBezTo>
                <a:cubicBezTo>
                  <a:pt x="12335" y="11207"/>
                  <a:pt x="12377" y="11256"/>
                  <a:pt x="12382" y="11335"/>
                </a:cubicBezTo>
                <a:cubicBezTo>
                  <a:pt x="12388" y="11439"/>
                  <a:pt x="12369" y="11474"/>
                  <a:pt x="12319" y="11557"/>
                </a:cubicBezTo>
                <a:cubicBezTo>
                  <a:pt x="12272" y="11635"/>
                  <a:pt x="12194" y="11647"/>
                  <a:pt x="12097" y="11652"/>
                </a:cubicBezTo>
                <a:cubicBezTo>
                  <a:pt x="12029" y="11656"/>
                  <a:pt x="11958" y="11654"/>
                  <a:pt x="11906" y="11620"/>
                </a:cubicBezTo>
                <a:cubicBezTo>
                  <a:pt x="11863" y="11592"/>
                  <a:pt x="11874" y="11569"/>
                  <a:pt x="11874" y="11525"/>
                </a:cubicBezTo>
              </a:path>
              <a:path w="7367" h="2605">
                <a:moveTo>
                  <a:pt x="11366" y="11811"/>
                </a:moveTo>
                <a:cubicBezTo>
                  <a:pt x="11603" y="11811"/>
                  <a:pt x="11833" y="11823"/>
                  <a:pt x="12065" y="11843"/>
                </a:cubicBezTo>
                <a:cubicBezTo>
                  <a:pt x="12212" y="11856"/>
                  <a:pt x="12579" y="11902"/>
                  <a:pt x="12700" y="11811"/>
                </a:cubicBezTo>
              </a:path>
              <a:path w="7367" h="2605">
                <a:moveTo>
                  <a:pt x="11684" y="12192"/>
                </a:moveTo>
                <a:cubicBezTo>
                  <a:pt x="11692" y="12169"/>
                  <a:pt x="11739" y="12114"/>
                  <a:pt x="11779" y="12097"/>
                </a:cubicBezTo>
                <a:cubicBezTo>
                  <a:pt x="11837" y="12072"/>
                  <a:pt x="11992" y="12096"/>
                  <a:pt x="12033" y="12128"/>
                </a:cubicBezTo>
                <a:cubicBezTo>
                  <a:pt x="12094" y="12177"/>
                  <a:pt x="12119" y="12239"/>
                  <a:pt x="12097" y="12319"/>
                </a:cubicBezTo>
                <a:cubicBezTo>
                  <a:pt x="12075" y="12398"/>
                  <a:pt x="11991" y="12485"/>
                  <a:pt x="11938" y="12541"/>
                </a:cubicBezTo>
                <a:cubicBezTo>
                  <a:pt x="11876" y="12606"/>
                  <a:pt x="11812" y="12642"/>
                  <a:pt x="11748" y="12700"/>
                </a:cubicBezTo>
                <a:cubicBezTo>
                  <a:pt x="11710" y="12734"/>
                  <a:pt x="11696" y="12750"/>
                  <a:pt x="11684" y="12795"/>
                </a:cubicBezTo>
                <a:cubicBezTo>
                  <a:pt x="11732" y="12795"/>
                  <a:pt x="11774" y="12754"/>
                  <a:pt x="11811" y="12764"/>
                </a:cubicBezTo>
                <a:cubicBezTo>
                  <a:pt x="11880" y="12783"/>
                  <a:pt x="11972" y="12786"/>
                  <a:pt x="12033" y="12827"/>
                </a:cubicBezTo>
                <a:cubicBezTo>
                  <a:pt x="12078" y="12857"/>
                  <a:pt x="12108" y="12877"/>
                  <a:pt x="12160" y="12890"/>
                </a:cubicBezTo>
              </a:path>
              <a:path w="7367" h="2605">
                <a:moveTo>
                  <a:pt x="12573" y="12382"/>
                </a:moveTo>
                <a:cubicBezTo>
                  <a:pt x="12562" y="12372"/>
                  <a:pt x="12552" y="12361"/>
                  <a:pt x="12541" y="12351"/>
                </a:cubicBezTo>
              </a:path>
              <a:path w="7367" h="2605">
                <a:moveTo>
                  <a:pt x="12573" y="12382"/>
                </a:moveTo>
                <a:cubicBezTo>
                  <a:pt x="12531" y="12372"/>
                  <a:pt x="12488" y="12361"/>
                  <a:pt x="12446" y="12351"/>
                </a:cubicBezTo>
              </a:path>
              <a:path w="7367" h="2605">
                <a:moveTo>
                  <a:pt x="12446" y="12351"/>
                </a:moveTo>
                <a:cubicBezTo>
                  <a:pt x="12334" y="12367"/>
                  <a:pt x="12315" y="12437"/>
                  <a:pt x="12256" y="12541"/>
                </a:cubicBezTo>
                <a:cubicBezTo>
                  <a:pt x="12211" y="12620"/>
                  <a:pt x="12220" y="12721"/>
                  <a:pt x="12256" y="12795"/>
                </a:cubicBezTo>
                <a:cubicBezTo>
                  <a:pt x="12304" y="12894"/>
                  <a:pt x="12379" y="12844"/>
                  <a:pt x="12446" y="12827"/>
                </a:cubicBezTo>
                <a:cubicBezTo>
                  <a:pt x="12490" y="12816"/>
                  <a:pt x="12560" y="12724"/>
                  <a:pt x="12573" y="12668"/>
                </a:cubicBezTo>
                <a:cubicBezTo>
                  <a:pt x="12578" y="12645"/>
                  <a:pt x="12605" y="12460"/>
                  <a:pt x="12605" y="12541"/>
                </a:cubicBezTo>
                <a:cubicBezTo>
                  <a:pt x="12553" y="12627"/>
                  <a:pt x="12563" y="12673"/>
                  <a:pt x="12573" y="12764"/>
                </a:cubicBezTo>
                <a:cubicBezTo>
                  <a:pt x="12584" y="12858"/>
                  <a:pt x="12630" y="12884"/>
                  <a:pt x="12700" y="12954"/>
                </a:cubicBezTo>
              </a:path>
              <a:path w="7367" h="2605">
                <a:moveTo>
                  <a:pt x="13430" y="11112"/>
                </a:moveTo>
                <a:cubicBezTo>
                  <a:pt x="13361" y="11112"/>
                  <a:pt x="13361" y="11112"/>
                  <a:pt x="13430" y="11112"/>
                </a:cubicBezTo>
                <a:cubicBezTo>
                  <a:pt x="13547" y="11112"/>
                  <a:pt x="13663" y="11112"/>
                  <a:pt x="13780" y="11112"/>
                </a:cubicBezTo>
              </a:path>
              <a:path w="7367" h="2605">
                <a:moveTo>
                  <a:pt x="14097" y="10668"/>
                </a:moveTo>
                <a:cubicBezTo>
                  <a:pt x="14117" y="10746"/>
                  <a:pt x="14102" y="10767"/>
                  <a:pt x="14097" y="10858"/>
                </a:cubicBezTo>
                <a:cubicBezTo>
                  <a:pt x="14089" y="11000"/>
                  <a:pt x="14018" y="11131"/>
                  <a:pt x="14002" y="11271"/>
                </a:cubicBezTo>
                <a:cubicBezTo>
                  <a:pt x="13994" y="11336"/>
                  <a:pt x="13996" y="11463"/>
                  <a:pt x="13970" y="11525"/>
                </a:cubicBezTo>
                <a:cubicBezTo>
                  <a:pt x="13958" y="11553"/>
                  <a:pt x="13938" y="11648"/>
                  <a:pt x="13938" y="11589"/>
                </a:cubicBezTo>
              </a:path>
              <a:path w="7367" h="2605">
                <a:moveTo>
                  <a:pt x="14383" y="10858"/>
                </a:moveTo>
                <a:cubicBezTo>
                  <a:pt x="14347" y="10942"/>
                  <a:pt x="14340" y="11024"/>
                  <a:pt x="14319" y="11112"/>
                </a:cubicBezTo>
                <a:cubicBezTo>
                  <a:pt x="14295" y="11208"/>
                  <a:pt x="14253" y="11362"/>
                  <a:pt x="14288" y="11462"/>
                </a:cubicBezTo>
                <a:cubicBezTo>
                  <a:pt x="14311" y="11527"/>
                  <a:pt x="14392" y="11552"/>
                  <a:pt x="14446" y="11557"/>
                </a:cubicBezTo>
                <a:cubicBezTo>
                  <a:pt x="14518" y="11563"/>
                  <a:pt x="14613" y="11458"/>
                  <a:pt x="14637" y="11398"/>
                </a:cubicBezTo>
                <a:cubicBezTo>
                  <a:pt x="14664" y="11329"/>
                  <a:pt x="14676" y="11210"/>
                  <a:pt x="14637" y="11144"/>
                </a:cubicBezTo>
                <a:cubicBezTo>
                  <a:pt x="14626" y="11133"/>
                  <a:pt x="14616" y="11123"/>
                  <a:pt x="14605" y="11112"/>
                </a:cubicBezTo>
                <a:cubicBezTo>
                  <a:pt x="14532" y="11112"/>
                  <a:pt x="14489" y="11144"/>
                  <a:pt x="14446" y="11208"/>
                </a:cubicBezTo>
                <a:cubicBezTo>
                  <a:pt x="14382" y="11303"/>
                  <a:pt x="14383" y="11384"/>
                  <a:pt x="14383" y="11494"/>
                </a:cubicBezTo>
                <a:cubicBezTo>
                  <a:pt x="14383" y="11581"/>
                  <a:pt x="14384" y="11588"/>
                  <a:pt x="14446" y="11557"/>
                </a:cubicBezTo>
              </a:path>
              <a:path w="7367" h="2605">
                <a:moveTo>
                  <a:pt x="14922" y="10954"/>
                </a:moveTo>
                <a:cubicBezTo>
                  <a:pt x="14896" y="10874"/>
                  <a:pt x="14881" y="10970"/>
                  <a:pt x="14859" y="11017"/>
                </a:cubicBezTo>
                <a:cubicBezTo>
                  <a:pt x="14813" y="11115"/>
                  <a:pt x="14801" y="11226"/>
                  <a:pt x="14796" y="11335"/>
                </a:cubicBezTo>
                <a:cubicBezTo>
                  <a:pt x="14791" y="11440"/>
                  <a:pt x="14796" y="11505"/>
                  <a:pt x="14859" y="11589"/>
                </a:cubicBezTo>
                <a:cubicBezTo>
                  <a:pt x="14913" y="11660"/>
                  <a:pt x="14997" y="11597"/>
                  <a:pt x="15050" y="11557"/>
                </a:cubicBezTo>
                <a:cubicBezTo>
                  <a:pt x="15135" y="11493"/>
                  <a:pt x="15113" y="11362"/>
                  <a:pt x="15113" y="11271"/>
                </a:cubicBezTo>
                <a:cubicBezTo>
                  <a:pt x="15113" y="11199"/>
                  <a:pt x="15098" y="11116"/>
                  <a:pt x="15018" y="11081"/>
                </a:cubicBezTo>
                <a:cubicBezTo>
                  <a:pt x="14976" y="11063"/>
                  <a:pt x="14950" y="11092"/>
                  <a:pt x="14922" y="11112"/>
                </a:cubicBezTo>
              </a:path>
              <a:path w="7367" h="2605">
                <a:moveTo>
                  <a:pt x="15367" y="10986"/>
                </a:moveTo>
                <a:cubicBezTo>
                  <a:pt x="15344" y="10916"/>
                  <a:pt x="15339" y="10978"/>
                  <a:pt x="15304" y="11017"/>
                </a:cubicBezTo>
                <a:cubicBezTo>
                  <a:pt x="15243" y="11085"/>
                  <a:pt x="15221" y="11213"/>
                  <a:pt x="15208" y="11303"/>
                </a:cubicBezTo>
                <a:cubicBezTo>
                  <a:pt x="15195" y="11396"/>
                  <a:pt x="15219" y="11481"/>
                  <a:pt x="15272" y="11557"/>
                </a:cubicBezTo>
                <a:cubicBezTo>
                  <a:pt x="15302" y="11600"/>
                  <a:pt x="15375" y="11656"/>
                  <a:pt x="15430" y="11620"/>
                </a:cubicBezTo>
                <a:cubicBezTo>
                  <a:pt x="15531" y="11553"/>
                  <a:pt x="15553" y="11479"/>
                  <a:pt x="15558" y="11366"/>
                </a:cubicBezTo>
                <a:cubicBezTo>
                  <a:pt x="15562" y="11285"/>
                  <a:pt x="15560" y="11173"/>
                  <a:pt x="15494" y="11112"/>
                </a:cubicBezTo>
                <a:cubicBezTo>
                  <a:pt x="15448" y="11070"/>
                  <a:pt x="15391" y="11081"/>
                  <a:pt x="15335" y="11081"/>
                </a:cubicBezTo>
              </a:path>
              <a:path w="7367" h="2605">
                <a:moveTo>
                  <a:pt x="12954" y="11462"/>
                </a:moveTo>
                <a:cubicBezTo>
                  <a:pt x="13004" y="11450"/>
                  <a:pt x="13024" y="11430"/>
                  <a:pt x="13081" y="11430"/>
                </a:cubicBezTo>
                <a:cubicBezTo>
                  <a:pt x="13154" y="11430"/>
                  <a:pt x="13180" y="11406"/>
                  <a:pt x="13240" y="11430"/>
                </a:cubicBezTo>
              </a:path>
              <a:path w="7367" h="2605">
                <a:moveTo>
                  <a:pt x="12986" y="11906"/>
                </a:moveTo>
                <a:cubicBezTo>
                  <a:pt x="13056" y="11906"/>
                  <a:pt x="13106" y="11879"/>
                  <a:pt x="13176" y="11874"/>
                </a:cubicBezTo>
                <a:cubicBezTo>
                  <a:pt x="13221" y="11874"/>
                  <a:pt x="13243" y="11868"/>
                  <a:pt x="13272" y="11843"/>
                </a:cubicBezTo>
              </a:path>
              <a:path w="7367" h="2605">
                <a:moveTo>
                  <a:pt x="13811" y="11811"/>
                </a:moveTo>
                <a:cubicBezTo>
                  <a:pt x="13823" y="11786"/>
                  <a:pt x="13895" y="11811"/>
                  <a:pt x="13970" y="11811"/>
                </a:cubicBezTo>
                <a:cubicBezTo>
                  <a:pt x="14207" y="11811"/>
                  <a:pt x="14436" y="11799"/>
                  <a:pt x="14668" y="11779"/>
                </a:cubicBezTo>
                <a:cubicBezTo>
                  <a:pt x="14937" y="11756"/>
                  <a:pt x="15269" y="11752"/>
                  <a:pt x="15526" y="11811"/>
                </a:cubicBezTo>
                <a:cubicBezTo>
                  <a:pt x="15591" y="11826"/>
                  <a:pt x="15663" y="11779"/>
                  <a:pt x="15684" y="11843"/>
                </a:cubicBezTo>
              </a:path>
              <a:path w="7367" h="2605">
                <a:moveTo>
                  <a:pt x="14097" y="12256"/>
                </a:moveTo>
                <a:cubicBezTo>
                  <a:pt x="14136" y="12243"/>
                  <a:pt x="14168" y="12248"/>
                  <a:pt x="14224" y="12224"/>
                </a:cubicBezTo>
                <a:cubicBezTo>
                  <a:pt x="14268" y="12206"/>
                  <a:pt x="14337" y="12170"/>
                  <a:pt x="14383" y="12160"/>
                </a:cubicBezTo>
                <a:cubicBezTo>
                  <a:pt x="14429" y="12150"/>
                  <a:pt x="14494" y="12160"/>
                  <a:pt x="14542" y="12160"/>
                </a:cubicBezTo>
                <a:cubicBezTo>
                  <a:pt x="14542" y="12238"/>
                  <a:pt x="14503" y="12244"/>
                  <a:pt x="14478" y="12319"/>
                </a:cubicBezTo>
                <a:cubicBezTo>
                  <a:pt x="14455" y="12388"/>
                  <a:pt x="14431" y="12480"/>
                  <a:pt x="14383" y="12541"/>
                </a:cubicBezTo>
                <a:cubicBezTo>
                  <a:pt x="14331" y="12608"/>
                  <a:pt x="14268" y="12659"/>
                  <a:pt x="14224" y="12732"/>
                </a:cubicBezTo>
                <a:cubicBezTo>
                  <a:pt x="14191" y="12787"/>
                  <a:pt x="14051" y="12814"/>
                  <a:pt x="14097" y="12859"/>
                </a:cubicBezTo>
                <a:cubicBezTo>
                  <a:pt x="14099" y="12861"/>
                  <a:pt x="14282" y="12889"/>
                  <a:pt x="14288" y="12890"/>
                </a:cubicBezTo>
                <a:cubicBezTo>
                  <a:pt x="14358" y="12905"/>
                  <a:pt x="14402" y="12922"/>
                  <a:pt x="14478" y="12922"/>
                </a:cubicBezTo>
                <a:cubicBezTo>
                  <a:pt x="14544" y="12922"/>
                  <a:pt x="14542" y="12926"/>
                  <a:pt x="14542" y="12859"/>
                </a:cubicBezTo>
              </a:path>
              <a:path w="7367" h="2605">
                <a:moveTo>
                  <a:pt x="14986" y="12097"/>
                </a:moveTo>
                <a:cubicBezTo>
                  <a:pt x="14929" y="12153"/>
                  <a:pt x="14870" y="12222"/>
                  <a:pt x="14827" y="12287"/>
                </a:cubicBezTo>
                <a:cubicBezTo>
                  <a:pt x="14760" y="12389"/>
                  <a:pt x="14746" y="12525"/>
                  <a:pt x="14700" y="12636"/>
                </a:cubicBezTo>
                <a:cubicBezTo>
                  <a:pt x="14650" y="12758"/>
                  <a:pt x="14675" y="12809"/>
                  <a:pt x="14732" y="12922"/>
                </a:cubicBezTo>
                <a:cubicBezTo>
                  <a:pt x="14785" y="13028"/>
                  <a:pt x="14809" y="13018"/>
                  <a:pt x="14922" y="13018"/>
                </a:cubicBezTo>
                <a:cubicBezTo>
                  <a:pt x="14943" y="13018"/>
                  <a:pt x="14965" y="13018"/>
                  <a:pt x="14986" y="13018"/>
                </a:cubicBezTo>
              </a:path>
              <a:path w="7367" h="2605">
                <a:moveTo>
                  <a:pt x="15018" y="12986"/>
                </a:moveTo>
                <a:cubicBezTo>
                  <a:pt x="15029" y="12965"/>
                  <a:pt x="15039" y="12943"/>
                  <a:pt x="15050" y="12922"/>
                </a:cubicBezTo>
              </a:path>
              <a:path w="7367" h="2605">
                <a:moveTo>
                  <a:pt x="15081" y="12510"/>
                </a:moveTo>
                <a:cubicBezTo>
                  <a:pt x="15116" y="12536"/>
                  <a:pt x="15158" y="12558"/>
                  <a:pt x="15208" y="12541"/>
                </a:cubicBezTo>
                <a:cubicBezTo>
                  <a:pt x="15266" y="12521"/>
                  <a:pt x="15292" y="12511"/>
                  <a:pt x="15335" y="12478"/>
                </a:cubicBezTo>
              </a:path>
              <a:path w="7367" h="2605">
                <a:moveTo>
                  <a:pt x="15526" y="12192"/>
                </a:moveTo>
                <a:cubicBezTo>
                  <a:pt x="15513" y="12244"/>
                  <a:pt x="15472" y="12302"/>
                  <a:pt x="15462" y="12351"/>
                </a:cubicBezTo>
                <a:cubicBezTo>
                  <a:pt x="15442" y="12452"/>
                  <a:pt x="15411" y="12569"/>
                  <a:pt x="15399" y="12668"/>
                </a:cubicBezTo>
                <a:cubicBezTo>
                  <a:pt x="15393" y="12717"/>
                  <a:pt x="15388" y="12856"/>
                  <a:pt x="15430" y="12890"/>
                </a:cubicBezTo>
                <a:cubicBezTo>
                  <a:pt x="15520" y="12963"/>
                  <a:pt x="15523" y="12901"/>
                  <a:pt x="15589" y="12859"/>
                </a:cubicBezTo>
                <a:cubicBezTo>
                  <a:pt x="15657" y="12816"/>
                  <a:pt x="15720" y="12751"/>
                  <a:pt x="15748" y="12668"/>
                </a:cubicBezTo>
                <a:cubicBezTo>
                  <a:pt x="15748" y="12636"/>
                  <a:pt x="15748" y="12626"/>
                  <a:pt x="15748" y="12605"/>
                </a:cubicBezTo>
                <a:cubicBezTo>
                  <a:pt x="15680" y="12605"/>
                  <a:pt x="15670" y="12619"/>
                  <a:pt x="15621" y="12668"/>
                </a:cubicBezTo>
                <a:cubicBezTo>
                  <a:pt x="15571" y="12718"/>
                  <a:pt x="15533" y="12754"/>
                  <a:pt x="15526" y="12827"/>
                </a:cubicBezTo>
                <a:cubicBezTo>
                  <a:pt x="15526" y="12859"/>
                  <a:pt x="15526" y="12870"/>
                  <a:pt x="15558" y="12859"/>
                </a:cubicBezTo>
              </a:path>
              <a:path w="7367" h="2605">
                <a:moveTo>
                  <a:pt x="15875" y="12256"/>
                </a:moveTo>
                <a:cubicBezTo>
                  <a:pt x="15875" y="12332"/>
                  <a:pt x="15855" y="12385"/>
                  <a:pt x="15843" y="12446"/>
                </a:cubicBezTo>
                <a:cubicBezTo>
                  <a:pt x="15832" y="12503"/>
                  <a:pt x="15843" y="12578"/>
                  <a:pt x="15843" y="12636"/>
                </a:cubicBezTo>
                <a:cubicBezTo>
                  <a:pt x="15877" y="12628"/>
                  <a:pt x="15929" y="12583"/>
                  <a:pt x="15970" y="12605"/>
                </a:cubicBezTo>
                <a:cubicBezTo>
                  <a:pt x="16018" y="12631"/>
                  <a:pt x="16070" y="12653"/>
                  <a:pt x="16129" y="12668"/>
                </a:cubicBezTo>
                <a:cubicBezTo>
                  <a:pt x="16177" y="12680"/>
                  <a:pt x="16189" y="12662"/>
                  <a:pt x="16224" y="12636"/>
                </a:cubicBezTo>
              </a:path>
              <a:path w="7367" h="2605">
                <a:moveTo>
                  <a:pt x="16129" y="12256"/>
                </a:moveTo>
                <a:cubicBezTo>
                  <a:pt x="16129" y="12342"/>
                  <a:pt x="16110" y="12400"/>
                  <a:pt x="16097" y="12478"/>
                </a:cubicBezTo>
                <a:cubicBezTo>
                  <a:pt x="16073" y="12618"/>
                  <a:pt x="16097" y="12779"/>
                  <a:pt x="16097" y="12922"/>
                </a:cubicBezTo>
              </a:path>
              <a:path w="7367" h="2605">
                <a:moveTo>
                  <a:pt x="16320" y="12160"/>
                </a:moveTo>
                <a:cubicBezTo>
                  <a:pt x="16376" y="12232"/>
                  <a:pt x="16386" y="12298"/>
                  <a:pt x="16415" y="12382"/>
                </a:cubicBezTo>
                <a:cubicBezTo>
                  <a:pt x="16461" y="12516"/>
                  <a:pt x="16504" y="12651"/>
                  <a:pt x="16478" y="12795"/>
                </a:cubicBezTo>
                <a:cubicBezTo>
                  <a:pt x="16453" y="12936"/>
                  <a:pt x="16434" y="13085"/>
                  <a:pt x="16351" y="13208"/>
                </a:cubicBezTo>
                <a:cubicBezTo>
                  <a:pt x="16330" y="13229"/>
                  <a:pt x="16309" y="13251"/>
                  <a:pt x="16288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6"/>
          <p:cNvSpPr/>
          <p:nvPr/>
        </p:nvSpPr>
        <p:spPr>
          <a:xfrm>
            <a:off x="6251400" y="3875040"/>
            <a:ext cx="1213200" cy="925560"/>
          </a:xfrm>
          <a:custGeom>
            <a:avLst/>
            <a:gdLst/>
            <a:ahLst/>
            <a:rect l="l" t="t" r="r" b="b"/>
            <a:pathLst>
              <a:path w="3367" h="2573">
                <a:moveTo>
                  <a:pt x="17526" y="11843"/>
                </a:moveTo>
                <a:cubicBezTo>
                  <a:pt x="17582" y="11854"/>
                  <a:pt x="17625" y="11874"/>
                  <a:pt x="17685" y="11874"/>
                </a:cubicBezTo>
                <a:cubicBezTo>
                  <a:pt x="17721" y="11874"/>
                  <a:pt x="17734" y="11877"/>
                  <a:pt x="17748" y="11906"/>
                </a:cubicBezTo>
              </a:path>
              <a:path w="3367" h="2573">
                <a:moveTo>
                  <a:pt x="17367" y="12192"/>
                </a:moveTo>
                <a:cubicBezTo>
                  <a:pt x="17438" y="12246"/>
                  <a:pt x="17425" y="12215"/>
                  <a:pt x="17494" y="12192"/>
                </a:cubicBezTo>
                <a:cubicBezTo>
                  <a:pt x="17550" y="12173"/>
                  <a:pt x="17627" y="12165"/>
                  <a:pt x="17685" y="12160"/>
                </a:cubicBezTo>
                <a:cubicBezTo>
                  <a:pt x="17726" y="12157"/>
                  <a:pt x="17771" y="12160"/>
                  <a:pt x="17812" y="12160"/>
                </a:cubicBezTo>
              </a:path>
              <a:path w="3367" h="2573">
                <a:moveTo>
                  <a:pt x="18066" y="11081"/>
                </a:moveTo>
                <a:cubicBezTo>
                  <a:pt x="18115" y="11044"/>
                  <a:pt x="18131" y="11049"/>
                  <a:pt x="18193" y="11049"/>
                </a:cubicBezTo>
                <a:cubicBezTo>
                  <a:pt x="18262" y="11049"/>
                  <a:pt x="18295" y="11075"/>
                  <a:pt x="18352" y="11081"/>
                </a:cubicBezTo>
                <a:cubicBezTo>
                  <a:pt x="18393" y="11086"/>
                  <a:pt x="18437" y="11081"/>
                  <a:pt x="18478" y="11081"/>
                </a:cubicBezTo>
              </a:path>
              <a:path w="3367" h="2573">
                <a:moveTo>
                  <a:pt x="18732" y="10763"/>
                </a:moveTo>
                <a:cubicBezTo>
                  <a:pt x="18732" y="10849"/>
                  <a:pt x="18717" y="10934"/>
                  <a:pt x="18701" y="11017"/>
                </a:cubicBezTo>
                <a:cubicBezTo>
                  <a:pt x="18675" y="11153"/>
                  <a:pt x="18643" y="11292"/>
                  <a:pt x="18637" y="11430"/>
                </a:cubicBezTo>
                <a:cubicBezTo>
                  <a:pt x="18632" y="11544"/>
                  <a:pt x="18614" y="11640"/>
                  <a:pt x="18606" y="11748"/>
                </a:cubicBezTo>
                <a:cubicBezTo>
                  <a:pt x="18602" y="11800"/>
                  <a:pt x="18596" y="11797"/>
                  <a:pt x="18637" y="11811"/>
                </a:cubicBezTo>
              </a:path>
              <a:path w="3367" h="2573">
                <a:moveTo>
                  <a:pt x="18955" y="10890"/>
                </a:moveTo>
                <a:cubicBezTo>
                  <a:pt x="18936" y="10985"/>
                  <a:pt x="18915" y="11078"/>
                  <a:pt x="18891" y="11176"/>
                </a:cubicBezTo>
                <a:cubicBezTo>
                  <a:pt x="18854" y="11324"/>
                  <a:pt x="18828" y="11436"/>
                  <a:pt x="18828" y="11589"/>
                </a:cubicBezTo>
                <a:cubicBezTo>
                  <a:pt x="18828" y="11676"/>
                  <a:pt x="18806" y="11776"/>
                  <a:pt x="18860" y="11843"/>
                </a:cubicBezTo>
                <a:cubicBezTo>
                  <a:pt x="18888" y="11871"/>
                  <a:pt x="18895" y="11882"/>
                  <a:pt x="18923" y="11874"/>
                </a:cubicBezTo>
                <a:cubicBezTo>
                  <a:pt x="18996" y="11856"/>
                  <a:pt x="19022" y="11788"/>
                  <a:pt x="19050" y="11716"/>
                </a:cubicBezTo>
                <a:cubicBezTo>
                  <a:pt x="19087" y="11621"/>
                  <a:pt x="19138" y="11530"/>
                  <a:pt x="19145" y="11430"/>
                </a:cubicBezTo>
                <a:cubicBezTo>
                  <a:pt x="19148" y="11390"/>
                  <a:pt x="19123" y="11372"/>
                  <a:pt x="19114" y="11335"/>
                </a:cubicBezTo>
                <a:cubicBezTo>
                  <a:pt x="19056" y="11335"/>
                  <a:pt x="19021" y="11343"/>
                  <a:pt x="18986" y="11398"/>
                </a:cubicBezTo>
                <a:cubicBezTo>
                  <a:pt x="18944" y="11465"/>
                  <a:pt x="18927" y="11575"/>
                  <a:pt x="18923" y="11652"/>
                </a:cubicBezTo>
                <a:cubicBezTo>
                  <a:pt x="18919" y="11729"/>
                  <a:pt x="18911" y="11785"/>
                  <a:pt x="18955" y="11843"/>
                </a:cubicBezTo>
              </a:path>
              <a:path w="3367" h="2573">
                <a:moveTo>
                  <a:pt x="19336" y="10986"/>
                </a:moveTo>
                <a:cubicBezTo>
                  <a:pt x="19295" y="11053"/>
                  <a:pt x="19251" y="11185"/>
                  <a:pt x="19240" y="11271"/>
                </a:cubicBezTo>
                <a:cubicBezTo>
                  <a:pt x="19227" y="11377"/>
                  <a:pt x="19181" y="11544"/>
                  <a:pt x="19209" y="11652"/>
                </a:cubicBezTo>
                <a:cubicBezTo>
                  <a:pt x="19224" y="11711"/>
                  <a:pt x="19240" y="11775"/>
                  <a:pt x="19304" y="11779"/>
                </a:cubicBezTo>
                <a:cubicBezTo>
                  <a:pt x="19382" y="11784"/>
                  <a:pt x="19454" y="11750"/>
                  <a:pt x="19494" y="11684"/>
                </a:cubicBezTo>
                <a:cubicBezTo>
                  <a:pt x="19555" y="11583"/>
                  <a:pt x="19585" y="11449"/>
                  <a:pt x="19590" y="11335"/>
                </a:cubicBezTo>
                <a:cubicBezTo>
                  <a:pt x="19595" y="11233"/>
                  <a:pt x="19601" y="11133"/>
                  <a:pt x="19558" y="11049"/>
                </a:cubicBezTo>
                <a:cubicBezTo>
                  <a:pt x="19505" y="10943"/>
                  <a:pt x="19512" y="10959"/>
                  <a:pt x="19431" y="10986"/>
                </a:cubicBezTo>
                <a:cubicBezTo>
                  <a:pt x="19420" y="10986"/>
                  <a:pt x="19410" y="10986"/>
                  <a:pt x="19399" y="10986"/>
                </a:cubicBezTo>
              </a:path>
              <a:path w="3367" h="2573">
                <a:moveTo>
                  <a:pt x="19780" y="10858"/>
                </a:moveTo>
                <a:cubicBezTo>
                  <a:pt x="19780" y="10940"/>
                  <a:pt x="19744" y="11003"/>
                  <a:pt x="19717" y="11081"/>
                </a:cubicBezTo>
                <a:cubicBezTo>
                  <a:pt x="19686" y="11171"/>
                  <a:pt x="19658" y="11273"/>
                  <a:pt x="19653" y="11366"/>
                </a:cubicBezTo>
                <a:cubicBezTo>
                  <a:pt x="19650" y="11424"/>
                  <a:pt x="19688" y="11498"/>
                  <a:pt x="19748" y="11525"/>
                </a:cubicBezTo>
                <a:cubicBezTo>
                  <a:pt x="19810" y="11552"/>
                  <a:pt x="19863" y="11488"/>
                  <a:pt x="19907" y="11462"/>
                </a:cubicBezTo>
                <a:cubicBezTo>
                  <a:pt x="20009" y="11401"/>
                  <a:pt x="20006" y="11346"/>
                  <a:pt x="20034" y="11240"/>
                </a:cubicBezTo>
                <a:cubicBezTo>
                  <a:pt x="20066" y="11120"/>
                  <a:pt x="20068" y="11012"/>
                  <a:pt x="20034" y="10890"/>
                </a:cubicBezTo>
                <a:cubicBezTo>
                  <a:pt x="20010" y="10803"/>
                  <a:pt x="19954" y="10770"/>
                  <a:pt x="19876" y="10763"/>
                </a:cubicBezTo>
                <a:cubicBezTo>
                  <a:pt x="19840" y="10763"/>
                  <a:pt x="19826" y="10766"/>
                  <a:pt x="19812" y="10795"/>
                </a:cubicBezTo>
              </a:path>
              <a:path w="3367" h="2573">
                <a:moveTo>
                  <a:pt x="18098" y="12160"/>
                </a:moveTo>
                <a:cubicBezTo>
                  <a:pt x="18155" y="12116"/>
                  <a:pt x="18212" y="12101"/>
                  <a:pt x="18288" y="12097"/>
                </a:cubicBezTo>
                <a:cubicBezTo>
                  <a:pt x="18420" y="12090"/>
                  <a:pt x="18542" y="12080"/>
                  <a:pt x="18669" y="12065"/>
                </a:cubicBezTo>
                <a:cubicBezTo>
                  <a:pt x="18808" y="12049"/>
                  <a:pt x="18941" y="12033"/>
                  <a:pt x="19082" y="12033"/>
                </a:cubicBezTo>
                <a:cubicBezTo>
                  <a:pt x="19268" y="12033"/>
                  <a:pt x="19694" y="11952"/>
                  <a:pt x="19844" y="12065"/>
                </a:cubicBezTo>
              </a:path>
              <a:path w="3367" h="2573">
                <a:moveTo>
                  <a:pt x="18034" y="12732"/>
                </a:moveTo>
                <a:cubicBezTo>
                  <a:pt x="18107" y="12732"/>
                  <a:pt x="18134" y="12720"/>
                  <a:pt x="18193" y="12700"/>
                </a:cubicBezTo>
                <a:cubicBezTo>
                  <a:pt x="18251" y="12680"/>
                  <a:pt x="18370" y="12692"/>
                  <a:pt x="18383" y="12732"/>
                </a:cubicBezTo>
              </a:path>
              <a:path w="3367" h="2573">
                <a:moveTo>
                  <a:pt x="18701" y="12636"/>
                </a:moveTo>
                <a:cubicBezTo>
                  <a:pt x="18670" y="12758"/>
                  <a:pt x="18669" y="12860"/>
                  <a:pt x="18669" y="12986"/>
                </a:cubicBezTo>
                <a:cubicBezTo>
                  <a:pt x="18669" y="13104"/>
                  <a:pt x="18671" y="13204"/>
                  <a:pt x="18701" y="13303"/>
                </a:cubicBezTo>
                <a:cubicBezTo>
                  <a:pt x="18701" y="13314"/>
                  <a:pt x="18701" y="13324"/>
                  <a:pt x="18701" y="13335"/>
                </a:cubicBezTo>
              </a:path>
              <a:path w="3367" h="2573">
                <a:moveTo>
                  <a:pt x="18891" y="12510"/>
                </a:moveTo>
                <a:cubicBezTo>
                  <a:pt x="18891" y="12442"/>
                  <a:pt x="18906" y="12431"/>
                  <a:pt x="18955" y="12382"/>
                </a:cubicBezTo>
                <a:cubicBezTo>
                  <a:pt x="19001" y="12336"/>
                  <a:pt x="19035" y="12341"/>
                  <a:pt x="19082" y="12382"/>
                </a:cubicBezTo>
                <a:cubicBezTo>
                  <a:pt x="19136" y="12429"/>
                  <a:pt x="19114" y="12505"/>
                  <a:pt x="19114" y="12573"/>
                </a:cubicBezTo>
                <a:cubicBezTo>
                  <a:pt x="19114" y="12667"/>
                  <a:pt x="19075" y="12802"/>
                  <a:pt x="19050" y="12890"/>
                </a:cubicBezTo>
                <a:cubicBezTo>
                  <a:pt x="19025" y="12975"/>
                  <a:pt x="18943" y="13067"/>
                  <a:pt x="18923" y="13144"/>
                </a:cubicBezTo>
                <a:cubicBezTo>
                  <a:pt x="18899" y="13234"/>
                  <a:pt x="18892" y="13217"/>
                  <a:pt x="18923" y="13176"/>
                </a:cubicBezTo>
                <a:cubicBezTo>
                  <a:pt x="18971" y="13112"/>
                  <a:pt x="18999" y="13141"/>
                  <a:pt x="19050" y="13113"/>
                </a:cubicBezTo>
                <a:cubicBezTo>
                  <a:pt x="19105" y="13083"/>
                  <a:pt x="19120" y="13076"/>
                  <a:pt x="19177" y="13113"/>
                </a:cubicBezTo>
                <a:cubicBezTo>
                  <a:pt x="19203" y="13130"/>
                  <a:pt x="19270" y="13191"/>
                  <a:pt x="19304" y="13176"/>
                </a:cubicBezTo>
                <a:cubicBezTo>
                  <a:pt x="19333" y="13147"/>
                  <a:pt x="19343" y="13141"/>
                  <a:pt x="19336" y="13113"/>
                </a:cubicBezTo>
              </a:path>
              <a:path w="3367" h="2573">
                <a:moveTo>
                  <a:pt x="19622" y="12446"/>
                </a:moveTo>
                <a:cubicBezTo>
                  <a:pt x="19622" y="12384"/>
                  <a:pt x="19627" y="12368"/>
                  <a:pt x="19590" y="12319"/>
                </a:cubicBezTo>
                <a:cubicBezTo>
                  <a:pt x="19537" y="12319"/>
                  <a:pt x="19507" y="12332"/>
                  <a:pt x="19463" y="12351"/>
                </a:cubicBezTo>
                <a:cubicBezTo>
                  <a:pt x="19403" y="12376"/>
                  <a:pt x="19343" y="12412"/>
                  <a:pt x="19336" y="12478"/>
                </a:cubicBezTo>
                <a:cubicBezTo>
                  <a:pt x="19330" y="12529"/>
                  <a:pt x="19397" y="12571"/>
                  <a:pt x="19431" y="12605"/>
                </a:cubicBezTo>
                <a:cubicBezTo>
                  <a:pt x="19494" y="12667"/>
                  <a:pt x="19538" y="12726"/>
                  <a:pt x="19590" y="12795"/>
                </a:cubicBezTo>
                <a:cubicBezTo>
                  <a:pt x="19635" y="12854"/>
                  <a:pt x="19622" y="12910"/>
                  <a:pt x="19622" y="12986"/>
                </a:cubicBezTo>
                <a:cubicBezTo>
                  <a:pt x="19622" y="13062"/>
                  <a:pt x="19631" y="13058"/>
                  <a:pt x="19590" y="13113"/>
                </a:cubicBezTo>
                <a:cubicBezTo>
                  <a:pt x="19516" y="13095"/>
                  <a:pt x="19501" y="13093"/>
                  <a:pt x="19494" y="13018"/>
                </a:cubicBezTo>
                <a:cubicBezTo>
                  <a:pt x="19484" y="12906"/>
                  <a:pt x="19477" y="12883"/>
                  <a:pt x="19494" y="12764"/>
                </a:cubicBezTo>
                <a:cubicBezTo>
                  <a:pt x="19508" y="12663"/>
                  <a:pt x="19529" y="12566"/>
                  <a:pt x="19590" y="12478"/>
                </a:cubicBezTo>
                <a:cubicBezTo>
                  <a:pt x="19620" y="12434"/>
                  <a:pt x="19651" y="12392"/>
                  <a:pt x="19685" y="12351"/>
                </a:cubicBezTo>
              </a:path>
              <a:path w="3367" h="2573">
                <a:moveTo>
                  <a:pt x="20225" y="12097"/>
                </a:moveTo>
                <a:cubicBezTo>
                  <a:pt x="20341" y="12097"/>
                  <a:pt x="20458" y="12097"/>
                  <a:pt x="20574" y="12097"/>
                </a:cubicBezTo>
              </a:path>
              <a:path w="3367" h="2573">
                <a:moveTo>
                  <a:pt x="20320" y="12351"/>
                </a:moveTo>
                <a:cubicBezTo>
                  <a:pt x="20435" y="12351"/>
                  <a:pt x="20539" y="12363"/>
                  <a:pt x="20638" y="12382"/>
                </a:cubicBezTo>
                <a:cubicBezTo>
                  <a:pt x="20691" y="12382"/>
                  <a:pt x="20701" y="12382"/>
                  <a:pt x="20733" y="12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7"/>
          <p:cNvSpPr/>
          <p:nvPr/>
        </p:nvSpPr>
        <p:spPr>
          <a:xfrm>
            <a:off x="7715160" y="3978360"/>
            <a:ext cx="1006560" cy="639720"/>
          </a:xfrm>
          <a:custGeom>
            <a:avLst/>
            <a:gdLst/>
            <a:ahLst/>
            <a:rect l="l" t="t" r="r" b="b"/>
            <a:pathLst>
              <a:path w="2795" h="1779">
                <a:moveTo>
                  <a:pt x="21495" y="11303"/>
                </a:moveTo>
                <a:cubicBezTo>
                  <a:pt x="21495" y="11396"/>
                  <a:pt x="21483" y="11500"/>
                  <a:pt x="21463" y="11589"/>
                </a:cubicBezTo>
                <a:cubicBezTo>
                  <a:pt x="21431" y="11731"/>
                  <a:pt x="21431" y="11854"/>
                  <a:pt x="21431" y="12002"/>
                </a:cubicBezTo>
                <a:cubicBezTo>
                  <a:pt x="21431" y="12288"/>
                  <a:pt x="21431" y="13081"/>
                  <a:pt x="21431" y="12795"/>
                </a:cubicBezTo>
              </a:path>
              <a:path w="2795" h="1779">
                <a:moveTo>
                  <a:pt x="21622" y="11652"/>
                </a:moveTo>
                <a:cubicBezTo>
                  <a:pt x="21665" y="11609"/>
                  <a:pt x="21689" y="11566"/>
                  <a:pt x="21717" y="11525"/>
                </a:cubicBezTo>
                <a:cubicBezTo>
                  <a:pt x="21769" y="11448"/>
                  <a:pt x="21803" y="11420"/>
                  <a:pt x="21876" y="11366"/>
                </a:cubicBezTo>
                <a:cubicBezTo>
                  <a:pt x="21935" y="11322"/>
                  <a:pt x="21971" y="11311"/>
                  <a:pt x="22003" y="11398"/>
                </a:cubicBezTo>
                <a:cubicBezTo>
                  <a:pt x="22052" y="11532"/>
                  <a:pt x="21984" y="11742"/>
                  <a:pt x="21971" y="11874"/>
                </a:cubicBezTo>
                <a:cubicBezTo>
                  <a:pt x="21956" y="12028"/>
                  <a:pt x="21924" y="12170"/>
                  <a:pt x="21876" y="12319"/>
                </a:cubicBezTo>
                <a:cubicBezTo>
                  <a:pt x="21840" y="12430"/>
                  <a:pt x="21804" y="12538"/>
                  <a:pt x="21749" y="12636"/>
                </a:cubicBezTo>
                <a:cubicBezTo>
                  <a:pt x="21712" y="12702"/>
                  <a:pt x="21669" y="12741"/>
                  <a:pt x="21749" y="12668"/>
                </a:cubicBezTo>
                <a:cubicBezTo>
                  <a:pt x="21794" y="12628"/>
                  <a:pt x="21817" y="12636"/>
                  <a:pt x="21876" y="12636"/>
                </a:cubicBezTo>
                <a:cubicBezTo>
                  <a:pt x="21920" y="12636"/>
                  <a:pt x="21971" y="12671"/>
                  <a:pt x="22003" y="12700"/>
                </a:cubicBezTo>
                <a:cubicBezTo>
                  <a:pt x="22041" y="12735"/>
                  <a:pt x="22082" y="12752"/>
                  <a:pt x="22130" y="12764"/>
                </a:cubicBezTo>
              </a:path>
              <a:path w="2795" h="1779">
                <a:moveTo>
                  <a:pt x="22352" y="12446"/>
                </a:moveTo>
                <a:cubicBezTo>
                  <a:pt x="22352" y="12486"/>
                  <a:pt x="22379" y="12483"/>
                  <a:pt x="22416" y="12510"/>
                </a:cubicBezTo>
              </a:path>
              <a:path w="2795" h="1779">
                <a:moveTo>
                  <a:pt x="23178" y="11081"/>
                </a:moveTo>
                <a:cubicBezTo>
                  <a:pt x="23206" y="11052"/>
                  <a:pt x="23212" y="11041"/>
                  <a:pt x="23241" y="11049"/>
                </a:cubicBezTo>
                <a:cubicBezTo>
                  <a:pt x="23191" y="11055"/>
                  <a:pt x="23153" y="11073"/>
                  <a:pt x="23114" y="11081"/>
                </a:cubicBezTo>
                <a:cubicBezTo>
                  <a:pt x="23034" y="11097"/>
                  <a:pt x="22972" y="11108"/>
                  <a:pt x="22892" y="11144"/>
                </a:cubicBezTo>
                <a:cubicBezTo>
                  <a:pt x="22842" y="11166"/>
                  <a:pt x="22783" y="11156"/>
                  <a:pt x="22733" y="11176"/>
                </a:cubicBezTo>
                <a:cubicBezTo>
                  <a:pt x="22660" y="11206"/>
                  <a:pt x="22673" y="11226"/>
                  <a:pt x="22670" y="11303"/>
                </a:cubicBezTo>
                <a:cubicBezTo>
                  <a:pt x="22666" y="11385"/>
                  <a:pt x="22642" y="11445"/>
                  <a:pt x="22638" y="11525"/>
                </a:cubicBezTo>
                <a:cubicBezTo>
                  <a:pt x="22633" y="11620"/>
                  <a:pt x="22638" y="11716"/>
                  <a:pt x="22638" y="11811"/>
                </a:cubicBezTo>
                <a:cubicBezTo>
                  <a:pt x="22669" y="11786"/>
                  <a:pt x="22691" y="11789"/>
                  <a:pt x="22733" y="11748"/>
                </a:cubicBezTo>
                <a:cubicBezTo>
                  <a:pt x="22769" y="11712"/>
                  <a:pt x="22803" y="11601"/>
                  <a:pt x="22860" y="11589"/>
                </a:cubicBezTo>
                <a:cubicBezTo>
                  <a:pt x="22926" y="11575"/>
                  <a:pt x="22994" y="11588"/>
                  <a:pt x="23050" y="11620"/>
                </a:cubicBezTo>
                <a:cubicBezTo>
                  <a:pt x="23112" y="11656"/>
                  <a:pt x="23154" y="11748"/>
                  <a:pt x="23178" y="11811"/>
                </a:cubicBezTo>
                <a:cubicBezTo>
                  <a:pt x="23217" y="11912"/>
                  <a:pt x="23260" y="12026"/>
                  <a:pt x="23273" y="12128"/>
                </a:cubicBezTo>
                <a:cubicBezTo>
                  <a:pt x="23290" y="12261"/>
                  <a:pt x="23254" y="12330"/>
                  <a:pt x="23209" y="12446"/>
                </a:cubicBezTo>
                <a:cubicBezTo>
                  <a:pt x="23165" y="12561"/>
                  <a:pt x="23139" y="12593"/>
                  <a:pt x="23050" y="12668"/>
                </a:cubicBezTo>
                <a:cubicBezTo>
                  <a:pt x="23010" y="12702"/>
                  <a:pt x="22948" y="12716"/>
                  <a:pt x="22892" y="12700"/>
                </a:cubicBezTo>
                <a:cubicBezTo>
                  <a:pt x="22835" y="12684"/>
                  <a:pt x="22779" y="12625"/>
                  <a:pt x="22765" y="12573"/>
                </a:cubicBezTo>
                <a:cubicBezTo>
                  <a:pt x="22765" y="12507"/>
                  <a:pt x="22766" y="12484"/>
                  <a:pt x="22796" y="12446"/>
                </a:cubicBezTo>
              </a:path>
              <a:path w="2795" h="1779">
                <a:moveTo>
                  <a:pt x="23781" y="11112"/>
                </a:moveTo>
                <a:cubicBezTo>
                  <a:pt x="23749" y="11134"/>
                  <a:pt x="23718" y="11211"/>
                  <a:pt x="23686" y="11271"/>
                </a:cubicBezTo>
                <a:cubicBezTo>
                  <a:pt x="23634" y="11370"/>
                  <a:pt x="23622" y="11448"/>
                  <a:pt x="23622" y="11557"/>
                </a:cubicBezTo>
                <a:cubicBezTo>
                  <a:pt x="23622" y="11684"/>
                  <a:pt x="23650" y="11817"/>
                  <a:pt x="23686" y="11938"/>
                </a:cubicBezTo>
                <a:cubicBezTo>
                  <a:pt x="23720" y="12053"/>
                  <a:pt x="23761" y="12109"/>
                  <a:pt x="23844" y="12192"/>
                </a:cubicBezTo>
                <a:cubicBezTo>
                  <a:pt x="23873" y="12221"/>
                  <a:pt x="23960" y="12248"/>
                  <a:pt x="24003" y="12224"/>
                </a:cubicBezTo>
                <a:cubicBezTo>
                  <a:pt x="24088" y="12177"/>
                  <a:pt x="24103" y="12052"/>
                  <a:pt x="24130" y="11970"/>
                </a:cubicBezTo>
                <a:cubicBezTo>
                  <a:pt x="24183" y="11811"/>
                  <a:pt x="24220" y="11661"/>
                  <a:pt x="24225" y="11494"/>
                </a:cubicBezTo>
                <a:cubicBezTo>
                  <a:pt x="24229" y="11358"/>
                  <a:pt x="24244" y="11229"/>
                  <a:pt x="24162" y="11112"/>
                </a:cubicBezTo>
                <a:cubicBezTo>
                  <a:pt x="24112" y="11040"/>
                  <a:pt x="23985" y="11031"/>
                  <a:pt x="23908" y="11049"/>
                </a:cubicBezTo>
                <a:cubicBezTo>
                  <a:pt x="23843" y="11065"/>
                  <a:pt x="23781" y="11089"/>
                  <a:pt x="23717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8"/>
          <p:cNvSpPr/>
          <p:nvPr/>
        </p:nvSpPr>
        <p:spPr>
          <a:xfrm>
            <a:off x="3611520" y="5418000"/>
            <a:ext cx="1784520" cy="743040"/>
          </a:xfrm>
          <a:custGeom>
            <a:avLst/>
            <a:gdLst/>
            <a:ahLst/>
            <a:rect l="l" t="t" r="r" b="b"/>
            <a:pathLst>
              <a:path w="4954" h="2064">
                <a:moveTo>
                  <a:pt x="10033" y="15875"/>
                </a:moveTo>
                <a:cubicBezTo>
                  <a:pt x="10033" y="15864"/>
                  <a:pt x="10033" y="15854"/>
                  <a:pt x="10033" y="15843"/>
                </a:cubicBezTo>
                <a:cubicBezTo>
                  <a:pt x="10151" y="15843"/>
                  <a:pt x="10250" y="15845"/>
                  <a:pt x="10350" y="15875"/>
                </a:cubicBezTo>
                <a:cubicBezTo>
                  <a:pt x="10413" y="15894"/>
                  <a:pt x="10450" y="15871"/>
                  <a:pt x="10509" y="15907"/>
                </a:cubicBezTo>
              </a:path>
              <a:path w="4954" h="2064">
                <a:moveTo>
                  <a:pt x="11112" y="15208"/>
                </a:moveTo>
                <a:cubicBezTo>
                  <a:pt x="11163" y="15225"/>
                  <a:pt x="11125" y="15223"/>
                  <a:pt x="11176" y="15240"/>
                </a:cubicBezTo>
                <a:cubicBezTo>
                  <a:pt x="11162" y="15294"/>
                  <a:pt x="11138" y="15342"/>
                  <a:pt x="11112" y="15399"/>
                </a:cubicBezTo>
                <a:cubicBezTo>
                  <a:pt x="11065" y="15499"/>
                  <a:pt x="11000" y="15592"/>
                  <a:pt x="10954" y="15684"/>
                </a:cubicBezTo>
                <a:cubicBezTo>
                  <a:pt x="10892" y="15808"/>
                  <a:pt x="10859" y="15937"/>
                  <a:pt x="10827" y="16066"/>
                </a:cubicBezTo>
                <a:cubicBezTo>
                  <a:pt x="10801" y="16170"/>
                  <a:pt x="10795" y="16244"/>
                  <a:pt x="10795" y="16351"/>
                </a:cubicBezTo>
                <a:cubicBezTo>
                  <a:pt x="10795" y="16421"/>
                  <a:pt x="10813" y="16491"/>
                  <a:pt x="10858" y="16542"/>
                </a:cubicBezTo>
                <a:cubicBezTo>
                  <a:pt x="10898" y="16588"/>
                  <a:pt x="10948" y="16633"/>
                  <a:pt x="11017" y="16605"/>
                </a:cubicBezTo>
                <a:cubicBezTo>
                  <a:pt x="11062" y="16587"/>
                  <a:pt x="11145" y="16554"/>
                  <a:pt x="11176" y="16510"/>
                </a:cubicBezTo>
                <a:cubicBezTo>
                  <a:pt x="11234" y="16429"/>
                  <a:pt x="11243" y="16341"/>
                  <a:pt x="11271" y="16256"/>
                </a:cubicBezTo>
                <a:cubicBezTo>
                  <a:pt x="11288" y="16204"/>
                  <a:pt x="11329" y="16127"/>
                  <a:pt x="11303" y="16066"/>
                </a:cubicBezTo>
                <a:cubicBezTo>
                  <a:pt x="11292" y="16055"/>
                  <a:pt x="11282" y="16045"/>
                  <a:pt x="11271" y="16034"/>
                </a:cubicBezTo>
                <a:cubicBezTo>
                  <a:pt x="11226" y="16034"/>
                  <a:pt x="11160" y="16041"/>
                  <a:pt x="11144" y="16097"/>
                </a:cubicBezTo>
                <a:cubicBezTo>
                  <a:pt x="11118" y="16186"/>
                  <a:pt x="11086" y="16258"/>
                  <a:pt x="11081" y="16351"/>
                </a:cubicBezTo>
                <a:cubicBezTo>
                  <a:pt x="11076" y="16458"/>
                  <a:pt x="11063" y="16473"/>
                  <a:pt x="11081" y="16574"/>
                </a:cubicBezTo>
                <a:cubicBezTo>
                  <a:pt x="11090" y="16623"/>
                  <a:pt x="11082" y="16729"/>
                  <a:pt x="11112" y="16764"/>
                </a:cubicBezTo>
                <a:cubicBezTo>
                  <a:pt x="11123" y="16764"/>
                  <a:pt x="11133" y="16764"/>
                  <a:pt x="11144" y="16764"/>
                </a:cubicBezTo>
              </a:path>
              <a:path w="4954" h="2064">
                <a:moveTo>
                  <a:pt x="11557" y="15558"/>
                </a:moveTo>
                <a:cubicBezTo>
                  <a:pt x="11573" y="15637"/>
                  <a:pt x="11589" y="15695"/>
                  <a:pt x="11589" y="15780"/>
                </a:cubicBezTo>
                <a:cubicBezTo>
                  <a:pt x="11589" y="15883"/>
                  <a:pt x="11557" y="15961"/>
                  <a:pt x="11557" y="16066"/>
                </a:cubicBezTo>
                <a:cubicBezTo>
                  <a:pt x="11557" y="16119"/>
                  <a:pt x="11557" y="16171"/>
                  <a:pt x="11557" y="16224"/>
                </a:cubicBezTo>
                <a:cubicBezTo>
                  <a:pt x="11567" y="16194"/>
                  <a:pt x="11621" y="16165"/>
                  <a:pt x="11652" y="16161"/>
                </a:cubicBezTo>
                <a:cubicBezTo>
                  <a:pt x="11736" y="16151"/>
                  <a:pt x="11700" y="16135"/>
                  <a:pt x="11779" y="16161"/>
                </a:cubicBezTo>
                <a:cubicBezTo>
                  <a:pt x="11817" y="16174"/>
                  <a:pt x="11869" y="16188"/>
                  <a:pt x="11906" y="16192"/>
                </a:cubicBezTo>
                <a:cubicBezTo>
                  <a:pt x="11938" y="16192"/>
                  <a:pt x="11949" y="16192"/>
                  <a:pt x="11970" y="16192"/>
                </a:cubicBezTo>
              </a:path>
              <a:path w="4954" h="2064">
                <a:moveTo>
                  <a:pt x="11970" y="15399"/>
                </a:moveTo>
                <a:cubicBezTo>
                  <a:pt x="11970" y="15519"/>
                  <a:pt x="11942" y="15628"/>
                  <a:pt x="11938" y="15748"/>
                </a:cubicBezTo>
                <a:cubicBezTo>
                  <a:pt x="11929" y="16047"/>
                  <a:pt x="11931" y="16342"/>
                  <a:pt x="11906" y="16637"/>
                </a:cubicBezTo>
                <a:cubicBezTo>
                  <a:pt x="11898" y="16729"/>
                  <a:pt x="11937" y="16881"/>
                  <a:pt x="11874" y="16923"/>
                </a:cubicBezTo>
              </a:path>
              <a:path w="4954" h="2064">
                <a:moveTo>
                  <a:pt x="12541" y="15081"/>
                </a:moveTo>
                <a:cubicBezTo>
                  <a:pt x="12579" y="15063"/>
                  <a:pt x="12542" y="15168"/>
                  <a:pt x="12510" y="15240"/>
                </a:cubicBezTo>
                <a:cubicBezTo>
                  <a:pt x="12440" y="15398"/>
                  <a:pt x="12354" y="15552"/>
                  <a:pt x="12287" y="15716"/>
                </a:cubicBezTo>
                <a:cubicBezTo>
                  <a:pt x="12199" y="15931"/>
                  <a:pt x="12120" y="16183"/>
                  <a:pt x="12097" y="16415"/>
                </a:cubicBezTo>
                <a:cubicBezTo>
                  <a:pt x="12081" y="16571"/>
                  <a:pt x="12076" y="16774"/>
                  <a:pt x="12128" y="16923"/>
                </a:cubicBezTo>
                <a:cubicBezTo>
                  <a:pt x="12143" y="16967"/>
                  <a:pt x="12199" y="17101"/>
                  <a:pt x="12256" y="17113"/>
                </a:cubicBezTo>
                <a:cubicBezTo>
                  <a:pt x="12314" y="17125"/>
                  <a:pt x="12339" y="17108"/>
                  <a:pt x="12382" y="17082"/>
                </a:cubicBezTo>
              </a:path>
              <a:path w="4954" h="2064">
                <a:moveTo>
                  <a:pt x="12605" y="15589"/>
                </a:moveTo>
                <a:cubicBezTo>
                  <a:pt x="12551" y="15678"/>
                  <a:pt x="12573" y="15798"/>
                  <a:pt x="12573" y="15907"/>
                </a:cubicBezTo>
                <a:cubicBezTo>
                  <a:pt x="12573" y="16055"/>
                  <a:pt x="12514" y="16200"/>
                  <a:pt x="12541" y="16351"/>
                </a:cubicBezTo>
                <a:cubicBezTo>
                  <a:pt x="12556" y="16436"/>
                  <a:pt x="12542" y="16591"/>
                  <a:pt x="12573" y="16669"/>
                </a:cubicBezTo>
                <a:cubicBezTo>
                  <a:pt x="12584" y="16679"/>
                  <a:pt x="12594" y="16690"/>
                  <a:pt x="12605" y="16700"/>
                </a:cubicBezTo>
              </a:path>
              <a:path w="4954" h="2064">
                <a:moveTo>
                  <a:pt x="12827" y="15748"/>
                </a:moveTo>
                <a:cubicBezTo>
                  <a:pt x="12853" y="15713"/>
                  <a:pt x="12904" y="15661"/>
                  <a:pt x="12922" y="15621"/>
                </a:cubicBezTo>
                <a:cubicBezTo>
                  <a:pt x="12932" y="15598"/>
                  <a:pt x="12977" y="15544"/>
                  <a:pt x="13018" y="15526"/>
                </a:cubicBezTo>
                <a:cubicBezTo>
                  <a:pt x="13064" y="15505"/>
                  <a:pt x="13103" y="15576"/>
                  <a:pt x="13113" y="15589"/>
                </a:cubicBezTo>
                <a:cubicBezTo>
                  <a:pt x="13175" y="15673"/>
                  <a:pt x="13142" y="15778"/>
                  <a:pt x="13113" y="15875"/>
                </a:cubicBezTo>
                <a:cubicBezTo>
                  <a:pt x="13075" y="16004"/>
                  <a:pt x="13061" y="16126"/>
                  <a:pt x="13018" y="16256"/>
                </a:cubicBezTo>
                <a:cubicBezTo>
                  <a:pt x="12996" y="16323"/>
                  <a:pt x="12989" y="16482"/>
                  <a:pt x="12954" y="16446"/>
                </a:cubicBezTo>
                <a:cubicBezTo>
                  <a:pt x="12966" y="16412"/>
                  <a:pt x="12978" y="16388"/>
                  <a:pt x="13018" y="16383"/>
                </a:cubicBezTo>
                <a:cubicBezTo>
                  <a:pt x="13082" y="16375"/>
                  <a:pt x="13088" y="16382"/>
                  <a:pt x="13113" y="16415"/>
                </a:cubicBezTo>
                <a:cubicBezTo>
                  <a:pt x="13149" y="16463"/>
                  <a:pt x="13140" y="16494"/>
                  <a:pt x="13176" y="16542"/>
                </a:cubicBezTo>
              </a:path>
              <a:path w="4954" h="2064">
                <a:moveTo>
                  <a:pt x="13430" y="16256"/>
                </a:moveTo>
                <a:cubicBezTo>
                  <a:pt x="13430" y="16301"/>
                  <a:pt x="13436" y="16323"/>
                  <a:pt x="13462" y="16351"/>
                </a:cubicBezTo>
              </a:path>
              <a:path w="4954" h="2064">
                <a:moveTo>
                  <a:pt x="14097" y="15367"/>
                </a:moveTo>
                <a:cubicBezTo>
                  <a:pt x="14097" y="15331"/>
                  <a:pt x="14100" y="15317"/>
                  <a:pt x="14129" y="15304"/>
                </a:cubicBezTo>
                <a:cubicBezTo>
                  <a:pt x="14067" y="15364"/>
                  <a:pt x="14029" y="15430"/>
                  <a:pt x="13970" y="15494"/>
                </a:cubicBezTo>
                <a:cubicBezTo>
                  <a:pt x="13913" y="15556"/>
                  <a:pt x="13838" y="15638"/>
                  <a:pt x="13780" y="15684"/>
                </a:cubicBezTo>
                <a:cubicBezTo>
                  <a:pt x="13741" y="15716"/>
                  <a:pt x="13693" y="15708"/>
                  <a:pt x="13652" y="15684"/>
                </a:cubicBezTo>
                <a:cubicBezTo>
                  <a:pt x="13611" y="15660"/>
                  <a:pt x="13619" y="15651"/>
                  <a:pt x="13589" y="15621"/>
                </a:cubicBezTo>
                <a:cubicBezTo>
                  <a:pt x="13582" y="15681"/>
                  <a:pt x="13567" y="15723"/>
                  <a:pt x="13557" y="15780"/>
                </a:cubicBezTo>
                <a:cubicBezTo>
                  <a:pt x="13539" y="15886"/>
                  <a:pt x="13550" y="16001"/>
                  <a:pt x="13589" y="16097"/>
                </a:cubicBezTo>
                <a:cubicBezTo>
                  <a:pt x="13589" y="16133"/>
                  <a:pt x="13592" y="16147"/>
                  <a:pt x="13621" y="16161"/>
                </a:cubicBezTo>
                <a:cubicBezTo>
                  <a:pt x="13642" y="16140"/>
                  <a:pt x="13664" y="16104"/>
                  <a:pt x="13684" y="16066"/>
                </a:cubicBezTo>
                <a:cubicBezTo>
                  <a:pt x="13705" y="16026"/>
                  <a:pt x="13799" y="15891"/>
                  <a:pt x="13843" y="15875"/>
                </a:cubicBezTo>
                <a:cubicBezTo>
                  <a:pt x="13908" y="15852"/>
                  <a:pt x="14009" y="15875"/>
                  <a:pt x="14065" y="15907"/>
                </a:cubicBezTo>
                <a:cubicBezTo>
                  <a:pt x="14157" y="15959"/>
                  <a:pt x="14142" y="16081"/>
                  <a:pt x="14160" y="16161"/>
                </a:cubicBezTo>
                <a:cubicBezTo>
                  <a:pt x="14195" y="16312"/>
                  <a:pt x="14177" y="16393"/>
                  <a:pt x="14160" y="16542"/>
                </a:cubicBezTo>
                <a:cubicBezTo>
                  <a:pt x="14152" y="16616"/>
                  <a:pt x="14142" y="16767"/>
                  <a:pt x="14097" y="16828"/>
                </a:cubicBezTo>
                <a:cubicBezTo>
                  <a:pt x="14085" y="16844"/>
                  <a:pt x="14000" y="16869"/>
                  <a:pt x="13970" y="16859"/>
                </a:cubicBezTo>
                <a:cubicBezTo>
                  <a:pt x="13938" y="16828"/>
                  <a:pt x="13927" y="16817"/>
                  <a:pt x="13906" y="16796"/>
                </a:cubicBezTo>
              </a:path>
              <a:path w="4954" h="2064">
                <a:moveTo>
                  <a:pt x="14129" y="15335"/>
                </a:moveTo>
                <a:cubicBezTo>
                  <a:pt x="14204" y="15335"/>
                  <a:pt x="14249" y="15336"/>
                  <a:pt x="14319" y="15367"/>
                </a:cubicBezTo>
                <a:cubicBezTo>
                  <a:pt x="14423" y="15413"/>
                  <a:pt x="14495" y="15519"/>
                  <a:pt x="14542" y="15621"/>
                </a:cubicBezTo>
                <a:cubicBezTo>
                  <a:pt x="14616" y="15781"/>
                  <a:pt x="14639" y="15894"/>
                  <a:pt x="14668" y="16066"/>
                </a:cubicBezTo>
                <a:cubicBezTo>
                  <a:pt x="14695" y="16229"/>
                  <a:pt x="14724" y="16406"/>
                  <a:pt x="14700" y="16574"/>
                </a:cubicBezTo>
                <a:cubicBezTo>
                  <a:pt x="14683" y="16697"/>
                  <a:pt x="14673" y="16836"/>
                  <a:pt x="14637" y="16954"/>
                </a:cubicBezTo>
                <a:cubicBezTo>
                  <a:pt x="14626" y="16989"/>
                  <a:pt x="14635" y="16966"/>
                  <a:pt x="14605" y="16986"/>
                </a:cubicBezTo>
              </a:path>
              <a:path w="4954" h="2064">
                <a:moveTo>
                  <a:pt x="14637" y="15526"/>
                </a:moveTo>
                <a:cubicBezTo>
                  <a:pt x="14637" y="15432"/>
                  <a:pt x="14655" y="15437"/>
                  <a:pt x="14700" y="15367"/>
                </a:cubicBezTo>
                <a:cubicBezTo>
                  <a:pt x="14748" y="15293"/>
                  <a:pt x="14766" y="15281"/>
                  <a:pt x="14827" y="15240"/>
                </a:cubicBezTo>
                <a:cubicBezTo>
                  <a:pt x="14869" y="15212"/>
                  <a:pt x="14902" y="15200"/>
                  <a:pt x="14922" y="15240"/>
                </a:cubicBezTo>
                <a:cubicBezTo>
                  <a:pt x="14952" y="15302"/>
                  <a:pt x="14904" y="15376"/>
                  <a:pt x="14891" y="15430"/>
                </a:cubicBezTo>
                <a:cubicBezTo>
                  <a:pt x="14872" y="15508"/>
                  <a:pt x="14833" y="15579"/>
                  <a:pt x="14796" y="15653"/>
                </a:cubicBezTo>
                <a:cubicBezTo>
                  <a:pt x="14772" y="15702"/>
                  <a:pt x="14738" y="15763"/>
                  <a:pt x="14732" y="15812"/>
                </a:cubicBezTo>
                <a:cubicBezTo>
                  <a:pt x="14732" y="15822"/>
                  <a:pt x="14732" y="15833"/>
                  <a:pt x="14732" y="15843"/>
                </a:cubicBezTo>
                <a:cubicBezTo>
                  <a:pt x="14804" y="15843"/>
                  <a:pt x="14832" y="15831"/>
                  <a:pt x="14891" y="15812"/>
                </a:cubicBezTo>
                <a:cubicBezTo>
                  <a:pt x="14936" y="15812"/>
                  <a:pt x="14958" y="15806"/>
                  <a:pt x="14986" y="157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9"/>
          <p:cNvSpPr/>
          <p:nvPr/>
        </p:nvSpPr>
        <p:spPr>
          <a:xfrm>
            <a:off x="5543640" y="5475240"/>
            <a:ext cx="1635120" cy="674640"/>
          </a:xfrm>
          <a:custGeom>
            <a:avLst/>
            <a:gdLst/>
            <a:ahLst/>
            <a:rect l="l" t="t" r="r" b="b"/>
            <a:pathLst>
              <a:path w="4541" h="1875">
                <a:moveTo>
                  <a:pt x="15589" y="15621"/>
                </a:moveTo>
                <a:cubicBezTo>
                  <a:pt x="15537" y="15692"/>
                  <a:pt x="15576" y="15758"/>
                  <a:pt x="15558" y="15843"/>
                </a:cubicBezTo>
                <a:cubicBezTo>
                  <a:pt x="15532" y="15966"/>
                  <a:pt x="15526" y="16064"/>
                  <a:pt x="15526" y="16192"/>
                </a:cubicBezTo>
                <a:cubicBezTo>
                  <a:pt x="15526" y="16278"/>
                  <a:pt x="15563" y="16588"/>
                  <a:pt x="15494" y="16542"/>
                </a:cubicBezTo>
              </a:path>
              <a:path w="4541" h="1875">
                <a:moveTo>
                  <a:pt x="15399" y="16066"/>
                </a:moveTo>
                <a:cubicBezTo>
                  <a:pt x="15472" y="16121"/>
                  <a:pt x="15456" y="16081"/>
                  <a:pt x="15526" y="16066"/>
                </a:cubicBezTo>
                <a:cubicBezTo>
                  <a:pt x="15603" y="16050"/>
                  <a:pt x="15610" y="16045"/>
                  <a:pt x="15684" y="16002"/>
                </a:cubicBezTo>
              </a:path>
              <a:path w="4541" h="1875">
                <a:moveTo>
                  <a:pt x="16129" y="15272"/>
                </a:moveTo>
                <a:cubicBezTo>
                  <a:pt x="16195" y="15359"/>
                  <a:pt x="16140" y="15425"/>
                  <a:pt x="16129" y="15526"/>
                </a:cubicBezTo>
                <a:cubicBezTo>
                  <a:pt x="16110" y="15698"/>
                  <a:pt x="16075" y="15864"/>
                  <a:pt x="16034" y="16034"/>
                </a:cubicBezTo>
                <a:cubicBezTo>
                  <a:pt x="15995" y="16194"/>
                  <a:pt x="16002" y="16346"/>
                  <a:pt x="16002" y="16510"/>
                </a:cubicBezTo>
                <a:cubicBezTo>
                  <a:pt x="16002" y="16616"/>
                  <a:pt x="16002" y="16722"/>
                  <a:pt x="16002" y="16828"/>
                </a:cubicBezTo>
              </a:path>
              <a:path w="4541" h="1875">
                <a:moveTo>
                  <a:pt x="16351" y="15621"/>
                </a:moveTo>
                <a:cubicBezTo>
                  <a:pt x="16351" y="15550"/>
                  <a:pt x="16329" y="15691"/>
                  <a:pt x="16320" y="15716"/>
                </a:cubicBezTo>
                <a:cubicBezTo>
                  <a:pt x="16270" y="15855"/>
                  <a:pt x="16237" y="16015"/>
                  <a:pt x="16224" y="16161"/>
                </a:cubicBezTo>
                <a:cubicBezTo>
                  <a:pt x="16211" y="16313"/>
                  <a:pt x="16216" y="16424"/>
                  <a:pt x="16224" y="16574"/>
                </a:cubicBezTo>
                <a:cubicBezTo>
                  <a:pt x="16228" y="16646"/>
                  <a:pt x="16245" y="16747"/>
                  <a:pt x="16320" y="16764"/>
                </a:cubicBezTo>
                <a:cubicBezTo>
                  <a:pt x="16351" y="16764"/>
                  <a:pt x="16362" y="16764"/>
                  <a:pt x="16383" y="16764"/>
                </a:cubicBezTo>
                <a:cubicBezTo>
                  <a:pt x="16441" y="16648"/>
                  <a:pt x="16499" y="16537"/>
                  <a:pt x="16542" y="16415"/>
                </a:cubicBezTo>
                <a:cubicBezTo>
                  <a:pt x="16566" y="16345"/>
                  <a:pt x="16614" y="16162"/>
                  <a:pt x="16605" y="16097"/>
                </a:cubicBezTo>
                <a:cubicBezTo>
                  <a:pt x="16600" y="16063"/>
                  <a:pt x="16574" y="16049"/>
                  <a:pt x="16574" y="16002"/>
                </a:cubicBezTo>
                <a:cubicBezTo>
                  <a:pt x="16512" y="16064"/>
                  <a:pt x="16507" y="16109"/>
                  <a:pt x="16478" y="16192"/>
                </a:cubicBezTo>
                <a:cubicBezTo>
                  <a:pt x="16430" y="16328"/>
                  <a:pt x="16415" y="16430"/>
                  <a:pt x="16415" y="16574"/>
                </a:cubicBezTo>
                <a:cubicBezTo>
                  <a:pt x="16415" y="16645"/>
                  <a:pt x="16402" y="16670"/>
                  <a:pt x="16446" y="16700"/>
                </a:cubicBezTo>
              </a:path>
              <a:path w="4541" h="1875">
                <a:moveTo>
                  <a:pt x="16891" y="15621"/>
                </a:moveTo>
                <a:cubicBezTo>
                  <a:pt x="16844" y="15684"/>
                  <a:pt x="16782" y="15832"/>
                  <a:pt x="16764" y="15907"/>
                </a:cubicBezTo>
                <a:cubicBezTo>
                  <a:pt x="16731" y="16048"/>
                  <a:pt x="16720" y="16185"/>
                  <a:pt x="16732" y="16320"/>
                </a:cubicBezTo>
                <a:cubicBezTo>
                  <a:pt x="16740" y="16406"/>
                  <a:pt x="16715" y="16511"/>
                  <a:pt x="16796" y="16574"/>
                </a:cubicBezTo>
                <a:cubicBezTo>
                  <a:pt x="16834" y="16604"/>
                  <a:pt x="16899" y="16556"/>
                  <a:pt x="16923" y="16542"/>
                </a:cubicBezTo>
                <a:cubicBezTo>
                  <a:pt x="17019" y="16486"/>
                  <a:pt x="17043" y="16392"/>
                  <a:pt x="17082" y="16288"/>
                </a:cubicBezTo>
                <a:cubicBezTo>
                  <a:pt x="17106" y="16223"/>
                  <a:pt x="17160" y="16071"/>
                  <a:pt x="17145" y="16002"/>
                </a:cubicBezTo>
                <a:cubicBezTo>
                  <a:pt x="17128" y="15924"/>
                  <a:pt x="17099" y="15845"/>
                  <a:pt x="17050" y="15780"/>
                </a:cubicBezTo>
                <a:cubicBezTo>
                  <a:pt x="17010" y="15727"/>
                  <a:pt x="16967" y="15722"/>
                  <a:pt x="16923" y="15684"/>
                </a:cubicBezTo>
                <a:cubicBezTo>
                  <a:pt x="16912" y="15674"/>
                  <a:pt x="16902" y="15663"/>
                  <a:pt x="16891" y="15653"/>
                </a:cubicBezTo>
              </a:path>
              <a:path w="4541" h="1875">
                <a:moveTo>
                  <a:pt x="17367" y="15558"/>
                </a:moveTo>
                <a:cubicBezTo>
                  <a:pt x="17354" y="15610"/>
                  <a:pt x="17324" y="15637"/>
                  <a:pt x="17304" y="15684"/>
                </a:cubicBezTo>
                <a:cubicBezTo>
                  <a:pt x="17247" y="15818"/>
                  <a:pt x="17209" y="15891"/>
                  <a:pt x="17177" y="16034"/>
                </a:cubicBezTo>
                <a:cubicBezTo>
                  <a:pt x="17149" y="16161"/>
                  <a:pt x="17120" y="16312"/>
                  <a:pt x="17145" y="16446"/>
                </a:cubicBezTo>
                <a:cubicBezTo>
                  <a:pt x="17159" y="16523"/>
                  <a:pt x="17202" y="16624"/>
                  <a:pt x="17272" y="16669"/>
                </a:cubicBezTo>
                <a:cubicBezTo>
                  <a:pt x="17338" y="16711"/>
                  <a:pt x="17396" y="16713"/>
                  <a:pt x="17462" y="16669"/>
                </a:cubicBezTo>
                <a:cubicBezTo>
                  <a:pt x="17525" y="16627"/>
                  <a:pt x="17557" y="16512"/>
                  <a:pt x="17590" y="16446"/>
                </a:cubicBezTo>
                <a:cubicBezTo>
                  <a:pt x="17635" y="16356"/>
                  <a:pt x="17620" y="16255"/>
                  <a:pt x="17590" y="16161"/>
                </a:cubicBezTo>
                <a:cubicBezTo>
                  <a:pt x="17558" y="16059"/>
                  <a:pt x="17487" y="15991"/>
                  <a:pt x="17431" y="15907"/>
                </a:cubicBezTo>
                <a:cubicBezTo>
                  <a:pt x="17387" y="15840"/>
                  <a:pt x="17350" y="15813"/>
                  <a:pt x="17304" y="15748"/>
                </a:cubicBezTo>
              </a:path>
              <a:path w="4541" h="1875">
                <a:moveTo>
                  <a:pt x="18034" y="15208"/>
                </a:moveTo>
                <a:cubicBezTo>
                  <a:pt x="18056" y="15252"/>
                  <a:pt x="18013" y="15338"/>
                  <a:pt x="17970" y="15399"/>
                </a:cubicBezTo>
                <a:cubicBezTo>
                  <a:pt x="17882" y="15525"/>
                  <a:pt x="17800" y="15629"/>
                  <a:pt x="17748" y="15780"/>
                </a:cubicBezTo>
                <a:cubicBezTo>
                  <a:pt x="17692" y="15943"/>
                  <a:pt x="17685" y="16085"/>
                  <a:pt x="17685" y="16256"/>
                </a:cubicBezTo>
                <a:cubicBezTo>
                  <a:pt x="17685" y="16414"/>
                  <a:pt x="17675" y="16618"/>
                  <a:pt x="17748" y="16764"/>
                </a:cubicBezTo>
                <a:cubicBezTo>
                  <a:pt x="17795" y="16858"/>
                  <a:pt x="17890" y="16926"/>
                  <a:pt x="17970" y="16986"/>
                </a:cubicBezTo>
                <a:cubicBezTo>
                  <a:pt x="18008" y="17024"/>
                  <a:pt x="18027" y="17031"/>
                  <a:pt x="18066" y="16986"/>
                </a:cubicBezTo>
              </a:path>
              <a:path w="4541" h="1875">
                <a:moveTo>
                  <a:pt x="18161" y="15812"/>
                </a:moveTo>
                <a:cubicBezTo>
                  <a:pt x="18119" y="15881"/>
                  <a:pt x="18107" y="16010"/>
                  <a:pt x="18098" y="16097"/>
                </a:cubicBezTo>
                <a:cubicBezTo>
                  <a:pt x="18082" y="16240"/>
                  <a:pt x="18117" y="16374"/>
                  <a:pt x="18129" y="16510"/>
                </a:cubicBezTo>
                <a:cubicBezTo>
                  <a:pt x="18139" y="16627"/>
                  <a:pt x="18161" y="16742"/>
                  <a:pt x="18161" y="16859"/>
                </a:cubicBezTo>
              </a:path>
              <a:path w="4541" h="1875">
                <a:moveTo>
                  <a:pt x="18320" y="16097"/>
                </a:moveTo>
                <a:cubicBezTo>
                  <a:pt x="18359" y="16033"/>
                  <a:pt x="18358" y="15970"/>
                  <a:pt x="18415" y="15907"/>
                </a:cubicBezTo>
                <a:cubicBezTo>
                  <a:pt x="18449" y="15869"/>
                  <a:pt x="18497" y="15827"/>
                  <a:pt x="18542" y="15812"/>
                </a:cubicBezTo>
                <a:cubicBezTo>
                  <a:pt x="18573" y="15802"/>
                  <a:pt x="18657" y="15803"/>
                  <a:pt x="18669" y="15843"/>
                </a:cubicBezTo>
                <a:cubicBezTo>
                  <a:pt x="18694" y="15924"/>
                  <a:pt x="18665" y="16055"/>
                  <a:pt x="18637" y="16129"/>
                </a:cubicBezTo>
                <a:cubicBezTo>
                  <a:pt x="18591" y="16250"/>
                  <a:pt x="18607" y="16386"/>
                  <a:pt x="18574" y="16510"/>
                </a:cubicBezTo>
                <a:cubicBezTo>
                  <a:pt x="18555" y="16581"/>
                  <a:pt x="18542" y="16625"/>
                  <a:pt x="18542" y="16700"/>
                </a:cubicBezTo>
                <a:cubicBezTo>
                  <a:pt x="18586" y="16686"/>
                  <a:pt x="18582" y="16656"/>
                  <a:pt x="18637" y="16637"/>
                </a:cubicBezTo>
                <a:cubicBezTo>
                  <a:pt x="18684" y="16621"/>
                  <a:pt x="18709" y="16605"/>
                  <a:pt x="18764" y="16605"/>
                </a:cubicBezTo>
                <a:cubicBezTo>
                  <a:pt x="18796" y="16605"/>
                  <a:pt x="18807" y="16605"/>
                  <a:pt x="18828" y="16605"/>
                </a:cubicBezTo>
              </a:path>
              <a:path w="4541" h="1875">
                <a:moveTo>
                  <a:pt x="19018" y="16446"/>
                </a:moveTo>
                <a:cubicBezTo>
                  <a:pt x="19029" y="16446"/>
                  <a:pt x="19039" y="16446"/>
                  <a:pt x="19050" y="16446"/>
                </a:cubicBezTo>
              </a:path>
              <a:path w="4541" h="1875">
                <a:moveTo>
                  <a:pt x="19463" y="15589"/>
                </a:moveTo>
                <a:cubicBezTo>
                  <a:pt x="19387" y="15589"/>
                  <a:pt x="19396" y="15636"/>
                  <a:pt x="19336" y="15653"/>
                </a:cubicBezTo>
                <a:cubicBezTo>
                  <a:pt x="19268" y="15672"/>
                  <a:pt x="19220" y="15684"/>
                  <a:pt x="19145" y="15684"/>
                </a:cubicBezTo>
                <a:cubicBezTo>
                  <a:pt x="19105" y="15684"/>
                  <a:pt x="19088" y="15706"/>
                  <a:pt x="19050" y="15716"/>
                </a:cubicBezTo>
                <a:cubicBezTo>
                  <a:pt x="19060" y="15757"/>
                  <a:pt x="19063" y="15838"/>
                  <a:pt x="19082" y="15875"/>
                </a:cubicBezTo>
                <a:cubicBezTo>
                  <a:pt x="19112" y="15935"/>
                  <a:pt x="19114" y="15957"/>
                  <a:pt x="19114" y="16034"/>
                </a:cubicBezTo>
                <a:cubicBezTo>
                  <a:pt x="19114" y="16087"/>
                  <a:pt x="19114" y="16139"/>
                  <a:pt x="19114" y="16192"/>
                </a:cubicBezTo>
                <a:cubicBezTo>
                  <a:pt x="19151" y="16180"/>
                  <a:pt x="19168" y="16138"/>
                  <a:pt x="19209" y="16097"/>
                </a:cubicBezTo>
                <a:cubicBezTo>
                  <a:pt x="19246" y="16060"/>
                  <a:pt x="19247" y="15995"/>
                  <a:pt x="19304" y="15970"/>
                </a:cubicBezTo>
                <a:cubicBezTo>
                  <a:pt x="19339" y="15955"/>
                  <a:pt x="19414" y="15967"/>
                  <a:pt x="19431" y="16002"/>
                </a:cubicBezTo>
                <a:cubicBezTo>
                  <a:pt x="19459" y="16058"/>
                  <a:pt x="19491" y="16129"/>
                  <a:pt x="19494" y="16192"/>
                </a:cubicBezTo>
                <a:cubicBezTo>
                  <a:pt x="19499" y="16294"/>
                  <a:pt x="19493" y="16415"/>
                  <a:pt x="19463" y="16510"/>
                </a:cubicBezTo>
                <a:cubicBezTo>
                  <a:pt x="19454" y="16538"/>
                  <a:pt x="19423" y="16706"/>
                  <a:pt x="19368" y="16700"/>
                </a:cubicBezTo>
                <a:cubicBezTo>
                  <a:pt x="19336" y="16669"/>
                  <a:pt x="19325" y="16658"/>
                  <a:pt x="19304" y="16637"/>
                </a:cubicBezTo>
              </a:path>
              <a:path w="4541" h="1875">
                <a:moveTo>
                  <a:pt x="19399" y="15399"/>
                </a:moveTo>
                <a:cubicBezTo>
                  <a:pt x="19461" y="15407"/>
                  <a:pt x="19475" y="15390"/>
                  <a:pt x="19526" y="15430"/>
                </a:cubicBezTo>
                <a:cubicBezTo>
                  <a:pt x="19586" y="15477"/>
                  <a:pt x="19633" y="15547"/>
                  <a:pt x="19685" y="15589"/>
                </a:cubicBezTo>
                <a:cubicBezTo>
                  <a:pt x="19780" y="15665"/>
                  <a:pt x="19822" y="15729"/>
                  <a:pt x="19876" y="15843"/>
                </a:cubicBezTo>
                <a:cubicBezTo>
                  <a:pt x="19939" y="15977"/>
                  <a:pt x="19939" y="16076"/>
                  <a:pt x="19939" y="16224"/>
                </a:cubicBezTo>
                <a:cubicBezTo>
                  <a:pt x="19939" y="16389"/>
                  <a:pt x="19942" y="16539"/>
                  <a:pt x="19907" y="16700"/>
                </a:cubicBezTo>
                <a:cubicBezTo>
                  <a:pt x="19885" y="16802"/>
                  <a:pt x="19854" y="16959"/>
                  <a:pt x="19812" y="17050"/>
                </a:cubicBezTo>
                <a:cubicBezTo>
                  <a:pt x="19801" y="17061"/>
                  <a:pt x="19791" y="17071"/>
                  <a:pt x="19780" y="170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10"/>
          <p:cNvSpPr/>
          <p:nvPr/>
        </p:nvSpPr>
        <p:spPr>
          <a:xfrm>
            <a:off x="7350120" y="5794200"/>
            <a:ext cx="103320" cy="149400"/>
          </a:xfrm>
          <a:custGeom>
            <a:avLst/>
            <a:gdLst/>
            <a:ahLst/>
            <a:rect l="l" t="t" r="r" b="b"/>
            <a:pathLst>
              <a:path w="287" h="414">
                <a:moveTo>
                  <a:pt x="20415" y="16097"/>
                </a:moveTo>
                <a:cubicBezTo>
                  <a:pt x="20513" y="16097"/>
                  <a:pt x="20578" y="16106"/>
                  <a:pt x="20669" y="16129"/>
                </a:cubicBezTo>
                <a:cubicBezTo>
                  <a:pt x="20680" y="16129"/>
                  <a:pt x="20690" y="16129"/>
                  <a:pt x="20701" y="16129"/>
                </a:cubicBezTo>
              </a:path>
              <a:path w="287" h="414">
                <a:moveTo>
                  <a:pt x="20447" y="16478"/>
                </a:moveTo>
                <a:cubicBezTo>
                  <a:pt x="20436" y="16478"/>
                  <a:pt x="20426" y="16478"/>
                  <a:pt x="20415" y="16478"/>
                </a:cubicBezTo>
                <a:cubicBezTo>
                  <a:pt x="20463" y="16494"/>
                  <a:pt x="20442" y="16510"/>
                  <a:pt x="20510" y="16510"/>
                </a:cubicBezTo>
                <a:cubicBezTo>
                  <a:pt x="20563" y="16510"/>
                  <a:pt x="20594" y="16497"/>
                  <a:pt x="20638" y="16478"/>
                </a:cubicBezTo>
                <a:cubicBezTo>
                  <a:pt x="20659" y="16467"/>
                  <a:pt x="20680" y="16457"/>
                  <a:pt x="20701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11"/>
          <p:cNvSpPr/>
          <p:nvPr/>
        </p:nvSpPr>
        <p:spPr>
          <a:xfrm>
            <a:off x="7647120" y="5429160"/>
            <a:ext cx="788760" cy="628920"/>
          </a:xfrm>
          <a:custGeom>
            <a:avLst/>
            <a:gdLst/>
            <a:ahLst/>
            <a:rect l="l" t="t" r="r" b="b"/>
            <a:pathLst>
              <a:path w="2192" h="1748">
                <a:moveTo>
                  <a:pt x="21654" y="15113"/>
                </a:moveTo>
                <a:cubicBezTo>
                  <a:pt x="21577" y="15132"/>
                  <a:pt x="21575" y="15147"/>
                  <a:pt x="21526" y="15208"/>
                </a:cubicBezTo>
                <a:cubicBezTo>
                  <a:pt x="21482" y="15262"/>
                  <a:pt x="21363" y="15327"/>
                  <a:pt x="21336" y="15367"/>
                </a:cubicBezTo>
                <a:cubicBezTo>
                  <a:pt x="21336" y="15403"/>
                  <a:pt x="21333" y="15417"/>
                  <a:pt x="21304" y="15430"/>
                </a:cubicBezTo>
                <a:cubicBezTo>
                  <a:pt x="21333" y="15468"/>
                  <a:pt x="21349" y="15535"/>
                  <a:pt x="21400" y="15558"/>
                </a:cubicBezTo>
                <a:cubicBezTo>
                  <a:pt x="21438" y="15575"/>
                  <a:pt x="21490" y="15565"/>
                  <a:pt x="21526" y="15589"/>
                </a:cubicBezTo>
                <a:cubicBezTo>
                  <a:pt x="21563" y="15614"/>
                  <a:pt x="21609" y="15678"/>
                  <a:pt x="21622" y="15716"/>
                </a:cubicBezTo>
                <a:cubicBezTo>
                  <a:pt x="21648" y="15793"/>
                  <a:pt x="21591" y="15845"/>
                  <a:pt x="21558" y="15907"/>
                </a:cubicBezTo>
                <a:cubicBezTo>
                  <a:pt x="21514" y="15990"/>
                  <a:pt x="21498" y="16065"/>
                  <a:pt x="21400" y="16097"/>
                </a:cubicBezTo>
                <a:cubicBezTo>
                  <a:pt x="21363" y="16109"/>
                  <a:pt x="21291" y="16103"/>
                  <a:pt x="21272" y="16066"/>
                </a:cubicBezTo>
                <a:cubicBezTo>
                  <a:pt x="21243" y="16009"/>
                  <a:pt x="21247" y="15939"/>
                  <a:pt x="21241" y="15875"/>
                </a:cubicBezTo>
              </a:path>
              <a:path w="2192" h="1748">
                <a:moveTo>
                  <a:pt x="21463" y="15081"/>
                </a:moveTo>
                <a:cubicBezTo>
                  <a:pt x="21463" y="15214"/>
                  <a:pt x="21443" y="15335"/>
                  <a:pt x="21431" y="15462"/>
                </a:cubicBezTo>
                <a:cubicBezTo>
                  <a:pt x="21418" y="15601"/>
                  <a:pt x="21421" y="15752"/>
                  <a:pt x="21431" y="15875"/>
                </a:cubicBezTo>
                <a:cubicBezTo>
                  <a:pt x="21441" y="15993"/>
                  <a:pt x="21435" y="16082"/>
                  <a:pt x="21463" y="16192"/>
                </a:cubicBezTo>
                <a:cubicBezTo>
                  <a:pt x="21463" y="16203"/>
                  <a:pt x="21463" y="16213"/>
                  <a:pt x="21463" y="16224"/>
                </a:cubicBezTo>
              </a:path>
              <a:path w="2192" h="1748">
                <a:moveTo>
                  <a:pt x="21590" y="15113"/>
                </a:moveTo>
                <a:cubicBezTo>
                  <a:pt x="21590" y="15462"/>
                  <a:pt x="21590" y="15812"/>
                  <a:pt x="21590" y="16161"/>
                </a:cubicBezTo>
              </a:path>
              <a:path w="2192" h="1748">
                <a:moveTo>
                  <a:pt x="22003" y="15367"/>
                </a:moveTo>
                <a:cubicBezTo>
                  <a:pt x="22017" y="15374"/>
                  <a:pt x="22017" y="15461"/>
                  <a:pt x="22003" y="15526"/>
                </a:cubicBezTo>
                <a:cubicBezTo>
                  <a:pt x="21972" y="15665"/>
                  <a:pt x="21921" y="15796"/>
                  <a:pt x="21908" y="15938"/>
                </a:cubicBezTo>
                <a:cubicBezTo>
                  <a:pt x="21892" y="16116"/>
                  <a:pt x="21881" y="16300"/>
                  <a:pt x="21876" y="16478"/>
                </a:cubicBezTo>
                <a:cubicBezTo>
                  <a:pt x="21873" y="16584"/>
                  <a:pt x="21876" y="16690"/>
                  <a:pt x="21876" y="16796"/>
                </a:cubicBezTo>
              </a:path>
              <a:path w="2192" h="1748">
                <a:moveTo>
                  <a:pt x="22225" y="15621"/>
                </a:moveTo>
                <a:cubicBezTo>
                  <a:pt x="22206" y="15716"/>
                  <a:pt x="22190" y="15811"/>
                  <a:pt x="22162" y="15907"/>
                </a:cubicBezTo>
                <a:cubicBezTo>
                  <a:pt x="22119" y="16052"/>
                  <a:pt x="22081" y="16201"/>
                  <a:pt x="22066" y="16351"/>
                </a:cubicBezTo>
                <a:cubicBezTo>
                  <a:pt x="22053" y="16480"/>
                  <a:pt x="22038" y="16677"/>
                  <a:pt x="22098" y="16796"/>
                </a:cubicBezTo>
                <a:cubicBezTo>
                  <a:pt x="22127" y="16825"/>
                  <a:pt x="22133" y="16836"/>
                  <a:pt x="22162" y="16828"/>
                </a:cubicBezTo>
                <a:cubicBezTo>
                  <a:pt x="22218" y="16742"/>
                  <a:pt x="22254" y="16642"/>
                  <a:pt x="22288" y="16542"/>
                </a:cubicBezTo>
                <a:cubicBezTo>
                  <a:pt x="22343" y="16383"/>
                  <a:pt x="22325" y="16255"/>
                  <a:pt x="22352" y="16097"/>
                </a:cubicBezTo>
                <a:cubicBezTo>
                  <a:pt x="22376" y="15957"/>
                  <a:pt x="22373" y="15883"/>
                  <a:pt x="22352" y="15748"/>
                </a:cubicBezTo>
                <a:cubicBezTo>
                  <a:pt x="22348" y="15723"/>
                  <a:pt x="22338" y="15596"/>
                  <a:pt x="22288" y="15621"/>
                </a:cubicBezTo>
                <a:cubicBezTo>
                  <a:pt x="22244" y="15643"/>
                  <a:pt x="22143" y="15659"/>
                  <a:pt x="22193" y="15684"/>
                </a:cubicBezTo>
                <a:cubicBezTo>
                  <a:pt x="22225" y="15653"/>
                  <a:pt x="22257" y="15621"/>
                  <a:pt x="22288" y="15589"/>
                </a:cubicBezTo>
              </a:path>
              <a:path w="2192" h="1748">
                <a:moveTo>
                  <a:pt x="22511" y="15462"/>
                </a:moveTo>
                <a:cubicBezTo>
                  <a:pt x="22563" y="15409"/>
                  <a:pt x="22570" y="15408"/>
                  <a:pt x="22638" y="15399"/>
                </a:cubicBezTo>
                <a:cubicBezTo>
                  <a:pt x="22610" y="15454"/>
                  <a:pt x="22567" y="15524"/>
                  <a:pt x="22542" y="15589"/>
                </a:cubicBezTo>
                <a:cubicBezTo>
                  <a:pt x="22497" y="15706"/>
                  <a:pt x="22465" y="15878"/>
                  <a:pt x="22447" y="16002"/>
                </a:cubicBezTo>
                <a:cubicBezTo>
                  <a:pt x="22429" y="16128"/>
                  <a:pt x="22465" y="16233"/>
                  <a:pt x="22479" y="16351"/>
                </a:cubicBezTo>
                <a:cubicBezTo>
                  <a:pt x="22485" y="16401"/>
                  <a:pt x="22496" y="16553"/>
                  <a:pt x="22574" y="16574"/>
                </a:cubicBezTo>
                <a:cubicBezTo>
                  <a:pt x="22652" y="16595"/>
                  <a:pt x="22683" y="16560"/>
                  <a:pt x="22733" y="16510"/>
                </a:cubicBezTo>
                <a:cubicBezTo>
                  <a:pt x="22820" y="16423"/>
                  <a:pt x="22804" y="16332"/>
                  <a:pt x="22828" y="16224"/>
                </a:cubicBezTo>
                <a:cubicBezTo>
                  <a:pt x="22855" y="16101"/>
                  <a:pt x="22860" y="16003"/>
                  <a:pt x="22860" y="15875"/>
                </a:cubicBezTo>
                <a:cubicBezTo>
                  <a:pt x="22860" y="15789"/>
                  <a:pt x="22842" y="15663"/>
                  <a:pt x="22796" y="15589"/>
                </a:cubicBezTo>
                <a:cubicBezTo>
                  <a:pt x="22763" y="15535"/>
                  <a:pt x="22757" y="15518"/>
                  <a:pt x="22701" y="15494"/>
                </a:cubicBezTo>
                <a:cubicBezTo>
                  <a:pt x="22691" y="15494"/>
                  <a:pt x="22680" y="15494"/>
                  <a:pt x="22670" y="15494"/>
                </a:cubicBezTo>
                <a:cubicBezTo>
                  <a:pt x="22709" y="15462"/>
                  <a:pt x="22750" y="15428"/>
                  <a:pt x="22796" y="15399"/>
                </a:cubicBezTo>
                <a:cubicBezTo>
                  <a:pt x="22835" y="15374"/>
                  <a:pt x="22914" y="15359"/>
                  <a:pt x="22955" y="15335"/>
                </a:cubicBezTo>
                <a:cubicBezTo>
                  <a:pt x="23006" y="15305"/>
                  <a:pt x="22993" y="15312"/>
                  <a:pt x="23050" y="15304"/>
                </a:cubicBezTo>
                <a:cubicBezTo>
                  <a:pt x="23044" y="15363"/>
                  <a:pt x="23028" y="15406"/>
                  <a:pt x="23019" y="15462"/>
                </a:cubicBezTo>
                <a:cubicBezTo>
                  <a:pt x="23000" y="15577"/>
                  <a:pt x="22967" y="15692"/>
                  <a:pt x="22955" y="15812"/>
                </a:cubicBezTo>
                <a:cubicBezTo>
                  <a:pt x="22940" y="15965"/>
                  <a:pt x="22964" y="16114"/>
                  <a:pt x="22987" y="16256"/>
                </a:cubicBezTo>
                <a:cubicBezTo>
                  <a:pt x="23001" y="16345"/>
                  <a:pt x="22995" y="16346"/>
                  <a:pt x="23082" y="16351"/>
                </a:cubicBezTo>
                <a:cubicBezTo>
                  <a:pt x="23162" y="16356"/>
                  <a:pt x="23227" y="16290"/>
                  <a:pt x="23273" y="16224"/>
                </a:cubicBezTo>
                <a:cubicBezTo>
                  <a:pt x="23315" y="16164"/>
                  <a:pt x="23363" y="16096"/>
                  <a:pt x="23400" y="16034"/>
                </a:cubicBezTo>
                <a:cubicBezTo>
                  <a:pt x="23433" y="15980"/>
                  <a:pt x="23422" y="15937"/>
                  <a:pt x="23400" y="15875"/>
                </a:cubicBezTo>
                <a:cubicBezTo>
                  <a:pt x="23357" y="15752"/>
                  <a:pt x="23279" y="15677"/>
                  <a:pt x="23209" y="15589"/>
                </a:cubicBezTo>
                <a:cubicBezTo>
                  <a:pt x="23161" y="15529"/>
                  <a:pt x="23118" y="15435"/>
                  <a:pt x="23082" y="15367"/>
                </a:cubicBezTo>
                <a:cubicBezTo>
                  <a:pt x="23071" y="15346"/>
                  <a:pt x="23061" y="15325"/>
                  <a:pt x="2305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12"/>
          <p:cNvSpPr/>
          <p:nvPr/>
        </p:nvSpPr>
        <p:spPr>
          <a:xfrm>
            <a:off x="7532640" y="3807000"/>
            <a:ext cx="160560" cy="433080"/>
          </a:xfrm>
          <a:custGeom>
            <a:avLst/>
            <a:gdLst/>
            <a:ahLst/>
            <a:rect l="l" t="t" r="r" b="b"/>
            <a:pathLst>
              <a:path w="446" h="1207">
                <a:moveTo>
                  <a:pt x="21368" y="10732"/>
                </a:moveTo>
                <a:cubicBezTo>
                  <a:pt x="21293" y="10732"/>
                  <a:pt x="21300" y="10757"/>
                  <a:pt x="21241" y="10795"/>
                </a:cubicBezTo>
                <a:cubicBezTo>
                  <a:pt x="21158" y="10848"/>
                  <a:pt x="21122" y="10929"/>
                  <a:pt x="21050" y="10986"/>
                </a:cubicBezTo>
                <a:cubicBezTo>
                  <a:pt x="21009" y="11018"/>
                  <a:pt x="20951" y="11040"/>
                  <a:pt x="20923" y="11049"/>
                </a:cubicBezTo>
                <a:cubicBezTo>
                  <a:pt x="20972" y="11086"/>
                  <a:pt x="20988" y="11081"/>
                  <a:pt x="21050" y="11081"/>
                </a:cubicBezTo>
                <a:cubicBezTo>
                  <a:pt x="21124" y="11081"/>
                  <a:pt x="21151" y="11093"/>
                  <a:pt x="21209" y="11112"/>
                </a:cubicBezTo>
                <a:cubicBezTo>
                  <a:pt x="21241" y="11112"/>
                  <a:pt x="21251" y="11112"/>
                  <a:pt x="21272" y="11112"/>
                </a:cubicBezTo>
                <a:cubicBezTo>
                  <a:pt x="21272" y="11222"/>
                  <a:pt x="21254" y="11253"/>
                  <a:pt x="21177" y="11335"/>
                </a:cubicBezTo>
                <a:cubicBezTo>
                  <a:pt x="21119" y="11396"/>
                  <a:pt x="21073" y="11453"/>
                  <a:pt x="20987" y="11462"/>
                </a:cubicBezTo>
                <a:cubicBezTo>
                  <a:pt x="20949" y="11466"/>
                  <a:pt x="20925" y="11406"/>
                  <a:pt x="20923" y="11366"/>
                </a:cubicBezTo>
                <a:cubicBezTo>
                  <a:pt x="20923" y="11334"/>
                  <a:pt x="20923" y="11303"/>
                  <a:pt x="20923" y="11271"/>
                </a:cubicBezTo>
              </a:path>
              <a:path w="446" h="1207">
                <a:moveTo>
                  <a:pt x="21082" y="10573"/>
                </a:moveTo>
                <a:cubicBezTo>
                  <a:pt x="21082" y="10975"/>
                  <a:pt x="21082" y="11377"/>
                  <a:pt x="21082" y="11779"/>
                </a:cubicBezTo>
              </a:path>
              <a:path w="446" h="1207">
                <a:moveTo>
                  <a:pt x="21304" y="10636"/>
                </a:moveTo>
                <a:cubicBezTo>
                  <a:pt x="21379" y="10661"/>
                  <a:pt x="21318" y="10789"/>
                  <a:pt x="21304" y="10858"/>
                </a:cubicBezTo>
                <a:cubicBezTo>
                  <a:pt x="21256" y="11092"/>
                  <a:pt x="21214" y="11319"/>
                  <a:pt x="21209" y="11557"/>
                </a:cubicBezTo>
                <a:cubicBezTo>
                  <a:pt x="21209" y="11621"/>
                  <a:pt x="21209" y="11684"/>
                  <a:pt x="21209" y="11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2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Ways to Solve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re it crosses the x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-Rooting” (*only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ic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3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2m = -7 by graph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3"/>
          <p:cNvSpPr/>
          <p:nvPr/>
        </p:nvSpPr>
        <p:spPr>
          <a:xfrm>
            <a:off x="5372280" y="1440000"/>
            <a:ext cx="366480" cy="230040"/>
          </a:xfrm>
          <a:custGeom>
            <a:avLst/>
            <a:gdLst/>
            <a:ahLst/>
            <a:rect l="l" t="t" r="r" b="b"/>
            <a:pathLst>
              <a:path w="1017" h="637">
                <a:moveTo>
                  <a:pt x="15113" y="4254"/>
                </a:moveTo>
                <a:cubicBezTo>
                  <a:pt x="15101" y="4353"/>
                  <a:pt x="15081" y="4435"/>
                  <a:pt x="15081" y="4540"/>
                </a:cubicBezTo>
              </a:path>
              <a:path w="1017" h="637">
                <a:moveTo>
                  <a:pt x="15399" y="4064"/>
                </a:moveTo>
                <a:cubicBezTo>
                  <a:pt x="15446" y="4048"/>
                  <a:pt x="15425" y="4032"/>
                  <a:pt x="15494" y="4032"/>
                </a:cubicBezTo>
                <a:cubicBezTo>
                  <a:pt x="15548" y="4032"/>
                  <a:pt x="15587" y="4000"/>
                  <a:pt x="15653" y="4000"/>
                </a:cubicBezTo>
                <a:cubicBezTo>
                  <a:pt x="15742" y="4000"/>
                  <a:pt x="15868" y="3978"/>
                  <a:pt x="15907" y="4032"/>
                </a:cubicBezTo>
                <a:cubicBezTo>
                  <a:pt x="15955" y="4098"/>
                  <a:pt x="15887" y="4201"/>
                  <a:pt x="15875" y="4286"/>
                </a:cubicBezTo>
                <a:cubicBezTo>
                  <a:pt x="15861" y="4384"/>
                  <a:pt x="15832" y="4475"/>
                  <a:pt x="15812" y="4572"/>
                </a:cubicBezTo>
                <a:cubicBezTo>
                  <a:pt x="15812" y="4604"/>
                  <a:pt x="15812" y="4615"/>
                  <a:pt x="15812" y="4636"/>
                </a:cubicBezTo>
              </a:path>
              <a:path w="1017" h="637">
                <a:moveTo>
                  <a:pt x="15081" y="4000"/>
                </a:moveTo>
                <a:cubicBezTo>
                  <a:pt x="15081" y="4205"/>
                  <a:pt x="15068" y="4410"/>
                  <a:pt x="15113" y="4604"/>
                </a:cubicBezTo>
                <a:cubicBezTo>
                  <a:pt x="15113" y="4636"/>
                  <a:pt x="15113" y="4647"/>
                  <a:pt x="15113" y="4604"/>
                </a:cubicBezTo>
              </a:path>
              <a:path w="1017" h="637">
                <a:moveTo>
                  <a:pt x="14922" y="4350"/>
                </a:moveTo>
                <a:cubicBezTo>
                  <a:pt x="15049" y="4350"/>
                  <a:pt x="15177" y="4350"/>
                  <a:pt x="15304" y="4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4"/>
          <p:cNvSpPr/>
          <p:nvPr/>
        </p:nvSpPr>
        <p:spPr>
          <a:xfrm>
            <a:off x="6022800" y="1382760"/>
            <a:ext cx="481320" cy="309600"/>
          </a:xfrm>
          <a:custGeom>
            <a:avLst/>
            <a:gdLst/>
            <a:ahLst/>
            <a:rect l="l" t="t" r="r" b="b"/>
            <a:pathLst>
              <a:path w="1335" h="858">
                <a:moveTo>
                  <a:pt x="16986" y="3842"/>
                </a:moveTo>
                <a:cubicBezTo>
                  <a:pt x="16986" y="3853"/>
                  <a:pt x="16986" y="3863"/>
                  <a:pt x="16986" y="3874"/>
                </a:cubicBezTo>
              </a:path>
              <a:path w="1335" h="858">
                <a:moveTo>
                  <a:pt x="16986" y="3842"/>
                </a:moveTo>
                <a:cubicBezTo>
                  <a:pt x="16986" y="3863"/>
                  <a:pt x="16986" y="3884"/>
                  <a:pt x="16986" y="3905"/>
                </a:cubicBezTo>
              </a:path>
              <a:path w="1335" h="858">
                <a:moveTo>
                  <a:pt x="16986" y="3905"/>
                </a:moveTo>
                <a:cubicBezTo>
                  <a:pt x="16986" y="4022"/>
                  <a:pt x="16970" y="4110"/>
                  <a:pt x="16954" y="4223"/>
                </a:cubicBezTo>
                <a:cubicBezTo>
                  <a:pt x="16937" y="4342"/>
                  <a:pt x="16956" y="4472"/>
                  <a:pt x="16986" y="4572"/>
                </a:cubicBezTo>
                <a:cubicBezTo>
                  <a:pt x="16986" y="4604"/>
                  <a:pt x="16986" y="4615"/>
                  <a:pt x="16986" y="4636"/>
                </a:cubicBezTo>
              </a:path>
              <a:path w="1335" h="858">
                <a:moveTo>
                  <a:pt x="16732" y="4318"/>
                </a:moveTo>
                <a:cubicBezTo>
                  <a:pt x="16805" y="4318"/>
                  <a:pt x="16856" y="4297"/>
                  <a:pt x="16923" y="4286"/>
                </a:cubicBezTo>
                <a:cubicBezTo>
                  <a:pt x="17031" y="4268"/>
                  <a:pt x="17162" y="4286"/>
                  <a:pt x="17272" y="4286"/>
                </a:cubicBezTo>
              </a:path>
              <a:path w="1335" h="858">
                <a:moveTo>
                  <a:pt x="17558" y="3937"/>
                </a:moveTo>
                <a:cubicBezTo>
                  <a:pt x="17628" y="3937"/>
                  <a:pt x="17677" y="3909"/>
                  <a:pt x="17748" y="3905"/>
                </a:cubicBezTo>
                <a:cubicBezTo>
                  <a:pt x="17799" y="3902"/>
                  <a:pt x="18046" y="3872"/>
                  <a:pt x="18066" y="3937"/>
                </a:cubicBezTo>
                <a:cubicBezTo>
                  <a:pt x="18083" y="3991"/>
                  <a:pt x="18025" y="4108"/>
                  <a:pt x="18002" y="4159"/>
                </a:cubicBezTo>
                <a:cubicBezTo>
                  <a:pt x="17966" y="4239"/>
                  <a:pt x="17973" y="4339"/>
                  <a:pt x="17939" y="4413"/>
                </a:cubicBezTo>
                <a:cubicBezTo>
                  <a:pt x="17909" y="4479"/>
                  <a:pt x="17907" y="4523"/>
                  <a:pt x="17907" y="4604"/>
                </a:cubicBezTo>
                <a:cubicBezTo>
                  <a:pt x="17907" y="4636"/>
                  <a:pt x="17907" y="4667"/>
                  <a:pt x="17907" y="4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5"/>
          <p:cNvSpPr/>
          <p:nvPr/>
        </p:nvSpPr>
        <p:spPr>
          <a:xfrm>
            <a:off x="1292400" y="2182680"/>
            <a:ext cx="4147920" cy="3213360"/>
          </a:xfrm>
          <a:custGeom>
            <a:avLst/>
            <a:gdLst/>
            <a:ahLst/>
            <a:rect l="l" t="t" r="r" b="b"/>
            <a:pathLst>
              <a:path w="11526" h="8923">
                <a:moveTo>
                  <a:pt x="6477" y="8477"/>
                </a:moveTo>
                <a:cubicBezTo>
                  <a:pt x="6462" y="8547"/>
                  <a:pt x="6450" y="8594"/>
                  <a:pt x="6445" y="8668"/>
                </a:cubicBezTo>
                <a:cubicBezTo>
                  <a:pt x="6435" y="8798"/>
                  <a:pt x="6418" y="8919"/>
                  <a:pt x="6414" y="9049"/>
                </a:cubicBezTo>
                <a:cubicBezTo>
                  <a:pt x="6406" y="9347"/>
                  <a:pt x="6401" y="9642"/>
                  <a:pt x="6382" y="9938"/>
                </a:cubicBezTo>
                <a:cubicBezTo>
                  <a:pt x="6349" y="10454"/>
                  <a:pt x="6387" y="10981"/>
                  <a:pt x="6414" y="11494"/>
                </a:cubicBezTo>
                <a:cubicBezTo>
                  <a:pt x="6428" y="11769"/>
                  <a:pt x="6430" y="12046"/>
                  <a:pt x="6445" y="12319"/>
                </a:cubicBezTo>
                <a:cubicBezTo>
                  <a:pt x="6459" y="12574"/>
                  <a:pt x="6447" y="12828"/>
                  <a:pt x="6477" y="13081"/>
                </a:cubicBezTo>
                <a:cubicBezTo>
                  <a:pt x="6506" y="13325"/>
                  <a:pt x="6483" y="13568"/>
                  <a:pt x="6509" y="13811"/>
                </a:cubicBezTo>
                <a:cubicBezTo>
                  <a:pt x="6529" y="13999"/>
                  <a:pt x="6515" y="14197"/>
                  <a:pt x="6540" y="14383"/>
                </a:cubicBezTo>
                <a:cubicBezTo>
                  <a:pt x="6559" y="14526"/>
                  <a:pt x="6569" y="14650"/>
                  <a:pt x="6572" y="14796"/>
                </a:cubicBezTo>
                <a:cubicBezTo>
                  <a:pt x="6575" y="14922"/>
                  <a:pt x="6563" y="14880"/>
                  <a:pt x="6540" y="14986"/>
                </a:cubicBezTo>
              </a:path>
              <a:path w="11526" h="8923">
                <a:moveTo>
                  <a:pt x="3778" y="12319"/>
                </a:moveTo>
                <a:cubicBezTo>
                  <a:pt x="3716" y="12305"/>
                  <a:pt x="3676" y="12303"/>
                  <a:pt x="3620" y="12287"/>
                </a:cubicBezTo>
                <a:cubicBezTo>
                  <a:pt x="3588" y="12287"/>
                  <a:pt x="3577" y="12287"/>
                  <a:pt x="3620" y="12287"/>
                </a:cubicBezTo>
                <a:cubicBezTo>
                  <a:pt x="3674" y="12291"/>
                  <a:pt x="3742" y="12316"/>
                  <a:pt x="3778" y="12319"/>
                </a:cubicBezTo>
                <a:cubicBezTo>
                  <a:pt x="4093" y="12345"/>
                  <a:pt x="4421" y="12313"/>
                  <a:pt x="4731" y="12287"/>
                </a:cubicBezTo>
                <a:cubicBezTo>
                  <a:pt x="4921" y="12271"/>
                  <a:pt x="5113" y="12281"/>
                  <a:pt x="5302" y="12256"/>
                </a:cubicBezTo>
                <a:cubicBezTo>
                  <a:pt x="5524" y="12226"/>
                  <a:pt x="5747" y="12218"/>
                  <a:pt x="5969" y="12192"/>
                </a:cubicBezTo>
                <a:cubicBezTo>
                  <a:pt x="6223" y="12162"/>
                  <a:pt x="6475" y="12133"/>
                  <a:pt x="6731" y="12128"/>
                </a:cubicBezTo>
                <a:cubicBezTo>
                  <a:pt x="6991" y="12123"/>
                  <a:pt x="7266" y="12121"/>
                  <a:pt x="7525" y="12097"/>
                </a:cubicBezTo>
                <a:cubicBezTo>
                  <a:pt x="7841" y="12067"/>
                  <a:pt x="8159" y="12040"/>
                  <a:pt x="8477" y="12033"/>
                </a:cubicBezTo>
                <a:cubicBezTo>
                  <a:pt x="8890" y="12025"/>
                  <a:pt x="9303" y="12033"/>
                  <a:pt x="9716" y="12033"/>
                </a:cubicBezTo>
              </a:path>
              <a:path w="11526" h="8923">
                <a:moveTo>
                  <a:pt x="8954" y="8255"/>
                </a:moveTo>
                <a:cubicBezTo>
                  <a:pt x="9059" y="8271"/>
                  <a:pt x="9158" y="8285"/>
                  <a:pt x="9271" y="8287"/>
                </a:cubicBezTo>
                <a:cubicBezTo>
                  <a:pt x="9516" y="8291"/>
                  <a:pt x="9763" y="8307"/>
                  <a:pt x="10001" y="8318"/>
                </a:cubicBezTo>
                <a:cubicBezTo>
                  <a:pt x="10244" y="8329"/>
                  <a:pt x="10493" y="8339"/>
                  <a:pt x="10732" y="8350"/>
                </a:cubicBezTo>
                <a:cubicBezTo>
                  <a:pt x="10903" y="8358"/>
                  <a:pt x="11070" y="8364"/>
                  <a:pt x="11240" y="8382"/>
                </a:cubicBezTo>
                <a:cubicBezTo>
                  <a:pt x="11461" y="8406"/>
                  <a:pt x="11682" y="8443"/>
                  <a:pt x="11906" y="8446"/>
                </a:cubicBezTo>
                <a:cubicBezTo>
                  <a:pt x="12531" y="8455"/>
                  <a:pt x="13161" y="8441"/>
                  <a:pt x="13780" y="8414"/>
                </a:cubicBezTo>
                <a:cubicBezTo>
                  <a:pt x="13940" y="8407"/>
                  <a:pt x="14118" y="8414"/>
                  <a:pt x="14288" y="8414"/>
                </a:cubicBezTo>
                <a:cubicBezTo>
                  <a:pt x="14551" y="8414"/>
                  <a:pt x="14839" y="8407"/>
                  <a:pt x="15081" y="8382"/>
                </a:cubicBezTo>
                <a:cubicBezTo>
                  <a:pt x="15092" y="8382"/>
                  <a:pt x="15102" y="8382"/>
                  <a:pt x="15113" y="8382"/>
                </a:cubicBezTo>
                <a:cubicBezTo>
                  <a:pt x="15113" y="7986"/>
                  <a:pt x="15088" y="7599"/>
                  <a:pt x="15081" y="7207"/>
                </a:cubicBezTo>
                <a:cubicBezTo>
                  <a:pt x="15079" y="7076"/>
                  <a:pt x="15045" y="6953"/>
                  <a:pt x="15050" y="6826"/>
                </a:cubicBezTo>
                <a:cubicBezTo>
                  <a:pt x="15054" y="6704"/>
                  <a:pt x="15078" y="6573"/>
                  <a:pt x="15081" y="6445"/>
                </a:cubicBezTo>
                <a:cubicBezTo>
                  <a:pt x="15082" y="6419"/>
                  <a:pt x="15081" y="6344"/>
                  <a:pt x="15081" y="6318"/>
                </a:cubicBezTo>
                <a:cubicBezTo>
                  <a:pt x="15081" y="6307"/>
                  <a:pt x="15081" y="6297"/>
                  <a:pt x="15081" y="6286"/>
                </a:cubicBezTo>
                <a:cubicBezTo>
                  <a:pt x="15016" y="6297"/>
                  <a:pt x="14956" y="6305"/>
                  <a:pt x="14891" y="6318"/>
                </a:cubicBezTo>
                <a:cubicBezTo>
                  <a:pt x="14777" y="6340"/>
                  <a:pt x="14658" y="6364"/>
                  <a:pt x="14542" y="6382"/>
                </a:cubicBezTo>
                <a:cubicBezTo>
                  <a:pt x="14394" y="6405"/>
                  <a:pt x="14247" y="6402"/>
                  <a:pt x="14097" y="6414"/>
                </a:cubicBezTo>
                <a:cubicBezTo>
                  <a:pt x="13903" y="6430"/>
                  <a:pt x="13750" y="6423"/>
                  <a:pt x="13557" y="6414"/>
                </a:cubicBezTo>
                <a:cubicBezTo>
                  <a:pt x="13385" y="6406"/>
                  <a:pt x="13220" y="6389"/>
                  <a:pt x="13049" y="6382"/>
                </a:cubicBezTo>
                <a:cubicBezTo>
                  <a:pt x="12866" y="6375"/>
                  <a:pt x="12691" y="6360"/>
                  <a:pt x="12510" y="6350"/>
                </a:cubicBezTo>
                <a:cubicBezTo>
                  <a:pt x="12306" y="6339"/>
                  <a:pt x="12111" y="6321"/>
                  <a:pt x="11906" y="6318"/>
                </a:cubicBezTo>
                <a:cubicBezTo>
                  <a:pt x="11713" y="6315"/>
                  <a:pt x="11523" y="6296"/>
                  <a:pt x="11335" y="6286"/>
                </a:cubicBezTo>
                <a:cubicBezTo>
                  <a:pt x="11141" y="6276"/>
                  <a:pt x="10955" y="6273"/>
                  <a:pt x="10763" y="6255"/>
                </a:cubicBezTo>
                <a:cubicBezTo>
                  <a:pt x="10602" y="6240"/>
                  <a:pt x="10412" y="6224"/>
                  <a:pt x="10255" y="6191"/>
                </a:cubicBezTo>
                <a:cubicBezTo>
                  <a:pt x="10107" y="6160"/>
                  <a:pt x="9963" y="6109"/>
                  <a:pt x="9811" y="6096"/>
                </a:cubicBezTo>
                <a:cubicBezTo>
                  <a:pt x="9677" y="6084"/>
                  <a:pt x="9527" y="6071"/>
                  <a:pt x="9398" y="6064"/>
                </a:cubicBezTo>
                <a:cubicBezTo>
                  <a:pt x="9264" y="6057"/>
                  <a:pt x="9148" y="6088"/>
                  <a:pt x="9017" y="6096"/>
                </a:cubicBezTo>
                <a:cubicBezTo>
                  <a:pt x="8899" y="6103"/>
                  <a:pt x="8782" y="6103"/>
                  <a:pt x="8668" y="6128"/>
                </a:cubicBezTo>
                <a:cubicBezTo>
                  <a:pt x="8582" y="6147"/>
                  <a:pt x="8463" y="6159"/>
                  <a:pt x="8382" y="6191"/>
                </a:cubicBezTo>
                <a:cubicBezTo>
                  <a:pt x="8316" y="6218"/>
                  <a:pt x="8213" y="6257"/>
                  <a:pt x="8160" y="6286"/>
                </a:cubicBezTo>
                <a:cubicBezTo>
                  <a:pt x="8084" y="6328"/>
                  <a:pt x="7997" y="6388"/>
                  <a:pt x="7969" y="6477"/>
                </a:cubicBezTo>
                <a:cubicBezTo>
                  <a:pt x="7928" y="6605"/>
                  <a:pt x="7994" y="6766"/>
                  <a:pt x="8001" y="6890"/>
                </a:cubicBezTo>
                <a:cubicBezTo>
                  <a:pt x="8010" y="7040"/>
                  <a:pt x="8026" y="7184"/>
                  <a:pt x="8033" y="7334"/>
                </a:cubicBezTo>
                <a:cubicBezTo>
                  <a:pt x="8041" y="7514"/>
                  <a:pt x="8054" y="7699"/>
                  <a:pt x="8064" y="7874"/>
                </a:cubicBezTo>
                <a:cubicBezTo>
                  <a:pt x="8070" y="7985"/>
                  <a:pt x="8077" y="8084"/>
                  <a:pt x="8096" y="8192"/>
                </a:cubicBezTo>
                <a:cubicBezTo>
                  <a:pt x="8100" y="8214"/>
                  <a:pt x="8112" y="8333"/>
                  <a:pt x="8128" y="8350"/>
                </a:cubicBezTo>
                <a:cubicBezTo>
                  <a:pt x="8209" y="8434"/>
                  <a:pt x="8184" y="8377"/>
                  <a:pt x="8255" y="8382"/>
                </a:cubicBezTo>
                <a:cubicBezTo>
                  <a:pt x="8347" y="8388"/>
                  <a:pt x="8422" y="8362"/>
                  <a:pt x="8509" y="8350"/>
                </a:cubicBezTo>
                <a:cubicBezTo>
                  <a:pt x="8618" y="8335"/>
                  <a:pt x="8711" y="8320"/>
                  <a:pt x="8826" y="8318"/>
                </a:cubicBezTo>
                <a:cubicBezTo>
                  <a:pt x="9006" y="8315"/>
                  <a:pt x="9186" y="8318"/>
                  <a:pt x="9366" y="8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6"/>
          <p:cNvSpPr/>
          <p:nvPr/>
        </p:nvSpPr>
        <p:spPr>
          <a:xfrm>
            <a:off x="2079720" y="2400480"/>
            <a:ext cx="172800" cy="606240"/>
          </a:xfrm>
          <a:custGeom>
            <a:avLst/>
            <a:gdLst/>
            <a:ahLst/>
            <a:rect l="l" t="t" r="r" b="b"/>
            <a:pathLst>
              <a:path w="478" h="1683">
                <a:moveTo>
                  <a:pt x="5810" y="6668"/>
                </a:moveTo>
                <a:cubicBezTo>
                  <a:pt x="5824" y="6691"/>
                  <a:pt x="5858" y="6698"/>
                  <a:pt x="5842" y="6763"/>
                </a:cubicBezTo>
                <a:cubicBezTo>
                  <a:pt x="5819" y="6858"/>
                  <a:pt x="5810" y="6910"/>
                  <a:pt x="5810" y="7017"/>
                </a:cubicBezTo>
                <a:cubicBezTo>
                  <a:pt x="5810" y="7161"/>
                  <a:pt x="5795" y="7295"/>
                  <a:pt x="5778" y="7430"/>
                </a:cubicBezTo>
                <a:cubicBezTo>
                  <a:pt x="5769" y="7505"/>
                  <a:pt x="5774" y="7594"/>
                  <a:pt x="5810" y="7652"/>
                </a:cubicBezTo>
                <a:cubicBezTo>
                  <a:pt x="5821" y="7663"/>
                  <a:pt x="5831" y="7673"/>
                  <a:pt x="5842" y="7684"/>
                </a:cubicBezTo>
                <a:cubicBezTo>
                  <a:pt x="5912" y="7649"/>
                  <a:pt x="5955" y="7634"/>
                  <a:pt x="6001" y="7556"/>
                </a:cubicBezTo>
                <a:cubicBezTo>
                  <a:pt x="6072" y="7434"/>
                  <a:pt x="6119" y="7342"/>
                  <a:pt x="6160" y="7207"/>
                </a:cubicBezTo>
                <a:cubicBezTo>
                  <a:pt x="6197" y="7088"/>
                  <a:pt x="6217" y="6971"/>
                  <a:pt x="6255" y="6858"/>
                </a:cubicBezTo>
                <a:cubicBezTo>
                  <a:pt x="6255" y="6760"/>
                  <a:pt x="6255" y="6819"/>
                  <a:pt x="6255" y="6890"/>
                </a:cubicBezTo>
                <a:cubicBezTo>
                  <a:pt x="6255" y="7273"/>
                  <a:pt x="6265" y="7658"/>
                  <a:pt x="6223" y="8033"/>
                </a:cubicBezTo>
                <a:cubicBezTo>
                  <a:pt x="6208" y="8164"/>
                  <a:pt x="6192" y="8192"/>
                  <a:pt x="6096" y="8287"/>
                </a:cubicBezTo>
                <a:cubicBezTo>
                  <a:pt x="6047" y="8335"/>
                  <a:pt x="5978" y="8371"/>
                  <a:pt x="5906" y="8350"/>
                </a:cubicBezTo>
                <a:cubicBezTo>
                  <a:pt x="5853" y="8335"/>
                  <a:pt x="5786" y="8205"/>
                  <a:pt x="5778" y="8160"/>
                </a:cubicBezTo>
                <a:cubicBezTo>
                  <a:pt x="5778" y="8128"/>
                  <a:pt x="5778" y="8096"/>
                  <a:pt x="5778" y="8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7"/>
          <p:cNvSpPr/>
          <p:nvPr/>
        </p:nvSpPr>
        <p:spPr>
          <a:xfrm>
            <a:off x="2479680" y="2479680"/>
            <a:ext cx="263520" cy="206280"/>
          </a:xfrm>
          <a:custGeom>
            <a:avLst/>
            <a:gdLst/>
            <a:ahLst/>
            <a:rect l="l" t="t" r="r" b="b"/>
            <a:pathLst>
              <a:path w="731" h="572">
                <a:moveTo>
                  <a:pt x="6922" y="7461"/>
                </a:moveTo>
                <a:cubicBezTo>
                  <a:pt x="6990" y="7461"/>
                  <a:pt x="7052" y="7451"/>
                  <a:pt x="7112" y="7430"/>
                </a:cubicBezTo>
                <a:cubicBezTo>
                  <a:pt x="7205" y="7397"/>
                  <a:pt x="7297" y="7371"/>
                  <a:pt x="7398" y="7366"/>
                </a:cubicBezTo>
                <a:cubicBezTo>
                  <a:pt x="7478" y="7362"/>
                  <a:pt x="7537" y="7398"/>
                  <a:pt x="7620" y="7398"/>
                </a:cubicBezTo>
              </a:path>
              <a:path w="731" h="572">
                <a:moveTo>
                  <a:pt x="6890" y="7017"/>
                </a:moveTo>
                <a:cubicBezTo>
                  <a:pt x="6951" y="7017"/>
                  <a:pt x="7025" y="7003"/>
                  <a:pt x="7080" y="6985"/>
                </a:cubicBezTo>
                <a:cubicBezTo>
                  <a:pt x="7165" y="6956"/>
                  <a:pt x="7243" y="6927"/>
                  <a:pt x="7334" y="6922"/>
                </a:cubicBezTo>
                <a:cubicBezTo>
                  <a:pt x="7411" y="6918"/>
                  <a:pt x="7429" y="6906"/>
                  <a:pt x="7493" y="6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8"/>
          <p:cNvSpPr/>
          <p:nvPr/>
        </p:nvSpPr>
        <p:spPr>
          <a:xfrm>
            <a:off x="3029040" y="2332080"/>
            <a:ext cx="720720" cy="503280"/>
          </a:xfrm>
          <a:custGeom>
            <a:avLst/>
            <a:gdLst/>
            <a:ahLst/>
            <a:rect l="l" t="t" r="r" b="b"/>
            <a:pathLst>
              <a:path w="2001" h="1398">
                <a:moveTo>
                  <a:pt x="8414" y="6699"/>
                </a:moveTo>
                <a:cubicBezTo>
                  <a:pt x="8451" y="6663"/>
                  <a:pt x="8495" y="6619"/>
                  <a:pt x="8541" y="6604"/>
                </a:cubicBezTo>
                <a:cubicBezTo>
                  <a:pt x="8601" y="6584"/>
                  <a:pt x="8688" y="6598"/>
                  <a:pt x="8731" y="6636"/>
                </a:cubicBezTo>
                <a:cubicBezTo>
                  <a:pt x="8780" y="6680"/>
                  <a:pt x="8763" y="6731"/>
                  <a:pt x="8763" y="6794"/>
                </a:cubicBezTo>
                <a:cubicBezTo>
                  <a:pt x="8763" y="6848"/>
                  <a:pt x="8706" y="6885"/>
                  <a:pt x="8668" y="6922"/>
                </a:cubicBezTo>
                <a:cubicBezTo>
                  <a:pt x="8630" y="6959"/>
                  <a:pt x="8607" y="6973"/>
                  <a:pt x="8572" y="6985"/>
                </a:cubicBezTo>
                <a:cubicBezTo>
                  <a:pt x="8612" y="6955"/>
                  <a:pt x="8650" y="6928"/>
                  <a:pt x="8700" y="6922"/>
                </a:cubicBezTo>
                <a:cubicBezTo>
                  <a:pt x="8751" y="6916"/>
                  <a:pt x="8803" y="6933"/>
                  <a:pt x="8826" y="6985"/>
                </a:cubicBezTo>
                <a:cubicBezTo>
                  <a:pt x="8853" y="7048"/>
                  <a:pt x="8884" y="7099"/>
                  <a:pt x="8890" y="7176"/>
                </a:cubicBezTo>
                <a:cubicBezTo>
                  <a:pt x="8898" y="7282"/>
                  <a:pt x="8874" y="7365"/>
                  <a:pt x="8858" y="7461"/>
                </a:cubicBezTo>
                <a:cubicBezTo>
                  <a:pt x="8845" y="7536"/>
                  <a:pt x="8812" y="7611"/>
                  <a:pt x="8731" y="7652"/>
                </a:cubicBezTo>
                <a:cubicBezTo>
                  <a:pt x="8698" y="7669"/>
                  <a:pt x="8616" y="7700"/>
                  <a:pt x="8572" y="7684"/>
                </a:cubicBezTo>
                <a:cubicBezTo>
                  <a:pt x="8488" y="7654"/>
                  <a:pt x="8484" y="7612"/>
                  <a:pt x="8446" y="7556"/>
                </a:cubicBezTo>
                <a:cubicBezTo>
                  <a:pt x="8414" y="7509"/>
                  <a:pt x="8414" y="7519"/>
                  <a:pt x="8414" y="7461"/>
                </a:cubicBezTo>
              </a:path>
              <a:path w="2001" h="1398">
                <a:moveTo>
                  <a:pt x="9017" y="7112"/>
                </a:moveTo>
                <a:cubicBezTo>
                  <a:pt x="9029" y="7192"/>
                  <a:pt x="9029" y="7281"/>
                  <a:pt x="9049" y="7366"/>
                </a:cubicBezTo>
                <a:cubicBezTo>
                  <a:pt x="9070" y="7456"/>
                  <a:pt x="9080" y="7523"/>
                  <a:pt x="9080" y="7620"/>
                </a:cubicBezTo>
                <a:cubicBezTo>
                  <a:pt x="9080" y="7662"/>
                  <a:pt x="9080" y="7726"/>
                  <a:pt x="9080" y="7684"/>
                </a:cubicBezTo>
                <a:cubicBezTo>
                  <a:pt x="9065" y="7623"/>
                  <a:pt x="9029" y="7568"/>
                  <a:pt x="9049" y="7493"/>
                </a:cubicBezTo>
                <a:cubicBezTo>
                  <a:pt x="9074" y="7401"/>
                  <a:pt x="9096" y="7300"/>
                  <a:pt x="9112" y="7207"/>
                </a:cubicBezTo>
                <a:cubicBezTo>
                  <a:pt x="9128" y="7111"/>
                  <a:pt x="9173" y="7094"/>
                  <a:pt x="9208" y="7017"/>
                </a:cubicBezTo>
                <a:cubicBezTo>
                  <a:pt x="9227" y="6974"/>
                  <a:pt x="9213" y="6985"/>
                  <a:pt x="9271" y="6985"/>
                </a:cubicBezTo>
                <a:cubicBezTo>
                  <a:pt x="9306" y="7032"/>
                  <a:pt x="9352" y="7115"/>
                  <a:pt x="9366" y="7176"/>
                </a:cubicBezTo>
                <a:cubicBezTo>
                  <a:pt x="9388" y="7273"/>
                  <a:pt x="9398" y="7357"/>
                  <a:pt x="9398" y="7461"/>
                </a:cubicBezTo>
                <a:cubicBezTo>
                  <a:pt x="9398" y="7572"/>
                  <a:pt x="9394" y="7655"/>
                  <a:pt x="9366" y="7747"/>
                </a:cubicBezTo>
                <a:cubicBezTo>
                  <a:pt x="9366" y="7758"/>
                  <a:pt x="9366" y="7768"/>
                  <a:pt x="9366" y="7779"/>
                </a:cubicBezTo>
                <a:cubicBezTo>
                  <a:pt x="9324" y="7723"/>
                  <a:pt x="9316" y="7630"/>
                  <a:pt x="9334" y="7556"/>
                </a:cubicBezTo>
                <a:cubicBezTo>
                  <a:pt x="9358" y="7455"/>
                  <a:pt x="9381" y="7368"/>
                  <a:pt x="9430" y="7271"/>
                </a:cubicBezTo>
                <a:cubicBezTo>
                  <a:pt x="9459" y="7213"/>
                  <a:pt x="9491" y="7110"/>
                  <a:pt x="9557" y="7080"/>
                </a:cubicBezTo>
                <a:cubicBezTo>
                  <a:pt x="9588" y="7080"/>
                  <a:pt x="9599" y="7080"/>
                  <a:pt x="9620" y="7080"/>
                </a:cubicBezTo>
                <a:cubicBezTo>
                  <a:pt x="9676" y="7136"/>
                  <a:pt x="9703" y="7192"/>
                  <a:pt x="9716" y="7271"/>
                </a:cubicBezTo>
                <a:cubicBezTo>
                  <a:pt x="9748" y="7461"/>
                  <a:pt x="9702" y="7656"/>
                  <a:pt x="9747" y="7842"/>
                </a:cubicBezTo>
                <a:cubicBezTo>
                  <a:pt x="9758" y="7889"/>
                  <a:pt x="9759" y="7874"/>
                  <a:pt x="9811" y="7874"/>
                </a:cubicBezTo>
              </a:path>
              <a:path w="2001" h="1398">
                <a:moveTo>
                  <a:pt x="9970" y="6572"/>
                </a:moveTo>
                <a:cubicBezTo>
                  <a:pt x="10006" y="6536"/>
                  <a:pt x="10051" y="6492"/>
                  <a:pt x="10096" y="6477"/>
                </a:cubicBezTo>
                <a:cubicBezTo>
                  <a:pt x="10164" y="6454"/>
                  <a:pt x="10201" y="6478"/>
                  <a:pt x="10224" y="6509"/>
                </a:cubicBezTo>
                <a:cubicBezTo>
                  <a:pt x="10250" y="6544"/>
                  <a:pt x="10272" y="6586"/>
                  <a:pt x="10255" y="6636"/>
                </a:cubicBezTo>
                <a:cubicBezTo>
                  <a:pt x="10230" y="6706"/>
                  <a:pt x="10211" y="6770"/>
                  <a:pt x="10160" y="6826"/>
                </a:cubicBezTo>
                <a:cubicBezTo>
                  <a:pt x="10128" y="6858"/>
                  <a:pt x="10117" y="6869"/>
                  <a:pt x="10096" y="6890"/>
                </a:cubicBezTo>
                <a:cubicBezTo>
                  <a:pt x="10146" y="6877"/>
                  <a:pt x="10167" y="6858"/>
                  <a:pt x="10224" y="6858"/>
                </a:cubicBezTo>
                <a:cubicBezTo>
                  <a:pt x="10270" y="6858"/>
                  <a:pt x="10264" y="6903"/>
                  <a:pt x="10319" y="6922"/>
                </a:cubicBezTo>
                <a:cubicBezTo>
                  <a:pt x="10343" y="6930"/>
                  <a:pt x="10388" y="6922"/>
                  <a:pt x="10414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9"/>
          <p:cNvSpPr/>
          <p:nvPr/>
        </p:nvSpPr>
        <p:spPr>
          <a:xfrm>
            <a:off x="3908520" y="2422440"/>
            <a:ext cx="788760" cy="470160"/>
          </a:xfrm>
          <a:custGeom>
            <a:avLst/>
            <a:gdLst/>
            <a:ahLst/>
            <a:rect l="l" t="t" r="r" b="b"/>
            <a:pathLst>
              <a:path w="2192" h="1303">
                <a:moveTo>
                  <a:pt x="11081" y="6985"/>
                </a:moveTo>
                <a:lnTo>
                  <a:pt x="11081" y="6985"/>
                </a:lnTo>
              </a:path>
              <a:path w="2192" h="1303">
                <a:moveTo>
                  <a:pt x="11081" y="6985"/>
                </a:moveTo>
                <a:cubicBezTo>
                  <a:pt x="11081" y="7017"/>
                  <a:pt x="11081" y="7048"/>
                  <a:pt x="11081" y="7080"/>
                </a:cubicBezTo>
              </a:path>
              <a:path w="2192" h="1303">
                <a:moveTo>
                  <a:pt x="11081" y="7080"/>
                </a:moveTo>
                <a:cubicBezTo>
                  <a:pt x="11081" y="7166"/>
                  <a:pt x="11062" y="7224"/>
                  <a:pt x="11049" y="7302"/>
                </a:cubicBezTo>
                <a:cubicBezTo>
                  <a:pt x="11036" y="7382"/>
                  <a:pt x="11022" y="7479"/>
                  <a:pt x="11017" y="7556"/>
                </a:cubicBezTo>
                <a:cubicBezTo>
                  <a:pt x="11014" y="7598"/>
                  <a:pt x="11017" y="7642"/>
                  <a:pt x="11017" y="7684"/>
                </a:cubicBezTo>
              </a:path>
              <a:path w="2192" h="1303">
                <a:moveTo>
                  <a:pt x="10858" y="7398"/>
                </a:moveTo>
                <a:cubicBezTo>
                  <a:pt x="10952" y="7398"/>
                  <a:pt x="11026" y="7416"/>
                  <a:pt x="11112" y="7430"/>
                </a:cubicBezTo>
                <a:cubicBezTo>
                  <a:pt x="11176" y="7430"/>
                  <a:pt x="11197" y="7430"/>
                  <a:pt x="11240" y="7430"/>
                </a:cubicBezTo>
              </a:path>
              <a:path w="2192" h="1303">
                <a:moveTo>
                  <a:pt x="11589" y="6858"/>
                </a:moveTo>
                <a:cubicBezTo>
                  <a:pt x="11606" y="6790"/>
                  <a:pt x="11635" y="6806"/>
                  <a:pt x="11684" y="6763"/>
                </a:cubicBezTo>
                <a:cubicBezTo>
                  <a:pt x="11720" y="6732"/>
                  <a:pt x="11793" y="6705"/>
                  <a:pt x="11843" y="6731"/>
                </a:cubicBezTo>
                <a:cubicBezTo>
                  <a:pt x="11905" y="6763"/>
                  <a:pt x="11903" y="6900"/>
                  <a:pt x="11906" y="6953"/>
                </a:cubicBezTo>
                <a:cubicBezTo>
                  <a:pt x="11911" y="7067"/>
                  <a:pt x="11850" y="7167"/>
                  <a:pt x="11811" y="7271"/>
                </a:cubicBezTo>
                <a:cubicBezTo>
                  <a:pt x="11766" y="7391"/>
                  <a:pt x="11720" y="7454"/>
                  <a:pt x="11652" y="7556"/>
                </a:cubicBezTo>
                <a:cubicBezTo>
                  <a:pt x="11618" y="7607"/>
                  <a:pt x="11549" y="7693"/>
                  <a:pt x="11525" y="7747"/>
                </a:cubicBezTo>
                <a:cubicBezTo>
                  <a:pt x="11525" y="7779"/>
                  <a:pt x="11525" y="7789"/>
                  <a:pt x="11494" y="7779"/>
                </a:cubicBezTo>
                <a:cubicBezTo>
                  <a:pt x="11542" y="7742"/>
                  <a:pt x="11558" y="7747"/>
                  <a:pt x="11620" y="7747"/>
                </a:cubicBezTo>
                <a:cubicBezTo>
                  <a:pt x="11690" y="7747"/>
                  <a:pt x="11711" y="7762"/>
                  <a:pt x="11779" y="7779"/>
                </a:cubicBezTo>
                <a:cubicBezTo>
                  <a:pt x="11830" y="7792"/>
                  <a:pt x="11860" y="7826"/>
                  <a:pt x="11906" y="7842"/>
                </a:cubicBezTo>
                <a:cubicBezTo>
                  <a:pt x="11938" y="7842"/>
                  <a:pt x="11949" y="7842"/>
                  <a:pt x="11970" y="7842"/>
                </a:cubicBezTo>
              </a:path>
              <a:path w="2192" h="1303">
                <a:moveTo>
                  <a:pt x="12256" y="7239"/>
                </a:moveTo>
                <a:cubicBezTo>
                  <a:pt x="12256" y="7364"/>
                  <a:pt x="12268" y="7471"/>
                  <a:pt x="12287" y="7588"/>
                </a:cubicBezTo>
                <a:cubicBezTo>
                  <a:pt x="12305" y="7698"/>
                  <a:pt x="12287" y="7826"/>
                  <a:pt x="12287" y="7938"/>
                </a:cubicBezTo>
                <a:cubicBezTo>
                  <a:pt x="12268" y="7861"/>
                  <a:pt x="12283" y="7837"/>
                  <a:pt x="12287" y="7747"/>
                </a:cubicBezTo>
                <a:cubicBezTo>
                  <a:pt x="12291" y="7650"/>
                  <a:pt x="12322" y="7551"/>
                  <a:pt x="12351" y="7461"/>
                </a:cubicBezTo>
                <a:cubicBezTo>
                  <a:pt x="12375" y="7387"/>
                  <a:pt x="12440" y="7300"/>
                  <a:pt x="12510" y="7271"/>
                </a:cubicBezTo>
                <a:cubicBezTo>
                  <a:pt x="12541" y="7271"/>
                  <a:pt x="12552" y="7271"/>
                  <a:pt x="12573" y="7271"/>
                </a:cubicBezTo>
                <a:cubicBezTo>
                  <a:pt x="12612" y="7335"/>
                  <a:pt x="12632" y="7412"/>
                  <a:pt x="12636" y="7493"/>
                </a:cubicBezTo>
                <a:cubicBezTo>
                  <a:pt x="12643" y="7624"/>
                  <a:pt x="12668" y="7830"/>
                  <a:pt x="12605" y="7938"/>
                </a:cubicBezTo>
                <a:cubicBezTo>
                  <a:pt x="12605" y="7870"/>
                  <a:pt x="12615" y="7807"/>
                  <a:pt x="12636" y="7747"/>
                </a:cubicBezTo>
                <a:cubicBezTo>
                  <a:pt x="12667" y="7661"/>
                  <a:pt x="12685" y="7602"/>
                  <a:pt x="12732" y="7525"/>
                </a:cubicBezTo>
                <a:cubicBezTo>
                  <a:pt x="12789" y="7431"/>
                  <a:pt x="12806" y="7449"/>
                  <a:pt x="12890" y="7398"/>
                </a:cubicBezTo>
                <a:cubicBezTo>
                  <a:pt x="12947" y="7364"/>
                  <a:pt x="12923" y="7382"/>
                  <a:pt x="12986" y="7398"/>
                </a:cubicBezTo>
                <a:cubicBezTo>
                  <a:pt x="12986" y="7511"/>
                  <a:pt x="12968" y="7611"/>
                  <a:pt x="12954" y="7715"/>
                </a:cubicBezTo>
                <a:cubicBezTo>
                  <a:pt x="12941" y="7814"/>
                  <a:pt x="12962" y="7890"/>
                  <a:pt x="12986" y="7969"/>
                </a:cubicBezTo>
                <a:cubicBezTo>
                  <a:pt x="13001" y="8019"/>
                  <a:pt x="12996" y="8020"/>
                  <a:pt x="13049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0"/>
          <p:cNvSpPr/>
          <p:nvPr/>
        </p:nvSpPr>
        <p:spPr>
          <a:xfrm>
            <a:off x="4857840" y="2468520"/>
            <a:ext cx="799920" cy="446040"/>
          </a:xfrm>
          <a:custGeom>
            <a:avLst/>
            <a:gdLst/>
            <a:ahLst/>
            <a:rect l="l" t="t" r="r" b="b"/>
            <a:pathLst>
              <a:path w="2223" h="1239">
                <a:moveTo>
                  <a:pt x="13494" y="7652"/>
                </a:moveTo>
                <a:cubicBezTo>
                  <a:pt x="13642" y="7652"/>
                  <a:pt x="13790" y="7652"/>
                  <a:pt x="13938" y="7652"/>
                </a:cubicBezTo>
              </a:path>
              <a:path w="2223" h="1239">
                <a:moveTo>
                  <a:pt x="13716" y="7334"/>
                </a:moveTo>
                <a:cubicBezTo>
                  <a:pt x="13716" y="7439"/>
                  <a:pt x="13696" y="7520"/>
                  <a:pt x="13684" y="7620"/>
                </a:cubicBezTo>
                <a:cubicBezTo>
                  <a:pt x="13673" y="7717"/>
                  <a:pt x="13657" y="7812"/>
                  <a:pt x="13652" y="7906"/>
                </a:cubicBezTo>
                <a:cubicBezTo>
                  <a:pt x="13648" y="7969"/>
                  <a:pt x="13652" y="8033"/>
                  <a:pt x="13652" y="8096"/>
                </a:cubicBezTo>
              </a:path>
              <a:path w="2223" h="1239">
                <a:moveTo>
                  <a:pt x="14224" y="6858"/>
                </a:moveTo>
                <a:cubicBezTo>
                  <a:pt x="14235" y="6890"/>
                  <a:pt x="14299" y="6913"/>
                  <a:pt x="14351" y="6922"/>
                </a:cubicBezTo>
                <a:cubicBezTo>
                  <a:pt x="14461" y="6942"/>
                  <a:pt x="14568" y="6913"/>
                  <a:pt x="14668" y="6890"/>
                </a:cubicBezTo>
                <a:cubicBezTo>
                  <a:pt x="14738" y="6874"/>
                  <a:pt x="14770" y="6916"/>
                  <a:pt x="14827" y="6922"/>
                </a:cubicBezTo>
                <a:cubicBezTo>
                  <a:pt x="14859" y="6922"/>
                  <a:pt x="14870" y="6922"/>
                  <a:pt x="14891" y="6922"/>
                </a:cubicBezTo>
                <a:cubicBezTo>
                  <a:pt x="14891" y="6998"/>
                  <a:pt x="14878" y="7022"/>
                  <a:pt x="14859" y="7080"/>
                </a:cubicBezTo>
                <a:cubicBezTo>
                  <a:pt x="14836" y="7150"/>
                  <a:pt x="14819" y="7234"/>
                  <a:pt x="14796" y="7302"/>
                </a:cubicBezTo>
                <a:cubicBezTo>
                  <a:pt x="14763" y="7400"/>
                  <a:pt x="14714" y="7495"/>
                  <a:pt x="14668" y="7588"/>
                </a:cubicBezTo>
                <a:cubicBezTo>
                  <a:pt x="14633" y="7660"/>
                  <a:pt x="14611" y="7735"/>
                  <a:pt x="14605" y="7810"/>
                </a:cubicBezTo>
                <a:cubicBezTo>
                  <a:pt x="14605" y="7842"/>
                  <a:pt x="14605" y="7853"/>
                  <a:pt x="14605" y="7874"/>
                </a:cubicBezTo>
              </a:path>
              <a:path w="2223" h="1239">
                <a:moveTo>
                  <a:pt x="15272" y="7271"/>
                </a:moveTo>
                <a:cubicBezTo>
                  <a:pt x="15420" y="7271"/>
                  <a:pt x="15568" y="7271"/>
                  <a:pt x="15716" y="7271"/>
                </a:cubicBezTo>
              </a:path>
              <a:path w="2223" h="1239">
                <a:moveTo>
                  <a:pt x="15399" y="7652"/>
                </a:moveTo>
                <a:cubicBezTo>
                  <a:pt x="15478" y="7652"/>
                  <a:pt x="15526" y="7663"/>
                  <a:pt x="15589" y="7684"/>
                </a:cubicBezTo>
                <a:cubicBezTo>
                  <a:pt x="15600" y="7684"/>
                  <a:pt x="15610" y="7684"/>
                  <a:pt x="15621" y="7684"/>
                </a:cubicBezTo>
              </a:path>
              <a:path w="2223" h="1239">
                <a:moveTo>
                  <a:pt x="15653" y="7684"/>
                </a:moveTo>
                <a:cubicBezTo>
                  <a:pt x="15663" y="7684"/>
                  <a:pt x="15674" y="7684"/>
                  <a:pt x="15684" y="7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1"/>
          <p:cNvSpPr/>
          <p:nvPr/>
        </p:nvSpPr>
        <p:spPr>
          <a:xfrm>
            <a:off x="5851440" y="2503440"/>
            <a:ext cx="331920" cy="399960"/>
          </a:xfrm>
          <a:custGeom>
            <a:avLst/>
            <a:gdLst/>
            <a:ahLst/>
            <a:rect l="l" t="t" r="r" b="b"/>
            <a:pathLst>
              <a:path w="922" h="1112">
                <a:moveTo>
                  <a:pt x="16605" y="6985"/>
                </a:moveTo>
                <a:cubicBezTo>
                  <a:pt x="16554" y="7074"/>
                  <a:pt x="16482" y="7161"/>
                  <a:pt x="16415" y="7239"/>
                </a:cubicBezTo>
                <a:cubicBezTo>
                  <a:pt x="16347" y="7318"/>
                  <a:pt x="16274" y="7417"/>
                  <a:pt x="16256" y="7525"/>
                </a:cubicBezTo>
                <a:cubicBezTo>
                  <a:pt x="16238" y="7633"/>
                  <a:pt x="16259" y="7781"/>
                  <a:pt x="16320" y="7874"/>
                </a:cubicBezTo>
                <a:cubicBezTo>
                  <a:pt x="16385" y="7973"/>
                  <a:pt x="16452" y="8041"/>
                  <a:pt x="16574" y="8064"/>
                </a:cubicBezTo>
                <a:cubicBezTo>
                  <a:pt x="16670" y="8082"/>
                  <a:pt x="16809" y="8055"/>
                  <a:pt x="16891" y="8001"/>
                </a:cubicBezTo>
                <a:cubicBezTo>
                  <a:pt x="16979" y="7942"/>
                  <a:pt x="17116" y="7784"/>
                  <a:pt x="17145" y="7684"/>
                </a:cubicBezTo>
                <a:cubicBezTo>
                  <a:pt x="17182" y="7560"/>
                  <a:pt x="17182" y="7426"/>
                  <a:pt x="17145" y="7302"/>
                </a:cubicBezTo>
                <a:cubicBezTo>
                  <a:pt x="17115" y="7202"/>
                  <a:pt x="17018" y="7071"/>
                  <a:pt x="16923" y="7017"/>
                </a:cubicBezTo>
                <a:cubicBezTo>
                  <a:pt x="16872" y="6988"/>
                  <a:pt x="16695" y="6940"/>
                  <a:pt x="16637" y="6953"/>
                </a:cubicBezTo>
                <a:cubicBezTo>
                  <a:pt x="16578" y="6966"/>
                  <a:pt x="16527" y="7030"/>
                  <a:pt x="16510" y="7080"/>
                </a:cubicBezTo>
                <a:cubicBezTo>
                  <a:pt x="16510" y="7091"/>
                  <a:pt x="16510" y="7101"/>
                  <a:pt x="16510" y="7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2"/>
          <p:cNvSpPr/>
          <p:nvPr/>
        </p:nvSpPr>
        <p:spPr>
          <a:xfrm>
            <a:off x="6664320" y="2479680"/>
            <a:ext cx="982800" cy="423720"/>
          </a:xfrm>
          <a:custGeom>
            <a:avLst/>
            <a:gdLst/>
            <a:ahLst/>
            <a:rect l="l" t="t" r="r" b="b"/>
            <a:pathLst>
              <a:path w="2732" h="1175">
                <a:moveTo>
                  <a:pt x="18732" y="6953"/>
                </a:moveTo>
                <a:cubicBezTo>
                  <a:pt x="18799" y="6940"/>
                  <a:pt x="18851" y="6922"/>
                  <a:pt x="18923" y="6922"/>
                </a:cubicBezTo>
                <a:cubicBezTo>
                  <a:pt x="19022" y="6922"/>
                  <a:pt x="19095" y="6926"/>
                  <a:pt x="19177" y="6953"/>
                </a:cubicBezTo>
                <a:cubicBezTo>
                  <a:pt x="19239" y="6973"/>
                  <a:pt x="19205" y="7021"/>
                  <a:pt x="19177" y="7080"/>
                </a:cubicBezTo>
                <a:cubicBezTo>
                  <a:pt x="19131" y="7178"/>
                  <a:pt x="19049" y="7248"/>
                  <a:pt x="18986" y="7334"/>
                </a:cubicBezTo>
                <a:cubicBezTo>
                  <a:pt x="18906" y="7442"/>
                  <a:pt x="18807" y="7542"/>
                  <a:pt x="18732" y="7652"/>
                </a:cubicBezTo>
                <a:cubicBezTo>
                  <a:pt x="18692" y="7711"/>
                  <a:pt x="18638" y="7838"/>
                  <a:pt x="18574" y="7874"/>
                </a:cubicBezTo>
                <a:cubicBezTo>
                  <a:pt x="18538" y="7874"/>
                  <a:pt x="18524" y="7877"/>
                  <a:pt x="18510" y="7906"/>
                </a:cubicBezTo>
                <a:cubicBezTo>
                  <a:pt x="18520" y="7864"/>
                  <a:pt x="18559" y="7800"/>
                  <a:pt x="18606" y="7779"/>
                </a:cubicBezTo>
                <a:cubicBezTo>
                  <a:pt x="18696" y="7739"/>
                  <a:pt x="18879" y="7788"/>
                  <a:pt x="18955" y="7810"/>
                </a:cubicBezTo>
                <a:cubicBezTo>
                  <a:pt x="19005" y="7825"/>
                  <a:pt x="19075" y="7847"/>
                  <a:pt x="19114" y="7874"/>
                </a:cubicBezTo>
                <a:cubicBezTo>
                  <a:pt x="19161" y="7906"/>
                  <a:pt x="19152" y="7906"/>
                  <a:pt x="19209" y="7906"/>
                </a:cubicBezTo>
              </a:path>
              <a:path w="2732" h="1175">
                <a:moveTo>
                  <a:pt x="19209" y="7906"/>
                </a:moveTo>
                <a:cubicBezTo>
                  <a:pt x="19240" y="7874"/>
                  <a:pt x="19251" y="7863"/>
                  <a:pt x="19272" y="7842"/>
                </a:cubicBezTo>
              </a:path>
              <a:path w="2732" h="1175">
                <a:moveTo>
                  <a:pt x="19526" y="7112"/>
                </a:moveTo>
                <a:cubicBezTo>
                  <a:pt x="19457" y="7112"/>
                  <a:pt x="19444" y="7136"/>
                  <a:pt x="19399" y="7207"/>
                </a:cubicBezTo>
                <a:cubicBezTo>
                  <a:pt x="19340" y="7299"/>
                  <a:pt x="19316" y="7420"/>
                  <a:pt x="19304" y="7525"/>
                </a:cubicBezTo>
                <a:cubicBezTo>
                  <a:pt x="19292" y="7632"/>
                  <a:pt x="19293" y="7746"/>
                  <a:pt x="19336" y="7842"/>
                </a:cubicBezTo>
                <a:cubicBezTo>
                  <a:pt x="19360" y="7895"/>
                  <a:pt x="19391" y="7964"/>
                  <a:pt x="19463" y="7938"/>
                </a:cubicBezTo>
                <a:cubicBezTo>
                  <a:pt x="19553" y="7905"/>
                  <a:pt x="19609" y="7827"/>
                  <a:pt x="19653" y="7747"/>
                </a:cubicBezTo>
                <a:cubicBezTo>
                  <a:pt x="19722" y="7623"/>
                  <a:pt x="19743" y="7505"/>
                  <a:pt x="19748" y="7366"/>
                </a:cubicBezTo>
                <a:cubicBezTo>
                  <a:pt x="19750" y="7312"/>
                  <a:pt x="19732" y="7173"/>
                  <a:pt x="19685" y="7144"/>
                </a:cubicBezTo>
                <a:cubicBezTo>
                  <a:pt x="19649" y="7122"/>
                  <a:pt x="19606" y="7112"/>
                  <a:pt x="19558" y="7112"/>
                </a:cubicBezTo>
                <a:cubicBezTo>
                  <a:pt x="19547" y="7112"/>
                  <a:pt x="19537" y="7112"/>
                  <a:pt x="19526" y="7112"/>
                </a:cubicBezTo>
              </a:path>
              <a:path w="2732" h="1175">
                <a:moveTo>
                  <a:pt x="19844" y="7239"/>
                </a:moveTo>
                <a:cubicBezTo>
                  <a:pt x="19814" y="7320"/>
                  <a:pt x="19740" y="7469"/>
                  <a:pt x="19748" y="7556"/>
                </a:cubicBezTo>
                <a:cubicBezTo>
                  <a:pt x="19756" y="7641"/>
                  <a:pt x="19784" y="7744"/>
                  <a:pt x="19844" y="7810"/>
                </a:cubicBezTo>
                <a:cubicBezTo>
                  <a:pt x="19882" y="7851"/>
                  <a:pt x="19946" y="7856"/>
                  <a:pt x="20002" y="7842"/>
                </a:cubicBezTo>
                <a:cubicBezTo>
                  <a:pt x="20073" y="7824"/>
                  <a:pt x="20145" y="7723"/>
                  <a:pt x="20161" y="7652"/>
                </a:cubicBezTo>
                <a:cubicBezTo>
                  <a:pt x="20186" y="7539"/>
                  <a:pt x="20178" y="7476"/>
                  <a:pt x="20161" y="7366"/>
                </a:cubicBezTo>
                <a:cubicBezTo>
                  <a:pt x="20148" y="7281"/>
                  <a:pt x="20129" y="7269"/>
                  <a:pt x="20066" y="7207"/>
                </a:cubicBezTo>
                <a:cubicBezTo>
                  <a:pt x="20029" y="7171"/>
                  <a:pt x="19997" y="7212"/>
                  <a:pt x="20034" y="7176"/>
                </a:cubicBezTo>
                <a:cubicBezTo>
                  <a:pt x="20077" y="7200"/>
                  <a:pt x="20127" y="7219"/>
                  <a:pt x="20161" y="7271"/>
                </a:cubicBezTo>
                <a:cubicBezTo>
                  <a:pt x="20215" y="7355"/>
                  <a:pt x="20227" y="7439"/>
                  <a:pt x="20256" y="7525"/>
                </a:cubicBezTo>
                <a:cubicBezTo>
                  <a:pt x="20280" y="7597"/>
                  <a:pt x="20308" y="7674"/>
                  <a:pt x="20320" y="7747"/>
                </a:cubicBezTo>
                <a:cubicBezTo>
                  <a:pt x="20325" y="7778"/>
                  <a:pt x="20317" y="7811"/>
                  <a:pt x="20320" y="7842"/>
                </a:cubicBezTo>
                <a:cubicBezTo>
                  <a:pt x="20358" y="7766"/>
                  <a:pt x="20352" y="7718"/>
                  <a:pt x="20352" y="7620"/>
                </a:cubicBezTo>
                <a:cubicBezTo>
                  <a:pt x="20352" y="7487"/>
                  <a:pt x="20401" y="7368"/>
                  <a:pt x="20415" y="7239"/>
                </a:cubicBezTo>
                <a:cubicBezTo>
                  <a:pt x="20424" y="7155"/>
                  <a:pt x="20434" y="7082"/>
                  <a:pt x="20479" y="7017"/>
                </a:cubicBezTo>
                <a:cubicBezTo>
                  <a:pt x="20507" y="6988"/>
                  <a:pt x="20513" y="6977"/>
                  <a:pt x="20542" y="6985"/>
                </a:cubicBezTo>
                <a:cubicBezTo>
                  <a:pt x="20584" y="7057"/>
                  <a:pt x="20585" y="7087"/>
                  <a:pt x="20606" y="7176"/>
                </a:cubicBezTo>
                <a:cubicBezTo>
                  <a:pt x="20638" y="7307"/>
                  <a:pt x="20638" y="7420"/>
                  <a:pt x="20638" y="7556"/>
                </a:cubicBezTo>
                <a:cubicBezTo>
                  <a:pt x="20638" y="7641"/>
                  <a:pt x="20638" y="7662"/>
                  <a:pt x="20638" y="7747"/>
                </a:cubicBezTo>
                <a:cubicBezTo>
                  <a:pt x="20684" y="7669"/>
                  <a:pt x="20663" y="7555"/>
                  <a:pt x="20669" y="7461"/>
                </a:cubicBezTo>
                <a:cubicBezTo>
                  <a:pt x="20678" y="7305"/>
                  <a:pt x="20673" y="7196"/>
                  <a:pt x="20733" y="7048"/>
                </a:cubicBezTo>
                <a:cubicBezTo>
                  <a:pt x="20770" y="6956"/>
                  <a:pt x="20803" y="6947"/>
                  <a:pt x="20860" y="6890"/>
                </a:cubicBezTo>
                <a:cubicBezTo>
                  <a:pt x="20890" y="6999"/>
                  <a:pt x="20919" y="7095"/>
                  <a:pt x="20923" y="7207"/>
                </a:cubicBezTo>
                <a:cubicBezTo>
                  <a:pt x="20929" y="7392"/>
                  <a:pt x="20935" y="7568"/>
                  <a:pt x="20955" y="7747"/>
                </a:cubicBezTo>
                <a:cubicBezTo>
                  <a:pt x="20967" y="7854"/>
                  <a:pt x="20975" y="7918"/>
                  <a:pt x="21050" y="8001"/>
                </a:cubicBezTo>
                <a:cubicBezTo>
                  <a:pt x="21095" y="8051"/>
                  <a:pt x="21135" y="8086"/>
                  <a:pt x="21209" y="8064"/>
                </a:cubicBezTo>
                <a:cubicBezTo>
                  <a:pt x="21220" y="8054"/>
                  <a:pt x="21230" y="8043"/>
                  <a:pt x="21241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3"/>
          <p:cNvSpPr/>
          <p:nvPr/>
        </p:nvSpPr>
        <p:spPr>
          <a:xfrm>
            <a:off x="7908840" y="2365200"/>
            <a:ext cx="230400" cy="459000"/>
          </a:xfrm>
          <a:custGeom>
            <a:avLst/>
            <a:gdLst/>
            <a:ahLst/>
            <a:rect l="l" t="t" r="r" b="b"/>
            <a:pathLst>
              <a:path w="636" h="1271">
                <a:moveTo>
                  <a:pt x="22098" y="6572"/>
                </a:moveTo>
                <a:cubicBezTo>
                  <a:pt x="22098" y="6692"/>
                  <a:pt x="22051" y="6775"/>
                  <a:pt x="22034" y="6890"/>
                </a:cubicBezTo>
                <a:cubicBezTo>
                  <a:pt x="22014" y="7025"/>
                  <a:pt x="21986" y="7167"/>
                  <a:pt x="21971" y="7302"/>
                </a:cubicBezTo>
                <a:cubicBezTo>
                  <a:pt x="21959" y="7417"/>
                  <a:pt x="21962" y="7544"/>
                  <a:pt x="22003" y="7652"/>
                </a:cubicBezTo>
                <a:cubicBezTo>
                  <a:pt x="22032" y="7729"/>
                  <a:pt x="22073" y="7821"/>
                  <a:pt x="22162" y="7842"/>
                </a:cubicBezTo>
                <a:cubicBezTo>
                  <a:pt x="22257" y="7864"/>
                  <a:pt x="22335" y="7820"/>
                  <a:pt x="22416" y="7779"/>
                </a:cubicBezTo>
                <a:cubicBezTo>
                  <a:pt x="22510" y="7732"/>
                  <a:pt x="22527" y="7681"/>
                  <a:pt x="22574" y="7588"/>
                </a:cubicBezTo>
                <a:cubicBezTo>
                  <a:pt x="22620" y="7496"/>
                  <a:pt x="22606" y="7403"/>
                  <a:pt x="22606" y="7302"/>
                </a:cubicBezTo>
                <a:cubicBezTo>
                  <a:pt x="22606" y="7241"/>
                  <a:pt x="22551" y="7238"/>
                  <a:pt x="22511" y="7207"/>
                </a:cubicBezTo>
                <a:cubicBezTo>
                  <a:pt x="22461" y="7244"/>
                  <a:pt x="22413" y="7270"/>
                  <a:pt x="22384" y="7334"/>
                </a:cubicBezTo>
                <a:cubicBezTo>
                  <a:pt x="22333" y="7447"/>
                  <a:pt x="22320" y="7530"/>
                  <a:pt x="22320" y="7652"/>
                </a:cubicBezTo>
                <a:cubicBezTo>
                  <a:pt x="22320" y="7728"/>
                  <a:pt x="22342" y="7786"/>
                  <a:pt x="22384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4"/>
          <p:cNvSpPr/>
          <p:nvPr/>
        </p:nvSpPr>
        <p:spPr>
          <a:xfrm>
            <a:off x="1852560" y="2879640"/>
            <a:ext cx="811440" cy="663840"/>
          </a:xfrm>
          <a:custGeom>
            <a:avLst/>
            <a:gdLst/>
            <a:ahLst/>
            <a:rect l="l" t="t" r="r" b="b"/>
            <a:pathLst>
              <a:path w="2255" h="1842">
                <a:moveTo>
                  <a:pt x="5207" y="8700"/>
                </a:moveTo>
                <a:cubicBezTo>
                  <a:pt x="5175" y="8700"/>
                  <a:pt x="5165" y="8700"/>
                  <a:pt x="5144" y="8700"/>
                </a:cubicBezTo>
                <a:cubicBezTo>
                  <a:pt x="5161" y="8746"/>
                  <a:pt x="5172" y="8773"/>
                  <a:pt x="5175" y="8826"/>
                </a:cubicBezTo>
                <a:cubicBezTo>
                  <a:pt x="5178" y="8883"/>
                  <a:pt x="5198" y="8903"/>
                  <a:pt x="5207" y="8954"/>
                </a:cubicBezTo>
                <a:cubicBezTo>
                  <a:pt x="5214" y="8997"/>
                  <a:pt x="5220" y="9104"/>
                  <a:pt x="5239" y="9144"/>
                </a:cubicBezTo>
                <a:cubicBezTo>
                  <a:pt x="5270" y="9209"/>
                  <a:pt x="5306" y="9273"/>
                  <a:pt x="5334" y="9334"/>
                </a:cubicBezTo>
                <a:cubicBezTo>
                  <a:pt x="5361" y="9394"/>
                  <a:pt x="5410" y="9506"/>
                  <a:pt x="5461" y="9557"/>
                </a:cubicBezTo>
                <a:cubicBezTo>
                  <a:pt x="5501" y="9597"/>
                  <a:pt x="5604" y="9690"/>
                  <a:pt x="5652" y="9716"/>
                </a:cubicBezTo>
                <a:cubicBezTo>
                  <a:pt x="5726" y="9756"/>
                  <a:pt x="5854" y="9797"/>
                  <a:pt x="5937" y="9811"/>
                </a:cubicBezTo>
                <a:cubicBezTo>
                  <a:pt x="6025" y="9826"/>
                  <a:pt x="6098" y="9842"/>
                  <a:pt x="6191" y="9842"/>
                </a:cubicBezTo>
                <a:cubicBezTo>
                  <a:pt x="6280" y="9842"/>
                  <a:pt x="6363" y="9808"/>
                  <a:pt x="6445" y="9779"/>
                </a:cubicBezTo>
                <a:cubicBezTo>
                  <a:pt x="6577" y="9732"/>
                  <a:pt x="6692" y="9684"/>
                  <a:pt x="6794" y="9588"/>
                </a:cubicBezTo>
                <a:cubicBezTo>
                  <a:pt x="6892" y="9495"/>
                  <a:pt x="6931" y="9399"/>
                  <a:pt x="7017" y="9303"/>
                </a:cubicBezTo>
                <a:cubicBezTo>
                  <a:pt x="7112" y="9196"/>
                  <a:pt x="7187" y="9023"/>
                  <a:pt x="7239" y="8890"/>
                </a:cubicBezTo>
                <a:cubicBezTo>
                  <a:pt x="7289" y="8761"/>
                  <a:pt x="7305" y="8638"/>
                  <a:pt x="7334" y="8509"/>
                </a:cubicBezTo>
                <a:cubicBezTo>
                  <a:pt x="7361" y="8389"/>
                  <a:pt x="7392" y="8282"/>
                  <a:pt x="7398" y="8160"/>
                </a:cubicBezTo>
                <a:cubicBezTo>
                  <a:pt x="7401" y="8108"/>
                  <a:pt x="7398" y="8053"/>
                  <a:pt x="7398" y="8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5"/>
          <p:cNvSpPr/>
          <p:nvPr/>
        </p:nvSpPr>
        <p:spPr>
          <a:xfrm>
            <a:off x="3508200" y="4125960"/>
            <a:ext cx="241560" cy="584280"/>
          </a:xfrm>
          <a:custGeom>
            <a:avLst/>
            <a:gdLst/>
            <a:ahLst/>
            <a:rect l="l" t="t" r="r" b="b"/>
            <a:pathLst>
              <a:path w="668" h="1620">
                <a:moveTo>
                  <a:pt x="10033" y="11525"/>
                </a:moveTo>
                <a:cubicBezTo>
                  <a:pt x="10033" y="11597"/>
                  <a:pt x="10061" y="11618"/>
                  <a:pt x="10096" y="11684"/>
                </a:cubicBezTo>
                <a:cubicBezTo>
                  <a:pt x="10154" y="11795"/>
                  <a:pt x="10177" y="11918"/>
                  <a:pt x="10224" y="12033"/>
                </a:cubicBezTo>
                <a:cubicBezTo>
                  <a:pt x="10261" y="12124"/>
                  <a:pt x="10301" y="12205"/>
                  <a:pt x="10350" y="12287"/>
                </a:cubicBezTo>
                <a:cubicBezTo>
                  <a:pt x="10378" y="12343"/>
                  <a:pt x="10382" y="12358"/>
                  <a:pt x="10414" y="12382"/>
                </a:cubicBezTo>
              </a:path>
              <a:path w="668" h="1620">
                <a:moveTo>
                  <a:pt x="10382" y="11462"/>
                </a:moveTo>
                <a:cubicBezTo>
                  <a:pt x="10248" y="11673"/>
                  <a:pt x="10147" y="11924"/>
                  <a:pt x="10065" y="12160"/>
                </a:cubicBezTo>
                <a:cubicBezTo>
                  <a:pt x="9959" y="12467"/>
                  <a:pt x="9847" y="12772"/>
                  <a:pt x="9747" y="13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6"/>
          <p:cNvSpPr/>
          <p:nvPr/>
        </p:nvSpPr>
        <p:spPr>
          <a:xfrm>
            <a:off x="5108400" y="3578400"/>
            <a:ext cx="560520" cy="753840"/>
          </a:xfrm>
          <a:custGeom>
            <a:avLst/>
            <a:gdLst/>
            <a:ahLst/>
            <a:rect l="l" t="t" r="r" b="b"/>
            <a:pathLst>
              <a:path w="1557" h="2096">
                <a:moveTo>
                  <a:pt x="14224" y="10192"/>
                </a:moveTo>
                <a:cubicBezTo>
                  <a:pt x="14224" y="10450"/>
                  <a:pt x="14236" y="10699"/>
                  <a:pt x="14256" y="10954"/>
                </a:cubicBezTo>
                <a:cubicBezTo>
                  <a:pt x="14281" y="11280"/>
                  <a:pt x="14307" y="11731"/>
                  <a:pt x="14224" y="12033"/>
                </a:cubicBezTo>
                <a:cubicBezTo>
                  <a:pt x="14215" y="11923"/>
                  <a:pt x="14195" y="11828"/>
                  <a:pt x="14192" y="11716"/>
                </a:cubicBezTo>
                <a:cubicBezTo>
                  <a:pt x="14180" y="11304"/>
                  <a:pt x="14181" y="10881"/>
                  <a:pt x="14224" y="10478"/>
                </a:cubicBezTo>
                <a:cubicBezTo>
                  <a:pt x="14234" y="10382"/>
                  <a:pt x="14231" y="10314"/>
                  <a:pt x="14256" y="10224"/>
                </a:cubicBezTo>
                <a:cubicBezTo>
                  <a:pt x="14330" y="10276"/>
                  <a:pt x="14319" y="10288"/>
                  <a:pt x="14351" y="10382"/>
                </a:cubicBezTo>
                <a:cubicBezTo>
                  <a:pt x="14395" y="10512"/>
                  <a:pt x="14470" y="10631"/>
                  <a:pt x="14510" y="10763"/>
                </a:cubicBezTo>
                <a:cubicBezTo>
                  <a:pt x="14565" y="10944"/>
                  <a:pt x="14618" y="11122"/>
                  <a:pt x="14668" y="11303"/>
                </a:cubicBezTo>
                <a:cubicBezTo>
                  <a:pt x="14709" y="11452"/>
                  <a:pt x="14738" y="11604"/>
                  <a:pt x="14796" y="11748"/>
                </a:cubicBezTo>
                <a:cubicBezTo>
                  <a:pt x="14819" y="11805"/>
                  <a:pt x="14841" y="11856"/>
                  <a:pt x="14859" y="11906"/>
                </a:cubicBezTo>
                <a:cubicBezTo>
                  <a:pt x="14859" y="11596"/>
                  <a:pt x="14868" y="11292"/>
                  <a:pt x="14891" y="10986"/>
                </a:cubicBezTo>
                <a:cubicBezTo>
                  <a:pt x="14905" y="10805"/>
                  <a:pt x="14939" y="10625"/>
                  <a:pt x="14954" y="10446"/>
                </a:cubicBezTo>
                <a:cubicBezTo>
                  <a:pt x="14966" y="10301"/>
                  <a:pt x="15021" y="10202"/>
                  <a:pt x="15050" y="10065"/>
                </a:cubicBezTo>
                <a:cubicBezTo>
                  <a:pt x="15072" y="9962"/>
                  <a:pt x="15080" y="9994"/>
                  <a:pt x="15145" y="9938"/>
                </a:cubicBezTo>
              </a:path>
              <a:path w="1557" h="2096">
                <a:moveTo>
                  <a:pt x="15430" y="10224"/>
                </a:moveTo>
                <a:cubicBezTo>
                  <a:pt x="15387" y="10267"/>
                  <a:pt x="15362" y="10302"/>
                  <a:pt x="15335" y="10350"/>
                </a:cubicBezTo>
                <a:cubicBezTo>
                  <a:pt x="15275" y="10456"/>
                  <a:pt x="15245" y="10547"/>
                  <a:pt x="15240" y="10668"/>
                </a:cubicBezTo>
                <a:cubicBezTo>
                  <a:pt x="15232" y="10884"/>
                  <a:pt x="15255" y="11092"/>
                  <a:pt x="15272" y="11303"/>
                </a:cubicBezTo>
                <a:cubicBezTo>
                  <a:pt x="15283" y="11436"/>
                  <a:pt x="15291" y="11566"/>
                  <a:pt x="15367" y="11684"/>
                </a:cubicBezTo>
                <a:cubicBezTo>
                  <a:pt x="15399" y="11716"/>
                  <a:pt x="15409" y="11726"/>
                  <a:pt x="15430" y="11748"/>
                </a:cubicBezTo>
                <a:cubicBezTo>
                  <a:pt x="15506" y="11737"/>
                  <a:pt x="15578" y="11699"/>
                  <a:pt x="15621" y="11620"/>
                </a:cubicBezTo>
                <a:cubicBezTo>
                  <a:pt x="15685" y="11502"/>
                  <a:pt x="15733" y="11307"/>
                  <a:pt x="15748" y="11176"/>
                </a:cubicBezTo>
                <a:cubicBezTo>
                  <a:pt x="15767" y="11008"/>
                  <a:pt x="15787" y="10727"/>
                  <a:pt x="15716" y="10573"/>
                </a:cubicBezTo>
                <a:cubicBezTo>
                  <a:pt x="15665" y="10463"/>
                  <a:pt x="15598" y="10376"/>
                  <a:pt x="15494" y="10319"/>
                </a:cubicBezTo>
                <a:cubicBezTo>
                  <a:pt x="15446" y="10292"/>
                  <a:pt x="15331" y="10262"/>
                  <a:pt x="15272" y="10287"/>
                </a:cubicBezTo>
                <a:cubicBezTo>
                  <a:pt x="15261" y="10298"/>
                  <a:pt x="15251" y="10308"/>
                  <a:pt x="1524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17"/>
          <p:cNvSpPr/>
          <p:nvPr/>
        </p:nvSpPr>
        <p:spPr>
          <a:xfrm>
            <a:off x="5989680" y="3235320"/>
            <a:ext cx="2160720" cy="1028880"/>
          </a:xfrm>
          <a:custGeom>
            <a:avLst/>
            <a:gdLst/>
            <a:ahLst/>
            <a:rect l="l" t="t" r="r" b="b"/>
            <a:pathLst>
              <a:path w="6002" h="2859">
                <a:moveTo>
                  <a:pt x="17304" y="10065"/>
                </a:moveTo>
                <a:cubicBezTo>
                  <a:pt x="17292" y="10059"/>
                  <a:pt x="17185" y="10000"/>
                  <a:pt x="17177" y="10001"/>
                </a:cubicBezTo>
                <a:cubicBezTo>
                  <a:pt x="17134" y="10004"/>
                  <a:pt x="16983" y="10094"/>
                  <a:pt x="16954" y="10128"/>
                </a:cubicBezTo>
                <a:cubicBezTo>
                  <a:pt x="16883" y="10212"/>
                  <a:pt x="16860" y="10286"/>
                  <a:pt x="16828" y="10382"/>
                </a:cubicBezTo>
                <a:cubicBezTo>
                  <a:pt x="16805" y="10452"/>
                  <a:pt x="16774" y="10524"/>
                  <a:pt x="16796" y="10604"/>
                </a:cubicBezTo>
                <a:cubicBezTo>
                  <a:pt x="16818" y="10683"/>
                  <a:pt x="16899" y="10740"/>
                  <a:pt x="16954" y="10795"/>
                </a:cubicBezTo>
                <a:cubicBezTo>
                  <a:pt x="17024" y="10864"/>
                  <a:pt x="17098" y="10936"/>
                  <a:pt x="17145" y="11017"/>
                </a:cubicBezTo>
                <a:cubicBezTo>
                  <a:pt x="17198" y="11108"/>
                  <a:pt x="17234" y="11198"/>
                  <a:pt x="17240" y="11303"/>
                </a:cubicBezTo>
                <a:cubicBezTo>
                  <a:pt x="17246" y="11409"/>
                  <a:pt x="17191" y="11497"/>
                  <a:pt x="17145" y="11589"/>
                </a:cubicBezTo>
                <a:cubicBezTo>
                  <a:pt x="17095" y="11687"/>
                  <a:pt x="17054" y="11679"/>
                  <a:pt x="16954" y="11684"/>
                </a:cubicBezTo>
                <a:cubicBezTo>
                  <a:pt x="16860" y="11689"/>
                  <a:pt x="16810" y="11630"/>
                  <a:pt x="16732" y="11589"/>
                </a:cubicBezTo>
                <a:cubicBezTo>
                  <a:pt x="16644" y="11543"/>
                  <a:pt x="16650" y="11553"/>
                  <a:pt x="16637" y="11462"/>
                </a:cubicBezTo>
              </a:path>
              <a:path w="6002" h="2859">
                <a:moveTo>
                  <a:pt x="17812" y="10128"/>
                </a:moveTo>
                <a:cubicBezTo>
                  <a:pt x="17758" y="10248"/>
                  <a:pt x="17669" y="10359"/>
                  <a:pt x="17621" y="10478"/>
                </a:cubicBezTo>
                <a:cubicBezTo>
                  <a:pt x="17566" y="10615"/>
                  <a:pt x="17533" y="10779"/>
                  <a:pt x="17494" y="10922"/>
                </a:cubicBezTo>
                <a:cubicBezTo>
                  <a:pt x="17448" y="11089"/>
                  <a:pt x="17487" y="11203"/>
                  <a:pt x="17494" y="11366"/>
                </a:cubicBezTo>
                <a:cubicBezTo>
                  <a:pt x="17497" y="11426"/>
                  <a:pt x="17525" y="11496"/>
                  <a:pt x="17590" y="11525"/>
                </a:cubicBezTo>
                <a:cubicBezTo>
                  <a:pt x="17600" y="11525"/>
                  <a:pt x="17611" y="11525"/>
                  <a:pt x="17621" y="11525"/>
                </a:cubicBezTo>
                <a:cubicBezTo>
                  <a:pt x="17679" y="11468"/>
                  <a:pt x="17718" y="11412"/>
                  <a:pt x="17748" y="11335"/>
                </a:cubicBezTo>
                <a:cubicBezTo>
                  <a:pt x="17805" y="11191"/>
                  <a:pt x="17856" y="11011"/>
                  <a:pt x="17875" y="10858"/>
                </a:cubicBezTo>
                <a:cubicBezTo>
                  <a:pt x="17889" y="10746"/>
                  <a:pt x="17910" y="10647"/>
                  <a:pt x="17875" y="10541"/>
                </a:cubicBezTo>
                <a:cubicBezTo>
                  <a:pt x="17845" y="10480"/>
                  <a:pt x="17835" y="10461"/>
                  <a:pt x="17844" y="10414"/>
                </a:cubicBezTo>
              </a:path>
              <a:path w="6002" h="2859">
                <a:moveTo>
                  <a:pt x="18129" y="10128"/>
                </a:moveTo>
                <a:cubicBezTo>
                  <a:pt x="18149" y="10245"/>
                  <a:pt x="18210" y="10321"/>
                  <a:pt x="18193" y="10446"/>
                </a:cubicBezTo>
                <a:cubicBezTo>
                  <a:pt x="18172" y="10599"/>
                  <a:pt x="18158" y="10769"/>
                  <a:pt x="18129" y="10922"/>
                </a:cubicBezTo>
                <a:cubicBezTo>
                  <a:pt x="18105" y="11048"/>
                  <a:pt x="18073" y="11175"/>
                  <a:pt x="18066" y="11303"/>
                </a:cubicBezTo>
                <a:cubicBezTo>
                  <a:pt x="18064" y="11345"/>
                  <a:pt x="18066" y="11388"/>
                  <a:pt x="18066" y="11430"/>
                </a:cubicBezTo>
                <a:cubicBezTo>
                  <a:pt x="18096" y="11422"/>
                  <a:pt x="18166" y="11413"/>
                  <a:pt x="18193" y="11398"/>
                </a:cubicBezTo>
                <a:cubicBezTo>
                  <a:pt x="18258" y="11361"/>
                  <a:pt x="18303" y="11366"/>
                  <a:pt x="18383" y="11366"/>
                </a:cubicBezTo>
                <a:cubicBezTo>
                  <a:pt x="18463" y="11366"/>
                  <a:pt x="18499" y="11392"/>
                  <a:pt x="18574" y="11398"/>
                </a:cubicBezTo>
                <a:cubicBezTo>
                  <a:pt x="18639" y="11403"/>
                  <a:pt x="18643" y="11400"/>
                  <a:pt x="18669" y="11366"/>
                </a:cubicBezTo>
                <a:cubicBezTo>
                  <a:pt x="18680" y="11356"/>
                  <a:pt x="18690" y="11345"/>
                  <a:pt x="18701" y="11335"/>
                </a:cubicBezTo>
              </a:path>
              <a:path w="6002" h="2859">
                <a:moveTo>
                  <a:pt x="18764" y="10160"/>
                </a:moveTo>
                <a:cubicBezTo>
                  <a:pt x="18764" y="10418"/>
                  <a:pt x="18775" y="10669"/>
                  <a:pt x="18796" y="10922"/>
                </a:cubicBezTo>
                <a:cubicBezTo>
                  <a:pt x="18808" y="11069"/>
                  <a:pt x="18785" y="11224"/>
                  <a:pt x="18828" y="11366"/>
                </a:cubicBezTo>
                <a:cubicBezTo>
                  <a:pt x="18854" y="11418"/>
                  <a:pt x="18865" y="11426"/>
                  <a:pt x="18860" y="11462"/>
                </a:cubicBezTo>
                <a:cubicBezTo>
                  <a:pt x="18940" y="11439"/>
                  <a:pt x="18949" y="11430"/>
                  <a:pt x="18986" y="11335"/>
                </a:cubicBezTo>
                <a:cubicBezTo>
                  <a:pt x="19049" y="11174"/>
                  <a:pt x="19080" y="10996"/>
                  <a:pt x="19114" y="10827"/>
                </a:cubicBezTo>
                <a:cubicBezTo>
                  <a:pt x="19145" y="10672"/>
                  <a:pt x="19169" y="10498"/>
                  <a:pt x="19209" y="10350"/>
                </a:cubicBezTo>
                <a:cubicBezTo>
                  <a:pt x="19226" y="10287"/>
                  <a:pt x="19232" y="10268"/>
                  <a:pt x="19272" y="10255"/>
                </a:cubicBezTo>
                <a:cubicBezTo>
                  <a:pt x="19272" y="10399"/>
                  <a:pt x="19244" y="10526"/>
                  <a:pt x="19240" y="10668"/>
                </a:cubicBezTo>
                <a:cubicBezTo>
                  <a:pt x="19235" y="10844"/>
                  <a:pt x="19245" y="11066"/>
                  <a:pt x="19272" y="11240"/>
                </a:cubicBezTo>
                <a:cubicBezTo>
                  <a:pt x="19291" y="11358"/>
                  <a:pt x="19329" y="11472"/>
                  <a:pt x="19336" y="11589"/>
                </a:cubicBezTo>
                <a:cubicBezTo>
                  <a:pt x="19341" y="11677"/>
                  <a:pt x="19342" y="11664"/>
                  <a:pt x="19399" y="11620"/>
                </a:cubicBezTo>
              </a:path>
              <a:path w="6002" h="2859">
                <a:moveTo>
                  <a:pt x="19685" y="10224"/>
                </a:moveTo>
                <a:cubicBezTo>
                  <a:pt x="19685" y="10313"/>
                  <a:pt x="19714" y="10388"/>
                  <a:pt x="19717" y="10478"/>
                </a:cubicBezTo>
                <a:cubicBezTo>
                  <a:pt x="19723" y="10660"/>
                  <a:pt x="19743" y="10836"/>
                  <a:pt x="19748" y="11017"/>
                </a:cubicBezTo>
                <a:cubicBezTo>
                  <a:pt x="19751" y="11149"/>
                  <a:pt x="19780" y="11265"/>
                  <a:pt x="19780" y="11398"/>
                </a:cubicBezTo>
                <a:cubicBezTo>
                  <a:pt x="19780" y="11453"/>
                  <a:pt x="19793" y="11447"/>
                  <a:pt x="19748" y="11462"/>
                </a:cubicBezTo>
              </a:path>
              <a:path w="6002" h="2859">
                <a:moveTo>
                  <a:pt x="19431" y="10446"/>
                </a:moveTo>
                <a:cubicBezTo>
                  <a:pt x="19449" y="10375"/>
                  <a:pt x="19491" y="10354"/>
                  <a:pt x="19558" y="10319"/>
                </a:cubicBezTo>
                <a:cubicBezTo>
                  <a:pt x="19652" y="10270"/>
                  <a:pt x="19747" y="10234"/>
                  <a:pt x="19844" y="10192"/>
                </a:cubicBezTo>
                <a:cubicBezTo>
                  <a:pt x="19918" y="10160"/>
                  <a:pt x="19992" y="10129"/>
                  <a:pt x="20066" y="10096"/>
                </a:cubicBezTo>
              </a:path>
              <a:path w="6002" h="2859">
                <a:moveTo>
                  <a:pt x="20256" y="10065"/>
                </a:moveTo>
                <a:cubicBezTo>
                  <a:pt x="20272" y="10205"/>
                  <a:pt x="20260" y="10302"/>
                  <a:pt x="20256" y="10446"/>
                </a:cubicBezTo>
                <a:cubicBezTo>
                  <a:pt x="20246" y="10805"/>
                  <a:pt x="20256" y="11166"/>
                  <a:pt x="20256" y="11525"/>
                </a:cubicBezTo>
              </a:path>
              <a:path w="6002" h="2859">
                <a:moveTo>
                  <a:pt x="20701" y="10160"/>
                </a:moveTo>
                <a:cubicBezTo>
                  <a:pt x="20685" y="10308"/>
                  <a:pt x="20636" y="10456"/>
                  <a:pt x="20606" y="10604"/>
                </a:cubicBezTo>
                <a:cubicBezTo>
                  <a:pt x="20559" y="10833"/>
                  <a:pt x="20542" y="11037"/>
                  <a:pt x="20542" y="11271"/>
                </a:cubicBezTo>
                <a:cubicBezTo>
                  <a:pt x="20542" y="11413"/>
                  <a:pt x="20568" y="11447"/>
                  <a:pt x="20638" y="11557"/>
                </a:cubicBezTo>
                <a:cubicBezTo>
                  <a:pt x="20716" y="11527"/>
                  <a:pt x="20786" y="11496"/>
                  <a:pt x="20828" y="11398"/>
                </a:cubicBezTo>
                <a:cubicBezTo>
                  <a:pt x="20906" y="11217"/>
                  <a:pt x="20898" y="11015"/>
                  <a:pt x="20923" y="10827"/>
                </a:cubicBezTo>
                <a:cubicBezTo>
                  <a:pt x="20950" y="10622"/>
                  <a:pt x="20915" y="10458"/>
                  <a:pt x="20892" y="10255"/>
                </a:cubicBezTo>
                <a:cubicBezTo>
                  <a:pt x="20882" y="10168"/>
                  <a:pt x="20805" y="10094"/>
                  <a:pt x="20796" y="10033"/>
                </a:cubicBezTo>
                <a:cubicBezTo>
                  <a:pt x="20784" y="9951"/>
                  <a:pt x="20842" y="10029"/>
                  <a:pt x="20860" y="10033"/>
                </a:cubicBezTo>
                <a:cubicBezTo>
                  <a:pt x="20923" y="10120"/>
                  <a:pt x="20979" y="10185"/>
                  <a:pt x="21018" y="10287"/>
                </a:cubicBezTo>
                <a:cubicBezTo>
                  <a:pt x="21070" y="10423"/>
                  <a:pt x="21110" y="10555"/>
                  <a:pt x="21114" y="10700"/>
                </a:cubicBezTo>
                <a:cubicBezTo>
                  <a:pt x="21121" y="10936"/>
                  <a:pt x="21108" y="11172"/>
                  <a:pt x="21146" y="11398"/>
                </a:cubicBezTo>
                <a:cubicBezTo>
                  <a:pt x="21146" y="11451"/>
                  <a:pt x="21146" y="11462"/>
                  <a:pt x="21146" y="11494"/>
                </a:cubicBezTo>
                <a:cubicBezTo>
                  <a:pt x="21173" y="11448"/>
                  <a:pt x="21177" y="11417"/>
                  <a:pt x="21177" y="11335"/>
                </a:cubicBezTo>
                <a:cubicBezTo>
                  <a:pt x="21177" y="10922"/>
                  <a:pt x="21156" y="10500"/>
                  <a:pt x="21209" y="10096"/>
                </a:cubicBezTo>
                <a:cubicBezTo>
                  <a:pt x="21220" y="10010"/>
                  <a:pt x="21215" y="10037"/>
                  <a:pt x="21241" y="9970"/>
                </a:cubicBezTo>
                <a:cubicBezTo>
                  <a:pt x="21270" y="10007"/>
                  <a:pt x="21323" y="10078"/>
                  <a:pt x="21336" y="10160"/>
                </a:cubicBezTo>
                <a:cubicBezTo>
                  <a:pt x="21362" y="10330"/>
                  <a:pt x="21395" y="10498"/>
                  <a:pt x="21431" y="10668"/>
                </a:cubicBezTo>
                <a:cubicBezTo>
                  <a:pt x="21472" y="10860"/>
                  <a:pt x="21472" y="11049"/>
                  <a:pt x="21526" y="11240"/>
                </a:cubicBezTo>
                <a:cubicBezTo>
                  <a:pt x="21556" y="11348"/>
                  <a:pt x="21600" y="11433"/>
                  <a:pt x="21654" y="11525"/>
                </a:cubicBezTo>
                <a:cubicBezTo>
                  <a:pt x="21723" y="11505"/>
                  <a:pt x="21763" y="11495"/>
                  <a:pt x="21780" y="11398"/>
                </a:cubicBezTo>
                <a:cubicBezTo>
                  <a:pt x="21809" y="11227"/>
                  <a:pt x="21832" y="11033"/>
                  <a:pt x="21812" y="10858"/>
                </a:cubicBezTo>
                <a:cubicBezTo>
                  <a:pt x="21789" y="10654"/>
                  <a:pt x="21780" y="10462"/>
                  <a:pt x="21780" y="10255"/>
                </a:cubicBezTo>
                <a:cubicBezTo>
                  <a:pt x="21780" y="10089"/>
                  <a:pt x="21775" y="9938"/>
                  <a:pt x="21812" y="9779"/>
                </a:cubicBezTo>
              </a:path>
              <a:path w="6002" h="2859">
                <a:moveTo>
                  <a:pt x="22352" y="8985"/>
                </a:moveTo>
                <a:cubicBezTo>
                  <a:pt x="22352" y="9159"/>
                  <a:pt x="22335" y="9323"/>
                  <a:pt x="22320" y="9493"/>
                </a:cubicBezTo>
                <a:cubicBezTo>
                  <a:pt x="22303" y="9689"/>
                  <a:pt x="22337" y="9873"/>
                  <a:pt x="22352" y="10065"/>
                </a:cubicBezTo>
                <a:cubicBezTo>
                  <a:pt x="22373" y="10336"/>
                  <a:pt x="22352" y="10618"/>
                  <a:pt x="22352" y="10890"/>
                </a:cubicBezTo>
              </a:path>
              <a:path w="6002" h="2859">
                <a:moveTo>
                  <a:pt x="22574" y="11620"/>
                </a:moveTo>
                <a:cubicBezTo>
                  <a:pt x="22564" y="11650"/>
                  <a:pt x="22534" y="11681"/>
                  <a:pt x="22511" y="11716"/>
                </a:cubicBezTo>
                <a:cubicBezTo>
                  <a:pt x="22471" y="11776"/>
                  <a:pt x="22466" y="11783"/>
                  <a:pt x="22511" y="11843"/>
                </a:cubicBezTo>
                <a:cubicBezTo>
                  <a:pt x="22555" y="11828"/>
                  <a:pt x="22553" y="11797"/>
                  <a:pt x="22574" y="11748"/>
                </a:cubicBezTo>
                <a:cubicBezTo>
                  <a:pt x="22615" y="11654"/>
                  <a:pt x="22632" y="11648"/>
                  <a:pt x="22606" y="11557"/>
                </a:cubicBezTo>
                <a:cubicBezTo>
                  <a:pt x="22567" y="11570"/>
                  <a:pt x="22552" y="11610"/>
                  <a:pt x="22511" y="11652"/>
                </a:cubicBezTo>
                <a:cubicBezTo>
                  <a:pt x="22500" y="11663"/>
                  <a:pt x="22490" y="11673"/>
                  <a:pt x="22479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w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36 = 0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square-rooting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3"/>
          <p:cNvSpPr/>
          <p:nvPr/>
        </p:nvSpPr>
        <p:spPr>
          <a:xfrm>
            <a:off x="3051000" y="2022480"/>
            <a:ext cx="2652840" cy="709560"/>
          </a:xfrm>
          <a:custGeom>
            <a:avLst/>
            <a:gdLst/>
            <a:ahLst/>
            <a:rect l="l" t="t" r="r" b="b"/>
            <a:pathLst>
              <a:path w="7367" h="1969">
                <a:moveTo>
                  <a:pt x="8477" y="6128"/>
                </a:moveTo>
                <a:cubicBezTo>
                  <a:pt x="8477" y="6283"/>
                  <a:pt x="8492" y="6423"/>
                  <a:pt x="8509" y="6572"/>
                </a:cubicBezTo>
                <a:cubicBezTo>
                  <a:pt x="8524" y="6698"/>
                  <a:pt x="8535" y="6828"/>
                  <a:pt x="8541" y="6953"/>
                </a:cubicBezTo>
                <a:cubicBezTo>
                  <a:pt x="8546" y="7052"/>
                  <a:pt x="8572" y="7138"/>
                  <a:pt x="8572" y="7239"/>
                </a:cubicBezTo>
                <a:cubicBezTo>
                  <a:pt x="8572" y="7305"/>
                  <a:pt x="8573" y="7328"/>
                  <a:pt x="8604" y="7366"/>
                </a:cubicBezTo>
                <a:cubicBezTo>
                  <a:pt x="8604" y="7271"/>
                  <a:pt x="8623" y="7204"/>
                  <a:pt x="8636" y="7112"/>
                </a:cubicBezTo>
                <a:cubicBezTo>
                  <a:pt x="8652" y="7002"/>
                  <a:pt x="8714" y="6900"/>
                  <a:pt x="8731" y="6794"/>
                </a:cubicBezTo>
                <a:cubicBezTo>
                  <a:pt x="8750" y="6680"/>
                  <a:pt x="8773" y="6615"/>
                  <a:pt x="8826" y="6509"/>
                </a:cubicBezTo>
                <a:cubicBezTo>
                  <a:pt x="8859" y="6442"/>
                  <a:pt x="8899" y="6389"/>
                  <a:pt x="8922" y="6350"/>
                </a:cubicBezTo>
                <a:cubicBezTo>
                  <a:pt x="8922" y="6339"/>
                  <a:pt x="8922" y="6329"/>
                  <a:pt x="8922" y="6318"/>
                </a:cubicBezTo>
                <a:cubicBezTo>
                  <a:pt x="8973" y="6382"/>
                  <a:pt x="8956" y="6425"/>
                  <a:pt x="8985" y="6540"/>
                </a:cubicBezTo>
                <a:cubicBezTo>
                  <a:pt x="9012" y="6649"/>
                  <a:pt x="9042" y="6748"/>
                  <a:pt x="9080" y="6858"/>
                </a:cubicBezTo>
                <a:cubicBezTo>
                  <a:pt x="9115" y="6960"/>
                  <a:pt x="9158" y="7102"/>
                  <a:pt x="9176" y="7207"/>
                </a:cubicBezTo>
                <a:cubicBezTo>
                  <a:pt x="9191" y="7295"/>
                  <a:pt x="9183" y="7391"/>
                  <a:pt x="9239" y="7461"/>
                </a:cubicBezTo>
                <a:cubicBezTo>
                  <a:pt x="9250" y="7472"/>
                  <a:pt x="9260" y="7482"/>
                  <a:pt x="9271" y="7493"/>
                </a:cubicBezTo>
                <a:cubicBezTo>
                  <a:pt x="9271" y="7276"/>
                  <a:pt x="9282" y="7070"/>
                  <a:pt x="9303" y="6858"/>
                </a:cubicBezTo>
                <a:cubicBezTo>
                  <a:pt x="9318" y="6705"/>
                  <a:pt x="9345" y="6564"/>
                  <a:pt x="9366" y="6414"/>
                </a:cubicBezTo>
                <a:cubicBezTo>
                  <a:pt x="9381" y="6307"/>
                  <a:pt x="9398" y="6205"/>
                  <a:pt x="9398" y="6096"/>
                </a:cubicBezTo>
              </a:path>
              <a:path w="7367" h="1969">
                <a:moveTo>
                  <a:pt x="9779" y="5778"/>
                </a:moveTo>
                <a:cubicBezTo>
                  <a:pt x="9813" y="5718"/>
                  <a:pt x="9842" y="5673"/>
                  <a:pt x="9906" y="5652"/>
                </a:cubicBezTo>
                <a:cubicBezTo>
                  <a:pt x="9978" y="5629"/>
                  <a:pt x="9963" y="5644"/>
                  <a:pt x="10033" y="5652"/>
                </a:cubicBezTo>
                <a:cubicBezTo>
                  <a:pt x="10129" y="5663"/>
                  <a:pt x="10096" y="5765"/>
                  <a:pt x="10096" y="5842"/>
                </a:cubicBezTo>
                <a:cubicBezTo>
                  <a:pt x="10096" y="5919"/>
                  <a:pt x="10060" y="5996"/>
                  <a:pt x="10033" y="6064"/>
                </a:cubicBezTo>
                <a:cubicBezTo>
                  <a:pt x="10005" y="6135"/>
                  <a:pt x="9933" y="6188"/>
                  <a:pt x="9906" y="6255"/>
                </a:cubicBezTo>
                <a:cubicBezTo>
                  <a:pt x="9896" y="6280"/>
                  <a:pt x="9874" y="6341"/>
                  <a:pt x="9874" y="6286"/>
                </a:cubicBezTo>
                <a:cubicBezTo>
                  <a:pt x="9874" y="6241"/>
                  <a:pt x="9921" y="6196"/>
                  <a:pt x="9970" y="6223"/>
                </a:cubicBezTo>
                <a:cubicBezTo>
                  <a:pt x="10024" y="6254"/>
                  <a:pt x="9997" y="6295"/>
                  <a:pt x="10065" y="6318"/>
                </a:cubicBezTo>
                <a:cubicBezTo>
                  <a:pt x="10119" y="6336"/>
                  <a:pt x="10108" y="6311"/>
                  <a:pt x="10160" y="6350"/>
                </a:cubicBezTo>
                <a:cubicBezTo>
                  <a:pt x="10211" y="6312"/>
                  <a:pt x="10240" y="6344"/>
                  <a:pt x="10287" y="6318"/>
                </a:cubicBezTo>
                <a:cubicBezTo>
                  <a:pt x="10319" y="6286"/>
                  <a:pt x="10329" y="6276"/>
                  <a:pt x="10350" y="6255"/>
                </a:cubicBezTo>
              </a:path>
              <a:path w="7367" h="1969">
                <a:moveTo>
                  <a:pt x="10763" y="6540"/>
                </a:moveTo>
                <a:lnTo>
                  <a:pt x="10763" y="6540"/>
                </a:lnTo>
              </a:path>
              <a:path w="7367" h="1969">
                <a:moveTo>
                  <a:pt x="10763" y="6540"/>
                </a:moveTo>
                <a:lnTo>
                  <a:pt x="10763" y="6540"/>
                </a:lnTo>
                <a:lnTo>
                  <a:pt x="10763" y="6540"/>
                </a:lnTo>
              </a:path>
              <a:path w="7367" h="1969">
                <a:moveTo>
                  <a:pt x="10763" y="6540"/>
                </a:moveTo>
                <a:cubicBezTo>
                  <a:pt x="10806" y="6572"/>
                  <a:pt x="10862" y="6590"/>
                  <a:pt x="10922" y="6572"/>
                </a:cubicBezTo>
                <a:cubicBezTo>
                  <a:pt x="11031" y="6540"/>
                  <a:pt x="11123" y="6540"/>
                  <a:pt x="11240" y="6540"/>
                </a:cubicBezTo>
                <a:cubicBezTo>
                  <a:pt x="11308" y="6540"/>
                  <a:pt x="11427" y="6553"/>
                  <a:pt x="11494" y="6572"/>
                </a:cubicBezTo>
                <a:cubicBezTo>
                  <a:pt x="11546" y="6598"/>
                  <a:pt x="11554" y="6609"/>
                  <a:pt x="11589" y="6604"/>
                </a:cubicBezTo>
              </a:path>
              <a:path w="7367" h="1969">
                <a:moveTo>
                  <a:pt x="11938" y="6096"/>
                </a:moveTo>
                <a:cubicBezTo>
                  <a:pt x="11948" y="5999"/>
                  <a:pt x="11963" y="5981"/>
                  <a:pt x="12002" y="5906"/>
                </a:cubicBezTo>
                <a:cubicBezTo>
                  <a:pt x="12055" y="5806"/>
                  <a:pt x="12102" y="5809"/>
                  <a:pt x="12192" y="5778"/>
                </a:cubicBezTo>
                <a:cubicBezTo>
                  <a:pt x="12323" y="5733"/>
                  <a:pt x="12304" y="5771"/>
                  <a:pt x="12351" y="5842"/>
                </a:cubicBezTo>
                <a:cubicBezTo>
                  <a:pt x="12394" y="5908"/>
                  <a:pt x="12353" y="6020"/>
                  <a:pt x="12319" y="6096"/>
                </a:cubicBezTo>
                <a:cubicBezTo>
                  <a:pt x="12282" y="6179"/>
                  <a:pt x="12213" y="6274"/>
                  <a:pt x="12160" y="6350"/>
                </a:cubicBezTo>
                <a:cubicBezTo>
                  <a:pt x="12140" y="6379"/>
                  <a:pt x="12038" y="6435"/>
                  <a:pt x="12033" y="6445"/>
                </a:cubicBezTo>
                <a:cubicBezTo>
                  <a:pt x="12044" y="6445"/>
                  <a:pt x="12054" y="6445"/>
                  <a:pt x="12065" y="6445"/>
                </a:cubicBezTo>
                <a:cubicBezTo>
                  <a:pt x="12103" y="6392"/>
                  <a:pt x="12176" y="6314"/>
                  <a:pt x="12256" y="6318"/>
                </a:cubicBezTo>
                <a:cubicBezTo>
                  <a:pt x="12336" y="6322"/>
                  <a:pt x="12409" y="6383"/>
                  <a:pt x="12446" y="6445"/>
                </a:cubicBezTo>
                <a:cubicBezTo>
                  <a:pt x="12484" y="6509"/>
                  <a:pt x="12507" y="6689"/>
                  <a:pt x="12478" y="6763"/>
                </a:cubicBezTo>
                <a:cubicBezTo>
                  <a:pt x="12439" y="6863"/>
                  <a:pt x="12356" y="7002"/>
                  <a:pt x="12287" y="7080"/>
                </a:cubicBezTo>
                <a:cubicBezTo>
                  <a:pt x="12217" y="7158"/>
                  <a:pt x="12104" y="7247"/>
                  <a:pt x="12002" y="7271"/>
                </a:cubicBezTo>
                <a:cubicBezTo>
                  <a:pt x="11958" y="7281"/>
                  <a:pt x="11835" y="7291"/>
                  <a:pt x="11811" y="7239"/>
                </a:cubicBezTo>
                <a:cubicBezTo>
                  <a:pt x="11811" y="7186"/>
                  <a:pt x="11811" y="7176"/>
                  <a:pt x="11811" y="7144"/>
                </a:cubicBezTo>
              </a:path>
              <a:path w="7367" h="1969">
                <a:moveTo>
                  <a:pt x="12859" y="6128"/>
                </a:moveTo>
                <a:cubicBezTo>
                  <a:pt x="12842" y="6215"/>
                  <a:pt x="12791" y="6296"/>
                  <a:pt x="12764" y="6382"/>
                </a:cubicBezTo>
                <a:cubicBezTo>
                  <a:pt x="12718" y="6532"/>
                  <a:pt x="12681" y="6703"/>
                  <a:pt x="12668" y="6858"/>
                </a:cubicBezTo>
                <a:cubicBezTo>
                  <a:pt x="12654" y="7015"/>
                  <a:pt x="12647" y="7119"/>
                  <a:pt x="12668" y="7271"/>
                </a:cubicBezTo>
                <a:cubicBezTo>
                  <a:pt x="12679" y="7353"/>
                  <a:pt x="12701" y="7436"/>
                  <a:pt x="12795" y="7461"/>
                </a:cubicBezTo>
                <a:cubicBezTo>
                  <a:pt x="12877" y="7483"/>
                  <a:pt x="12984" y="7449"/>
                  <a:pt x="13049" y="7398"/>
                </a:cubicBezTo>
                <a:cubicBezTo>
                  <a:pt x="13150" y="7319"/>
                  <a:pt x="13243" y="7207"/>
                  <a:pt x="13272" y="7080"/>
                </a:cubicBezTo>
                <a:cubicBezTo>
                  <a:pt x="13285" y="7021"/>
                  <a:pt x="13280" y="6884"/>
                  <a:pt x="13208" y="6858"/>
                </a:cubicBezTo>
                <a:cubicBezTo>
                  <a:pt x="13146" y="6836"/>
                  <a:pt x="13031" y="6851"/>
                  <a:pt x="12986" y="6890"/>
                </a:cubicBezTo>
                <a:cubicBezTo>
                  <a:pt x="12874" y="6986"/>
                  <a:pt x="12860" y="7043"/>
                  <a:pt x="12827" y="7176"/>
                </a:cubicBezTo>
                <a:cubicBezTo>
                  <a:pt x="12804" y="7267"/>
                  <a:pt x="12775" y="7344"/>
                  <a:pt x="12827" y="7430"/>
                </a:cubicBezTo>
                <a:cubicBezTo>
                  <a:pt x="12859" y="7461"/>
                  <a:pt x="12869" y="7471"/>
                  <a:pt x="12890" y="7430"/>
                </a:cubicBezTo>
              </a:path>
              <a:path w="7367" h="1969">
                <a:moveTo>
                  <a:pt x="13716" y="6636"/>
                </a:moveTo>
                <a:cubicBezTo>
                  <a:pt x="13726" y="6607"/>
                  <a:pt x="13770" y="6586"/>
                  <a:pt x="13811" y="6572"/>
                </a:cubicBezTo>
                <a:cubicBezTo>
                  <a:pt x="13881" y="6548"/>
                  <a:pt x="13991" y="6544"/>
                  <a:pt x="14065" y="6540"/>
                </a:cubicBezTo>
                <a:cubicBezTo>
                  <a:pt x="14160" y="6535"/>
                  <a:pt x="14228" y="6565"/>
                  <a:pt x="14319" y="6572"/>
                </a:cubicBezTo>
                <a:cubicBezTo>
                  <a:pt x="14330" y="6572"/>
                  <a:pt x="14340" y="6572"/>
                  <a:pt x="14351" y="6572"/>
                </a:cubicBezTo>
              </a:path>
              <a:path w="7367" h="1969">
                <a:moveTo>
                  <a:pt x="13780" y="7017"/>
                </a:moveTo>
                <a:cubicBezTo>
                  <a:pt x="13799" y="7073"/>
                  <a:pt x="13872" y="7048"/>
                  <a:pt x="13938" y="7048"/>
                </a:cubicBezTo>
                <a:cubicBezTo>
                  <a:pt x="14033" y="7048"/>
                  <a:pt x="14104" y="7031"/>
                  <a:pt x="14192" y="7017"/>
                </a:cubicBezTo>
                <a:cubicBezTo>
                  <a:pt x="14213" y="7017"/>
                  <a:pt x="14235" y="7017"/>
                  <a:pt x="14256" y="7017"/>
                </a:cubicBezTo>
              </a:path>
              <a:path w="7367" h="1969">
                <a:moveTo>
                  <a:pt x="15399" y="6286"/>
                </a:moveTo>
                <a:cubicBezTo>
                  <a:pt x="15347" y="6261"/>
                  <a:pt x="15271" y="6300"/>
                  <a:pt x="15208" y="6350"/>
                </a:cubicBezTo>
                <a:cubicBezTo>
                  <a:pt x="15099" y="6435"/>
                  <a:pt x="15029" y="6555"/>
                  <a:pt x="14954" y="6668"/>
                </a:cubicBezTo>
                <a:cubicBezTo>
                  <a:pt x="14866" y="6800"/>
                  <a:pt x="14833" y="6922"/>
                  <a:pt x="14827" y="7080"/>
                </a:cubicBezTo>
                <a:cubicBezTo>
                  <a:pt x="14822" y="7212"/>
                  <a:pt x="14871" y="7328"/>
                  <a:pt x="14954" y="7430"/>
                </a:cubicBezTo>
                <a:cubicBezTo>
                  <a:pt x="15025" y="7517"/>
                  <a:pt x="15194" y="7572"/>
                  <a:pt x="15304" y="7588"/>
                </a:cubicBezTo>
                <a:cubicBezTo>
                  <a:pt x="15414" y="7604"/>
                  <a:pt x="15560" y="7594"/>
                  <a:pt x="15653" y="7525"/>
                </a:cubicBezTo>
                <a:cubicBezTo>
                  <a:pt x="15756" y="7449"/>
                  <a:pt x="15824" y="7335"/>
                  <a:pt x="15843" y="7207"/>
                </a:cubicBezTo>
                <a:cubicBezTo>
                  <a:pt x="15864" y="7062"/>
                  <a:pt x="15841" y="6865"/>
                  <a:pt x="15780" y="6731"/>
                </a:cubicBezTo>
                <a:cubicBezTo>
                  <a:pt x="15715" y="6588"/>
                  <a:pt x="15605" y="6482"/>
                  <a:pt x="15494" y="6382"/>
                </a:cubicBezTo>
                <a:cubicBezTo>
                  <a:pt x="15418" y="6314"/>
                  <a:pt x="15348" y="6266"/>
                  <a:pt x="15240" y="6286"/>
                </a:cubicBezTo>
                <a:cubicBezTo>
                  <a:pt x="15178" y="6317"/>
                  <a:pt x="15157" y="6325"/>
                  <a:pt x="15176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4"/>
          <p:cNvSpPr/>
          <p:nvPr/>
        </p:nvSpPr>
        <p:spPr>
          <a:xfrm>
            <a:off x="4057560" y="2868480"/>
            <a:ext cx="685800" cy="389160"/>
          </a:xfrm>
          <a:custGeom>
            <a:avLst/>
            <a:gdLst/>
            <a:ahLst/>
            <a:rect l="l" t="t" r="r" b="b"/>
            <a:pathLst>
              <a:path w="1906" h="1081">
                <a:moveTo>
                  <a:pt x="11494" y="8128"/>
                </a:moveTo>
                <a:cubicBezTo>
                  <a:pt x="11530" y="8178"/>
                  <a:pt x="11543" y="8251"/>
                  <a:pt x="11525" y="8318"/>
                </a:cubicBezTo>
                <a:cubicBezTo>
                  <a:pt x="11498" y="8417"/>
                  <a:pt x="11494" y="8496"/>
                  <a:pt x="11494" y="8604"/>
                </a:cubicBezTo>
                <a:cubicBezTo>
                  <a:pt x="11494" y="8662"/>
                  <a:pt x="11494" y="8905"/>
                  <a:pt x="11494" y="8858"/>
                </a:cubicBezTo>
              </a:path>
              <a:path w="1906" h="1081">
                <a:moveTo>
                  <a:pt x="11271" y="8509"/>
                </a:moveTo>
                <a:cubicBezTo>
                  <a:pt x="11312" y="8499"/>
                  <a:pt x="11356" y="8491"/>
                  <a:pt x="11398" y="8477"/>
                </a:cubicBezTo>
                <a:cubicBezTo>
                  <a:pt x="11488" y="8446"/>
                  <a:pt x="11555" y="8446"/>
                  <a:pt x="11652" y="8446"/>
                </a:cubicBezTo>
              </a:path>
              <a:path w="1906" h="1081">
                <a:moveTo>
                  <a:pt x="12319" y="8223"/>
                </a:moveTo>
                <a:cubicBezTo>
                  <a:pt x="12275" y="8278"/>
                  <a:pt x="12243" y="8331"/>
                  <a:pt x="12192" y="8382"/>
                </a:cubicBezTo>
                <a:cubicBezTo>
                  <a:pt x="12151" y="8423"/>
                  <a:pt x="12121" y="8471"/>
                  <a:pt x="12065" y="8477"/>
                </a:cubicBezTo>
                <a:cubicBezTo>
                  <a:pt x="12033" y="8477"/>
                  <a:pt x="12023" y="8477"/>
                  <a:pt x="12002" y="8477"/>
                </a:cubicBezTo>
                <a:cubicBezTo>
                  <a:pt x="12041" y="8438"/>
                  <a:pt x="12095" y="8365"/>
                  <a:pt x="12160" y="8382"/>
                </a:cubicBezTo>
                <a:cubicBezTo>
                  <a:pt x="12270" y="8411"/>
                  <a:pt x="12312" y="8425"/>
                  <a:pt x="12382" y="8509"/>
                </a:cubicBezTo>
                <a:cubicBezTo>
                  <a:pt x="12433" y="8570"/>
                  <a:pt x="12414" y="8651"/>
                  <a:pt x="12414" y="8731"/>
                </a:cubicBezTo>
                <a:cubicBezTo>
                  <a:pt x="12414" y="8815"/>
                  <a:pt x="12372" y="8849"/>
                  <a:pt x="12319" y="8890"/>
                </a:cubicBezTo>
                <a:cubicBezTo>
                  <a:pt x="12236" y="8955"/>
                  <a:pt x="12255" y="8950"/>
                  <a:pt x="12160" y="8922"/>
                </a:cubicBezTo>
                <a:cubicBezTo>
                  <a:pt x="12127" y="8912"/>
                  <a:pt x="12052" y="8896"/>
                  <a:pt x="12033" y="8858"/>
                </a:cubicBezTo>
                <a:cubicBezTo>
                  <a:pt x="12033" y="8826"/>
                  <a:pt x="12033" y="8816"/>
                  <a:pt x="12002" y="8826"/>
                </a:cubicBezTo>
              </a:path>
              <a:path w="1906" h="1081">
                <a:moveTo>
                  <a:pt x="11843" y="8033"/>
                </a:moveTo>
                <a:cubicBezTo>
                  <a:pt x="11855" y="7996"/>
                  <a:pt x="11886" y="7975"/>
                  <a:pt x="11938" y="7969"/>
                </a:cubicBezTo>
                <a:cubicBezTo>
                  <a:pt x="12025" y="7959"/>
                  <a:pt x="12150" y="7951"/>
                  <a:pt x="12224" y="8001"/>
                </a:cubicBezTo>
                <a:cubicBezTo>
                  <a:pt x="12266" y="8029"/>
                  <a:pt x="12316" y="8081"/>
                  <a:pt x="12319" y="8128"/>
                </a:cubicBezTo>
                <a:cubicBezTo>
                  <a:pt x="12324" y="8194"/>
                  <a:pt x="12329" y="8239"/>
                  <a:pt x="12287" y="8287"/>
                </a:cubicBezTo>
                <a:cubicBezTo>
                  <a:pt x="12254" y="8324"/>
                  <a:pt x="12203" y="8368"/>
                  <a:pt x="12160" y="8382"/>
                </a:cubicBezTo>
                <a:cubicBezTo>
                  <a:pt x="12128" y="8382"/>
                  <a:pt x="12117" y="8382"/>
                  <a:pt x="12160" y="8382"/>
                </a:cubicBezTo>
              </a:path>
              <a:path w="1906" h="1081">
                <a:moveTo>
                  <a:pt x="12859" y="8128"/>
                </a:moveTo>
                <a:cubicBezTo>
                  <a:pt x="12796" y="8253"/>
                  <a:pt x="12762" y="8347"/>
                  <a:pt x="12732" y="8477"/>
                </a:cubicBezTo>
                <a:cubicBezTo>
                  <a:pt x="12702" y="8607"/>
                  <a:pt x="12668" y="8691"/>
                  <a:pt x="12668" y="8826"/>
                </a:cubicBezTo>
                <a:cubicBezTo>
                  <a:pt x="12668" y="8920"/>
                  <a:pt x="12701" y="8986"/>
                  <a:pt x="12795" y="9017"/>
                </a:cubicBezTo>
                <a:cubicBezTo>
                  <a:pt x="12872" y="9043"/>
                  <a:pt x="12939" y="9044"/>
                  <a:pt x="13018" y="9017"/>
                </a:cubicBezTo>
                <a:cubicBezTo>
                  <a:pt x="13094" y="8991"/>
                  <a:pt x="13159" y="8872"/>
                  <a:pt x="13176" y="8795"/>
                </a:cubicBezTo>
                <a:cubicBezTo>
                  <a:pt x="13190" y="8730"/>
                  <a:pt x="13183" y="8635"/>
                  <a:pt x="13113" y="8604"/>
                </a:cubicBezTo>
                <a:cubicBezTo>
                  <a:pt x="13040" y="8571"/>
                  <a:pt x="12982" y="8666"/>
                  <a:pt x="12954" y="8700"/>
                </a:cubicBezTo>
                <a:cubicBezTo>
                  <a:pt x="12906" y="8758"/>
                  <a:pt x="12841" y="8839"/>
                  <a:pt x="12859" y="8922"/>
                </a:cubicBezTo>
                <a:cubicBezTo>
                  <a:pt x="12874" y="8990"/>
                  <a:pt x="12893" y="9034"/>
                  <a:pt x="12954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5"/>
          <p:cNvSpPr/>
          <p:nvPr/>
        </p:nvSpPr>
        <p:spPr>
          <a:xfrm>
            <a:off x="3189240" y="3268800"/>
            <a:ext cx="2057400" cy="1028520"/>
          </a:xfrm>
          <a:custGeom>
            <a:avLst/>
            <a:gdLst/>
            <a:ahLst/>
            <a:rect l="l" t="t" r="r" b="b"/>
            <a:pathLst>
              <a:path w="5716" h="2859">
                <a:moveTo>
                  <a:pt x="9938" y="10001"/>
                </a:moveTo>
                <a:cubicBezTo>
                  <a:pt x="9938" y="10248"/>
                  <a:pt x="9943" y="10491"/>
                  <a:pt x="9970" y="10732"/>
                </a:cubicBezTo>
                <a:cubicBezTo>
                  <a:pt x="9987" y="10882"/>
                  <a:pt x="9975" y="11041"/>
                  <a:pt x="10001" y="11176"/>
                </a:cubicBezTo>
                <a:cubicBezTo>
                  <a:pt x="10001" y="11229"/>
                  <a:pt x="9990" y="11251"/>
                  <a:pt x="10033" y="11240"/>
                </a:cubicBezTo>
                <a:cubicBezTo>
                  <a:pt x="10045" y="11154"/>
                  <a:pt x="10085" y="11075"/>
                  <a:pt x="10096" y="10986"/>
                </a:cubicBezTo>
                <a:cubicBezTo>
                  <a:pt x="10111" y="10861"/>
                  <a:pt x="10151" y="10759"/>
                  <a:pt x="10192" y="10636"/>
                </a:cubicBezTo>
                <a:cubicBezTo>
                  <a:pt x="10227" y="10532"/>
                  <a:pt x="10237" y="10450"/>
                  <a:pt x="10287" y="10350"/>
                </a:cubicBezTo>
                <a:cubicBezTo>
                  <a:pt x="10319" y="10285"/>
                  <a:pt x="10352" y="10254"/>
                  <a:pt x="10382" y="10224"/>
                </a:cubicBezTo>
                <a:cubicBezTo>
                  <a:pt x="10398" y="10248"/>
                  <a:pt x="10435" y="10287"/>
                  <a:pt x="10446" y="10350"/>
                </a:cubicBezTo>
                <a:cubicBezTo>
                  <a:pt x="10464" y="10455"/>
                  <a:pt x="10485" y="10565"/>
                  <a:pt x="10509" y="10668"/>
                </a:cubicBezTo>
                <a:cubicBezTo>
                  <a:pt x="10538" y="10791"/>
                  <a:pt x="10572" y="10931"/>
                  <a:pt x="10604" y="11049"/>
                </a:cubicBezTo>
                <a:cubicBezTo>
                  <a:pt x="10623" y="11117"/>
                  <a:pt x="10665" y="11218"/>
                  <a:pt x="10700" y="11271"/>
                </a:cubicBezTo>
                <a:cubicBezTo>
                  <a:pt x="10711" y="11282"/>
                  <a:pt x="10721" y="11292"/>
                  <a:pt x="10732" y="11303"/>
                </a:cubicBezTo>
                <a:cubicBezTo>
                  <a:pt x="10732" y="10914"/>
                  <a:pt x="10702" y="10504"/>
                  <a:pt x="10763" y="10128"/>
                </a:cubicBezTo>
                <a:cubicBezTo>
                  <a:pt x="10763" y="10071"/>
                  <a:pt x="10759" y="10054"/>
                  <a:pt x="10795" y="10033"/>
                </a:cubicBezTo>
              </a:path>
              <a:path w="5716" h="2859">
                <a:moveTo>
                  <a:pt x="11112" y="9747"/>
                </a:moveTo>
                <a:cubicBezTo>
                  <a:pt x="11124" y="9713"/>
                  <a:pt x="11136" y="9689"/>
                  <a:pt x="11176" y="9684"/>
                </a:cubicBezTo>
                <a:cubicBezTo>
                  <a:pt x="11225" y="9678"/>
                  <a:pt x="11341" y="9665"/>
                  <a:pt x="11366" y="9716"/>
                </a:cubicBezTo>
                <a:cubicBezTo>
                  <a:pt x="11395" y="9774"/>
                  <a:pt x="11358" y="9862"/>
                  <a:pt x="11335" y="9906"/>
                </a:cubicBezTo>
                <a:cubicBezTo>
                  <a:pt x="11298" y="9975"/>
                  <a:pt x="11235" y="10060"/>
                  <a:pt x="11208" y="10128"/>
                </a:cubicBezTo>
                <a:cubicBezTo>
                  <a:pt x="11187" y="10181"/>
                  <a:pt x="11158" y="10183"/>
                  <a:pt x="11144" y="10224"/>
                </a:cubicBezTo>
                <a:cubicBezTo>
                  <a:pt x="11154" y="10195"/>
                  <a:pt x="11199" y="10174"/>
                  <a:pt x="11240" y="10160"/>
                </a:cubicBezTo>
                <a:cubicBezTo>
                  <a:pt x="11314" y="10135"/>
                  <a:pt x="11397" y="10176"/>
                  <a:pt x="11462" y="10192"/>
                </a:cubicBezTo>
                <a:cubicBezTo>
                  <a:pt x="11473" y="10192"/>
                  <a:pt x="11483" y="10192"/>
                  <a:pt x="11494" y="10192"/>
                </a:cubicBezTo>
              </a:path>
              <a:path w="5716" h="2859">
                <a:moveTo>
                  <a:pt x="12002" y="10287"/>
                </a:moveTo>
                <a:cubicBezTo>
                  <a:pt x="12057" y="10329"/>
                  <a:pt x="12086" y="10319"/>
                  <a:pt x="12160" y="10319"/>
                </a:cubicBezTo>
                <a:cubicBezTo>
                  <a:pt x="12234" y="10319"/>
                  <a:pt x="12308" y="10319"/>
                  <a:pt x="12382" y="10319"/>
                </a:cubicBezTo>
              </a:path>
              <a:path w="5716" h="2859">
                <a:moveTo>
                  <a:pt x="11970" y="10763"/>
                </a:moveTo>
                <a:cubicBezTo>
                  <a:pt x="11981" y="10774"/>
                  <a:pt x="11991" y="10784"/>
                  <a:pt x="12002" y="10795"/>
                </a:cubicBezTo>
                <a:cubicBezTo>
                  <a:pt x="12052" y="10764"/>
                  <a:pt x="12129" y="10747"/>
                  <a:pt x="12192" y="10732"/>
                </a:cubicBezTo>
                <a:cubicBezTo>
                  <a:pt x="12229" y="10723"/>
                  <a:pt x="12281" y="10732"/>
                  <a:pt x="12319" y="10732"/>
                </a:cubicBezTo>
              </a:path>
              <a:path w="5716" h="2859">
                <a:moveTo>
                  <a:pt x="12859" y="10224"/>
                </a:moveTo>
                <a:cubicBezTo>
                  <a:pt x="12859" y="10147"/>
                  <a:pt x="12871" y="10162"/>
                  <a:pt x="12922" y="10128"/>
                </a:cubicBezTo>
                <a:cubicBezTo>
                  <a:pt x="12983" y="10087"/>
                  <a:pt x="13065" y="10069"/>
                  <a:pt x="13144" y="10065"/>
                </a:cubicBezTo>
                <a:cubicBezTo>
                  <a:pt x="13228" y="10060"/>
                  <a:pt x="13302" y="10111"/>
                  <a:pt x="13367" y="10160"/>
                </a:cubicBezTo>
                <a:cubicBezTo>
                  <a:pt x="13450" y="10223"/>
                  <a:pt x="13370" y="10292"/>
                  <a:pt x="13335" y="10350"/>
                </a:cubicBezTo>
                <a:cubicBezTo>
                  <a:pt x="13297" y="10413"/>
                  <a:pt x="13224" y="10491"/>
                  <a:pt x="13144" y="10509"/>
                </a:cubicBezTo>
                <a:cubicBezTo>
                  <a:pt x="13087" y="10509"/>
                  <a:pt x="13070" y="10505"/>
                  <a:pt x="13049" y="10541"/>
                </a:cubicBezTo>
                <a:cubicBezTo>
                  <a:pt x="12997" y="10541"/>
                  <a:pt x="13092" y="10541"/>
                  <a:pt x="13144" y="10541"/>
                </a:cubicBezTo>
                <a:cubicBezTo>
                  <a:pt x="13226" y="10541"/>
                  <a:pt x="13332" y="10584"/>
                  <a:pt x="13398" y="10636"/>
                </a:cubicBezTo>
                <a:cubicBezTo>
                  <a:pt x="13479" y="10699"/>
                  <a:pt x="13522" y="10791"/>
                  <a:pt x="13526" y="10890"/>
                </a:cubicBezTo>
                <a:cubicBezTo>
                  <a:pt x="13530" y="10977"/>
                  <a:pt x="13495" y="11142"/>
                  <a:pt x="13430" y="11208"/>
                </a:cubicBezTo>
                <a:cubicBezTo>
                  <a:pt x="13388" y="11250"/>
                  <a:pt x="13265" y="11322"/>
                  <a:pt x="13208" y="11335"/>
                </a:cubicBezTo>
                <a:cubicBezTo>
                  <a:pt x="13129" y="11353"/>
                  <a:pt x="13041" y="11289"/>
                  <a:pt x="12986" y="11240"/>
                </a:cubicBezTo>
                <a:cubicBezTo>
                  <a:pt x="12940" y="11199"/>
                  <a:pt x="12954" y="11174"/>
                  <a:pt x="12954" y="11112"/>
                </a:cubicBezTo>
              </a:path>
              <a:path w="5716" h="2859">
                <a:moveTo>
                  <a:pt x="13780" y="10414"/>
                </a:moveTo>
                <a:cubicBezTo>
                  <a:pt x="13839" y="10434"/>
                  <a:pt x="13808" y="10482"/>
                  <a:pt x="13780" y="10541"/>
                </a:cubicBezTo>
                <a:cubicBezTo>
                  <a:pt x="13734" y="10639"/>
                  <a:pt x="13697" y="10755"/>
                  <a:pt x="13684" y="10858"/>
                </a:cubicBezTo>
                <a:cubicBezTo>
                  <a:pt x="13669" y="10980"/>
                  <a:pt x="13730" y="11101"/>
                  <a:pt x="13780" y="11208"/>
                </a:cubicBezTo>
                <a:cubicBezTo>
                  <a:pt x="13829" y="11313"/>
                  <a:pt x="13867" y="11373"/>
                  <a:pt x="13970" y="11430"/>
                </a:cubicBezTo>
                <a:cubicBezTo>
                  <a:pt x="14025" y="11461"/>
                  <a:pt x="14129" y="11486"/>
                  <a:pt x="14192" y="11462"/>
                </a:cubicBezTo>
                <a:cubicBezTo>
                  <a:pt x="14240" y="11443"/>
                  <a:pt x="14333" y="11287"/>
                  <a:pt x="14351" y="11240"/>
                </a:cubicBezTo>
                <a:cubicBezTo>
                  <a:pt x="14377" y="11173"/>
                  <a:pt x="14383" y="11085"/>
                  <a:pt x="14351" y="11017"/>
                </a:cubicBezTo>
                <a:cubicBezTo>
                  <a:pt x="14335" y="10982"/>
                  <a:pt x="14197" y="10945"/>
                  <a:pt x="14160" y="10954"/>
                </a:cubicBezTo>
                <a:cubicBezTo>
                  <a:pt x="14055" y="10979"/>
                  <a:pt x="14016" y="11004"/>
                  <a:pt x="13938" y="11081"/>
                </a:cubicBezTo>
                <a:cubicBezTo>
                  <a:pt x="13893" y="11125"/>
                  <a:pt x="13832" y="11210"/>
                  <a:pt x="13811" y="11271"/>
                </a:cubicBezTo>
                <a:cubicBezTo>
                  <a:pt x="13811" y="11282"/>
                  <a:pt x="13811" y="11292"/>
                  <a:pt x="13811" y="11303"/>
                </a:cubicBezTo>
              </a:path>
              <a:path w="5716" h="2859">
                <a:moveTo>
                  <a:pt x="8858" y="10636"/>
                </a:moveTo>
                <a:cubicBezTo>
                  <a:pt x="8879" y="10657"/>
                  <a:pt x="8921" y="10689"/>
                  <a:pt x="8954" y="10732"/>
                </a:cubicBezTo>
                <a:cubicBezTo>
                  <a:pt x="9001" y="10793"/>
                  <a:pt x="9026" y="10858"/>
                  <a:pt x="9049" y="10922"/>
                </a:cubicBezTo>
                <a:cubicBezTo>
                  <a:pt x="9089" y="11030"/>
                  <a:pt x="9091" y="11134"/>
                  <a:pt x="9144" y="11240"/>
                </a:cubicBezTo>
                <a:cubicBezTo>
                  <a:pt x="9172" y="11296"/>
                  <a:pt x="9212" y="11350"/>
                  <a:pt x="9239" y="11398"/>
                </a:cubicBezTo>
                <a:cubicBezTo>
                  <a:pt x="9263" y="11350"/>
                  <a:pt x="9299" y="11310"/>
                  <a:pt x="9303" y="11208"/>
                </a:cubicBezTo>
                <a:cubicBezTo>
                  <a:pt x="9309" y="11058"/>
                  <a:pt x="9355" y="10917"/>
                  <a:pt x="9334" y="10763"/>
                </a:cubicBezTo>
                <a:cubicBezTo>
                  <a:pt x="9310" y="10586"/>
                  <a:pt x="9300" y="10400"/>
                  <a:pt x="9271" y="10224"/>
                </a:cubicBezTo>
                <a:cubicBezTo>
                  <a:pt x="9244" y="10056"/>
                  <a:pt x="9208" y="9920"/>
                  <a:pt x="9208" y="9747"/>
                </a:cubicBezTo>
                <a:cubicBezTo>
                  <a:pt x="9208" y="9592"/>
                  <a:pt x="9179" y="9405"/>
                  <a:pt x="9239" y="9271"/>
                </a:cubicBezTo>
                <a:cubicBezTo>
                  <a:pt x="9263" y="9219"/>
                  <a:pt x="9310" y="9156"/>
                  <a:pt x="9366" y="9144"/>
                </a:cubicBezTo>
                <a:cubicBezTo>
                  <a:pt x="9715" y="9069"/>
                  <a:pt x="10514" y="9035"/>
                  <a:pt x="10827" y="9080"/>
                </a:cubicBezTo>
                <a:cubicBezTo>
                  <a:pt x="10950" y="9098"/>
                  <a:pt x="11063" y="9144"/>
                  <a:pt x="11208" y="9144"/>
                </a:cubicBezTo>
                <a:cubicBezTo>
                  <a:pt x="11310" y="9144"/>
                  <a:pt x="11401" y="9170"/>
                  <a:pt x="11494" y="9208"/>
                </a:cubicBezTo>
                <a:cubicBezTo>
                  <a:pt x="11504" y="9218"/>
                  <a:pt x="11515" y="9229"/>
                  <a:pt x="11525" y="9239"/>
                </a:cubicBezTo>
              </a:path>
              <a:path w="5716" h="2859">
                <a:moveTo>
                  <a:pt x="12160" y="11144"/>
                </a:moveTo>
                <a:cubicBezTo>
                  <a:pt x="12185" y="11206"/>
                  <a:pt x="12196" y="11266"/>
                  <a:pt x="12224" y="11335"/>
                </a:cubicBezTo>
                <a:cubicBezTo>
                  <a:pt x="12266" y="11437"/>
                  <a:pt x="12288" y="11522"/>
                  <a:pt x="12319" y="11620"/>
                </a:cubicBezTo>
                <a:cubicBezTo>
                  <a:pt x="12355" y="11734"/>
                  <a:pt x="12405" y="11817"/>
                  <a:pt x="12478" y="11906"/>
                </a:cubicBezTo>
                <a:cubicBezTo>
                  <a:pt x="12489" y="11917"/>
                  <a:pt x="12499" y="11927"/>
                  <a:pt x="12510" y="11938"/>
                </a:cubicBezTo>
                <a:cubicBezTo>
                  <a:pt x="12524" y="11886"/>
                  <a:pt x="12565" y="11803"/>
                  <a:pt x="12573" y="11716"/>
                </a:cubicBezTo>
                <a:cubicBezTo>
                  <a:pt x="12591" y="11527"/>
                  <a:pt x="12601" y="11333"/>
                  <a:pt x="12605" y="11144"/>
                </a:cubicBezTo>
                <a:cubicBezTo>
                  <a:pt x="12612" y="10803"/>
                  <a:pt x="12605" y="10464"/>
                  <a:pt x="12573" y="10128"/>
                </a:cubicBezTo>
                <a:cubicBezTo>
                  <a:pt x="12563" y="10023"/>
                  <a:pt x="12534" y="9847"/>
                  <a:pt x="12541" y="9747"/>
                </a:cubicBezTo>
                <a:cubicBezTo>
                  <a:pt x="12545" y="9692"/>
                  <a:pt x="12567" y="9626"/>
                  <a:pt x="12605" y="9588"/>
                </a:cubicBezTo>
                <a:cubicBezTo>
                  <a:pt x="12645" y="9548"/>
                  <a:pt x="12737" y="9559"/>
                  <a:pt x="12795" y="9557"/>
                </a:cubicBezTo>
                <a:cubicBezTo>
                  <a:pt x="12929" y="9552"/>
                  <a:pt x="13077" y="9590"/>
                  <a:pt x="13208" y="9620"/>
                </a:cubicBezTo>
                <a:cubicBezTo>
                  <a:pt x="13578" y="9705"/>
                  <a:pt x="13951" y="9794"/>
                  <a:pt x="14319" y="9874"/>
                </a:cubicBezTo>
                <a:cubicBezTo>
                  <a:pt x="14408" y="9893"/>
                  <a:pt x="14498" y="9943"/>
                  <a:pt x="14573" y="9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6"/>
          <p:cNvSpPr/>
          <p:nvPr/>
        </p:nvSpPr>
        <p:spPr>
          <a:xfrm>
            <a:off x="3840120" y="4457880"/>
            <a:ext cx="1509840" cy="709560"/>
          </a:xfrm>
          <a:custGeom>
            <a:avLst/>
            <a:gdLst/>
            <a:ahLst/>
            <a:rect l="l" t="t" r="r" b="b"/>
            <a:pathLst>
              <a:path w="4192" h="1970">
                <a:moveTo>
                  <a:pt x="10668" y="12700"/>
                </a:moveTo>
                <a:cubicBezTo>
                  <a:pt x="10668" y="12753"/>
                  <a:pt x="10668" y="12742"/>
                  <a:pt x="10668" y="12795"/>
                </a:cubicBezTo>
                <a:cubicBezTo>
                  <a:pt x="10668" y="12913"/>
                  <a:pt x="10700" y="13021"/>
                  <a:pt x="10700" y="13144"/>
                </a:cubicBezTo>
                <a:cubicBezTo>
                  <a:pt x="10700" y="13313"/>
                  <a:pt x="10706" y="13487"/>
                  <a:pt x="10732" y="13652"/>
                </a:cubicBezTo>
                <a:cubicBezTo>
                  <a:pt x="10753" y="13782"/>
                  <a:pt x="10802" y="13916"/>
                  <a:pt x="10858" y="14034"/>
                </a:cubicBezTo>
                <a:cubicBezTo>
                  <a:pt x="10886" y="14089"/>
                  <a:pt x="10891" y="14104"/>
                  <a:pt x="10922" y="14129"/>
                </a:cubicBezTo>
                <a:cubicBezTo>
                  <a:pt x="10922" y="14028"/>
                  <a:pt x="10950" y="13942"/>
                  <a:pt x="10954" y="13843"/>
                </a:cubicBezTo>
                <a:cubicBezTo>
                  <a:pt x="10959" y="13713"/>
                  <a:pt x="10986" y="13588"/>
                  <a:pt x="11017" y="13462"/>
                </a:cubicBezTo>
                <a:cubicBezTo>
                  <a:pt x="11047" y="13340"/>
                  <a:pt x="11057" y="13255"/>
                  <a:pt x="11112" y="13144"/>
                </a:cubicBezTo>
                <a:cubicBezTo>
                  <a:pt x="11112" y="13108"/>
                  <a:pt x="11115" y="13095"/>
                  <a:pt x="11144" y="13081"/>
                </a:cubicBezTo>
                <a:cubicBezTo>
                  <a:pt x="11217" y="13153"/>
                  <a:pt x="11198" y="13172"/>
                  <a:pt x="11240" y="13272"/>
                </a:cubicBezTo>
                <a:cubicBezTo>
                  <a:pt x="11291" y="13393"/>
                  <a:pt x="11305" y="13535"/>
                  <a:pt x="11366" y="13652"/>
                </a:cubicBezTo>
                <a:cubicBezTo>
                  <a:pt x="11436" y="13787"/>
                  <a:pt x="11488" y="13927"/>
                  <a:pt x="11557" y="14065"/>
                </a:cubicBezTo>
                <a:cubicBezTo>
                  <a:pt x="11576" y="14104"/>
                  <a:pt x="11583" y="14123"/>
                  <a:pt x="11620" y="14160"/>
                </a:cubicBezTo>
                <a:cubicBezTo>
                  <a:pt x="11628" y="14069"/>
                  <a:pt x="11648" y="13998"/>
                  <a:pt x="11652" y="13906"/>
                </a:cubicBezTo>
                <a:cubicBezTo>
                  <a:pt x="11658" y="13747"/>
                  <a:pt x="11681" y="13585"/>
                  <a:pt x="11716" y="13430"/>
                </a:cubicBezTo>
                <a:cubicBezTo>
                  <a:pt x="11751" y="13273"/>
                  <a:pt x="11746" y="13110"/>
                  <a:pt x="11779" y="12954"/>
                </a:cubicBezTo>
                <a:cubicBezTo>
                  <a:pt x="11787" y="12916"/>
                  <a:pt x="11797" y="12753"/>
                  <a:pt x="11843" y="12732"/>
                </a:cubicBezTo>
                <a:cubicBezTo>
                  <a:pt x="11874" y="12732"/>
                  <a:pt x="11885" y="12732"/>
                  <a:pt x="11906" y="12732"/>
                </a:cubicBezTo>
              </a:path>
              <a:path w="4192" h="1970">
                <a:moveTo>
                  <a:pt x="12287" y="12954"/>
                </a:moveTo>
                <a:cubicBezTo>
                  <a:pt x="12375" y="12954"/>
                  <a:pt x="12428" y="12957"/>
                  <a:pt x="12510" y="12986"/>
                </a:cubicBezTo>
                <a:cubicBezTo>
                  <a:pt x="12593" y="13014"/>
                  <a:pt x="12612" y="13025"/>
                  <a:pt x="12668" y="13018"/>
                </a:cubicBezTo>
              </a:path>
              <a:path w="4192" h="1970">
                <a:moveTo>
                  <a:pt x="12256" y="13652"/>
                </a:moveTo>
                <a:cubicBezTo>
                  <a:pt x="12374" y="13665"/>
                  <a:pt x="12488" y="13700"/>
                  <a:pt x="12605" y="13716"/>
                </a:cubicBezTo>
                <a:cubicBezTo>
                  <a:pt x="12680" y="13726"/>
                  <a:pt x="12751" y="13740"/>
                  <a:pt x="12827" y="13748"/>
                </a:cubicBezTo>
              </a:path>
              <a:path w="4192" h="1970">
                <a:moveTo>
                  <a:pt x="13335" y="12382"/>
                </a:moveTo>
                <a:cubicBezTo>
                  <a:pt x="13335" y="12476"/>
                  <a:pt x="13317" y="12550"/>
                  <a:pt x="13303" y="12636"/>
                </a:cubicBezTo>
                <a:cubicBezTo>
                  <a:pt x="13289" y="12719"/>
                  <a:pt x="13285" y="12810"/>
                  <a:pt x="13272" y="12890"/>
                </a:cubicBezTo>
                <a:cubicBezTo>
                  <a:pt x="13259" y="12970"/>
                  <a:pt x="13272" y="13062"/>
                  <a:pt x="13272" y="13144"/>
                </a:cubicBezTo>
              </a:path>
              <a:path w="4192" h="1970">
                <a:moveTo>
                  <a:pt x="12859" y="12732"/>
                </a:moveTo>
                <a:cubicBezTo>
                  <a:pt x="12872" y="12692"/>
                  <a:pt x="12928" y="12683"/>
                  <a:pt x="12986" y="12700"/>
                </a:cubicBezTo>
                <a:cubicBezTo>
                  <a:pt x="13087" y="12730"/>
                  <a:pt x="13196" y="12776"/>
                  <a:pt x="13303" y="12795"/>
                </a:cubicBezTo>
                <a:cubicBezTo>
                  <a:pt x="13380" y="12809"/>
                  <a:pt x="13445" y="12827"/>
                  <a:pt x="13526" y="12827"/>
                </a:cubicBezTo>
              </a:path>
              <a:path w="4192" h="1970">
                <a:moveTo>
                  <a:pt x="13049" y="13684"/>
                </a:moveTo>
                <a:cubicBezTo>
                  <a:pt x="13204" y="13684"/>
                  <a:pt x="13348" y="13691"/>
                  <a:pt x="13494" y="13716"/>
                </a:cubicBezTo>
                <a:cubicBezTo>
                  <a:pt x="13576" y="13730"/>
                  <a:pt x="13637" y="13760"/>
                  <a:pt x="13716" y="13780"/>
                </a:cubicBezTo>
                <a:cubicBezTo>
                  <a:pt x="13758" y="13780"/>
                  <a:pt x="13779" y="13780"/>
                  <a:pt x="13811" y="13780"/>
                </a:cubicBezTo>
              </a:path>
              <a:path w="4192" h="1970">
                <a:moveTo>
                  <a:pt x="14542" y="12700"/>
                </a:moveTo>
                <a:cubicBezTo>
                  <a:pt x="14532" y="12780"/>
                  <a:pt x="14512" y="12844"/>
                  <a:pt x="14478" y="12922"/>
                </a:cubicBezTo>
                <a:cubicBezTo>
                  <a:pt x="14419" y="13059"/>
                  <a:pt x="14337" y="13183"/>
                  <a:pt x="14319" y="13335"/>
                </a:cubicBezTo>
                <a:cubicBezTo>
                  <a:pt x="14299" y="13505"/>
                  <a:pt x="14288" y="13671"/>
                  <a:pt x="14288" y="13843"/>
                </a:cubicBezTo>
                <a:cubicBezTo>
                  <a:pt x="14288" y="13969"/>
                  <a:pt x="14285" y="14106"/>
                  <a:pt x="14319" y="14224"/>
                </a:cubicBezTo>
                <a:cubicBezTo>
                  <a:pt x="14340" y="14296"/>
                  <a:pt x="14415" y="14337"/>
                  <a:pt x="14478" y="14351"/>
                </a:cubicBezTo>
                <a:cubicBezTo>
                  <a:pt x="14540" y="14365"/>
                  <a:pt x="14690" y="14302"/>
                  <a:pt x="14732" y="14256"/>
                </a:cubicBezTo>
                <a:cubicBezTo>
                  <a:pt x="14774" y="14211"/>
                  <a:pt x="14846" y="14094"/>
                  <a:pt x="14859" y="14034"/>
                </a:cubicBezTo>
                <a:cubicBezTo>
                  <a:pt x="14870" y="13983"/>
                  <a:pt x="14836" y="13841"/>
                  <a:pt x="14796" y="13811"/>
                </a:cubicBezTo>
                <a:cubicBezTo>
                  <a:pt x="14751" y="13777"/>
                  <a:pt x="14663" y="13713"/>
                  <a:pt x="14605" y="13716"/>
                </a:cubicBezTo>
                <a:cubicBezTo>
                  <a:pt x="14534" y="13720"/>
                  <a:pt x="14422" y="13821"/>
                  <a:pt x="14383" y="13875"/>
                </a:cubicBezTo>
                <a:cubicBezTo>
                  <a:pt x="14336" y="13941"/>
                  <a:pt x="14245" y="14054"/>
                  <a:pt x="14224" y="14129"/>
                </a:cubicBezTo>
                <a:cubicBezTo>
                  <a:pt x="14224" y="14195"/>
                  <a:pt x="14223" y="14218"/>
                  <a:pt x="14192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7"/>
          <p:cNvSpPr/>
          <p:nvPr/>
        </p:nvSpPr>
        <p:spPr>
          <a:xfrm>
            <a:off x="5246640" y="2903400"/>
            <a:ext cx="650880" cy="365400"/>
          </a:xfrm>
          <a:custGeom>
            <a:avLst/>
            <a:gdLst/>
            <a:ahLst/>
            <a:rect l="l" t="t" r="r" b="b"/>
            <a:pathLst>
              <a:path w="1811" h="1017">
                <a:moveTo>
                  <a:pt x="14764" y="8160"/>
                </a:moveTo>
                <a:cubicBezTo>
                  <a:pt x="14764" y="8325"/>
                  <a:pt x="14758" y="8480"/>
                  <a:pt x="14732" y="8636"/>
                </a:cubicBezTo>
                <a:cubicBezTo>
                  <a:pt x="14720" y="8711"/>
                  <a:pt x="14759" y="8712"/>
                  <a:pt x="14700" y="8731"/>
                </a:cubicBezTo>
              </a:path>
              <a:path w="1811" h="1017">
                <a:moveTo>
                  <a:pt x="14573" y="8382"/>
                </a:moveTo>
                <a:cubicBezTo>
                  <a:pt x="14590" y="8434"/>
                  <a:pt x="14635" y="8414"/>
                  <a:pt x="14700" y="8414"/>
                </a:cubicBezTo>
                <a:cubicBezTo>
                  <a:pt x="14796" y="8414"/>
                  <a:pt x="14866" y="8397"/>
                  <a:pt x="14954" y="8382"/>
                </a:cubicBezTo>
                <a:cubicBezTo>
                  <a:pt x="14975" y="8382"/>
                  <a:pt x="14997" y="8382"/>
                  <a:pt x="15018" y="8382"/>
                </a:cubicBezTo>
              </a:path>
              <a:path w="1811" h="1017">
                <a:moveTo>
                  <a:pt x="15145" y="8192"/>
                </a:moveTo>
                <a:cubicBezTo>
                  <a:pt x="15160" y="8132"/>
                  <a:pt x="15215" y="8108"/>
                  <a:pt x="15272" y="8096"/>
                </a:cubicBezTo>
                <a:cubicBezTo>
                  <a:pt x="15376" y="8075"/>
                  <a:pt x="15397" y="8072"/>
                  <a:pt x="15494" y="8096"/>
                </a:cubicBezTo>
                <a:cubicBezTo>
                  <a:pt x="15592" y="8120"/>
                  <a:pt x="15572" y="8207"/>
                  <a:pt x="15526" y="8287"/>
                </a:cubicBezTo>
                <a:cubicBezTo>
                  <a:pt x="15484" y="8360"/>
                  <a:pt x="15428" y="8392"/>
                  <a:pt x="15367" y="8446"/>
                </a:cubicBezTo>
                <a:cubicBezTo>
                  <a:pt x="15329" y="8480"/>
                  <a:pt x="15312" y="8479"/>
                  <a:pt x="15272" y="8509"/>
                </a:cubicBezTo>
                <a:cubicBezTo>
                  <a:pt x="15287" y="8463"/>
                  <a:pt x="15317" y="8468"/>
                  <a:pt x="15367" y="8446"/>
                </a:cubicBezTo>
                <a:cubicBezTo>
                  <a:pt x="15459" y="8406"/>
                  <a:pt x="15500" y="8416"/>
                  <a:pt x="15589" y="8477"/>
                </a:cubicBezTo>
                <a:cubicBezTo>
                  <a:pt x="15643" y="8514"/>
                  <a:pt x="15680" y="8572"/>
                  <a:pt x="15684" y="8636"/>
                </a:cubicBezTo>
                <a:cubicBezTo>
                  <a:pt x="15690" y="8728"/>
                  <a:pt x="15648" y="8766"/>
                  <a:pt x="15589" y="8826"/>
                </a:cubicBezTo>
                <a:cubicBezTo>
                  <a:pt x="15532" y="8884"/>
                  <a:pt x="15475" y="8916"/>
                  <a:pt x="15399" y="8922"/>
                </a:cubicBezTo>
                <a:cubicBezTo>
                  <a:pt x="15352" y="8926"/>
                  <a:pt x="15266" y="8942"/>
                  <a:pt x="15240" y="8890"/>
                </a:cubicBezTo>
                <a:cubicBezTo>
                  <a:pt x="15240" y="8848"/>
                  <a:pt x="15240" y="8827"/>
                  <a:pt x="15240" y="8795"/>
                </a:cubicBezTo>
              </a:path>
              <a:path w="1811" h="1017">
                <a:moveTo>
                  <a:pt x="15970" y="8255"/>
                </a:moveTo>
                <a:cubicBezTo>
                  <a:pt x="16002" y="8255"/>
                  <a:pt x="16013" y="8255"/>
                  <a:pt x="16034" y="8255"/>
                </a:cubicBezTo>
                <a:cubicBezTo>
                  <a:pt x="16019" y="8330"/>
                  <a:pt x="16002" y="8406"/>
                  <a:pt x="15970" y="8477"/>
                </a:cubicBezTo>
                <a:cubicBezTo>
                  <a:pt x="15922" y="8583"/>
                  <a:pt x="15891" y="8679"/>
                  <a:pt x="15875" y="8795"/>
                </a:cubicBezTo>
                <a:cubicBezTo>
                  <a:pt x="15866" y="8861"/>
                  <a:pt x="15903" y="8992"/>
                  <a:pt x="15938" y="9049"/>
                </a:cubicBezTo>
                <a:cubicBezTo>
                  <a:pt x="15975" y="9109"/>
                  <a:pt x="16101" y="9080"/>
                  <a:pt x="16161" y="9080"/>
                </a:cubicBezTo>
                <a:cubicBezTo>
                  <a:pt x="16244" y="9080"/>
                  <a:pt x="16318" y="9035"/>
                  <a:pt x="16351" y="8954"/>
                </a:cubicBezTo>
                <a:cubicBezTo>
                  <a:pt x="16385" y="8872"/>
                  <a:pt x="16373" y="8861"/>
                  <a:pt x="16351" y="8795"/>
                </a:cubicBezTo>
                <a:cubicBezTo>
                  <a:pt x="16330" y="8734"/>
                  <a:pt x="16245" y="8760"/>
                  <a:pt x="16192" y="8795"/>
                </a:cubicBezTo>
                <a:cubicBezTo>
                  <a:pt x="16091" y="8862"/>
                  <a:pt x="16110" y="8891"/>
                  <a:pt x="16066" y="8985"/>
                </a:cubicBezTo>
                <a:cubicBezTo>
                  <a:pt x="16046" y="9029"/>
                  <a:pt x="16014" y="9032"/>
                  <a:pt x="16002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4x - 21 = 0 by facto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3"/>
          <p:cNvSpPr/>
          <p:nvPr/>
        </p:nvSpPr>
        <p:spPr>
          <a:xfrm>
            <a:off x="1371600" y="3932280"/>
            <a:ext cx="1509840" cy="593640"/>
          </a:xfrm>
          <a:custGeom>
            <a:avLst/>
            <a:gdLst/>
            <a:ahLst/>
            <a:rect l="l" t="t" r="r" b="b"/>
            <a:pathLst>
              <a:path w="4192" h="1652">
                <a:moveTo>
                  <a:pt x="3874" y="10922"/>
                </a:moveTo>
                <a:cubicBezTo>
                  <a:pt x="3874" y="11001"/>
                  <a:pt x="3893" y="11040"/>
                  <a:pt x="3905" y="11112"/>
                </a:cubicBezTo>
                <a:cubicBezTo>
                  <a:pt x="3925" y="11226"/>
                  <a:pt x="3923" y="11316"/>
                  <a:pt x="3969" y="11430"/>
                </a:cubicBezTo>
                <a:cubicBezTo>
                  <a:pt x="4018" y="11550"/>
                  <a:pt x="4077" y="11663"/>
                  <a:pt x="4128" y="11779"/>
                </a:cubicBezTo>
                <a:cubicBezTo>
                  <a:pt x="4183" y="11904"/>
                  <a:pt x="4250" y="12009"/>
                  <a:pt x="4318" y="12128"/>
                </a:cubicBezTo>
                <a:cubicBezTo>
                  <a:pt x="4356" y="12194"/>
                  <a:pt x="4423" y="12254"/>
                  <a:pt x="4445" y="12319"/>
                </a:cubicBezTo>
                <a:cubicBezTo>
                  <a:pt x="4445" y="12330"/>
                  <a:pt x="4445" y="12340"/>
                  <a:pt x="4445" y="12351"/>
                </a:cubicBezTo>
              </a:path>
              <a:path w="4192" h="1652">
                <a:moveTo>
                  <a:pt x="4508" y="11017"/>
                </a:moveTo>
                <a:cubicBezTo>
                  <a:pt x="4508" y="11099"/>
                  <a:pt x="4472" y="11162"/>
                  <a:pt x="4445" y="11240"/>
                </a:cubicBezTo>
                <a:cubicBezTo>
                  <a:pt x="4387" y="11408"/>
                  <a:pt x="4279" y="11591"/>
                  <a:pt x="4191" y="11748"/>
                </a:cubicBezTo>
                <a:cubicBezTo>
                  <a:pt x="4116" y="11881"/>
                  <a:pt x="4022" y="11984"/>
                  <a:pt x="3969" y="12128"/>
                </a:cubicBezTo>
                <a:cubicBezTo>
                  <a:pt x="3936" y="12216"/>
                  <a:pt x="3868" y="12274"/>
                  <a:pt x="3842" y="12351"/>
                </a:cubicBezTo>
                <a:cubicBezTo>
                  <a:pt x="3842" y="12382"/>
                  <a:pt x="3842" y="12393"/>
                  <a:pt x="3810" y="12382"/>
                </a:cubicBezTo>
              </a:path>
              <a:path w="4192" h="1652">
                <a:moveTo>
                  <a:pt x="5207" y="11335"/>
                </a:moveTo>
                <a:cubicBezTo>
                  <a:pt x="5207" y="11421"/>
                  <a:pt x="5188" y="11479"/>
                  <a:pt x="5175" y="11557"/>
                </a:cubicBezTo>
                <a:cubicBezTo>
                  <a:pt x="5156" y="11671"/>
                  <a:pt x="5169" y="11793"/>
                  <a:pt x="5144" y="11906"/>
                </a:cubicBezTo>
                <a:cubicBezTo>
                  <a:pt x="5119" y="12019"/>
                  <a:pt x="5092" y="12153"/>
                  <a:pt x="5048" y="12256"/>
                </a:cubicBezTo>
                <a:cubicBezTo>
                  <a:pt x="5029" y="12301"/>
                  <a:pt x="5015" y="12441"/>
                  <a:pt x="4985" y="12351"/>
                </a:cubicBezTo>
              </a:path>
              <a:path w="4192" h="1652">
                <a:moveTo>
                  <a:pt x="4794" y="11874"/>
                </a:moveTo>
                <a:cubicBezTo>
                  <a:pt x="4844" y="11886"/>
                  <a:pt x="4864" y="11906"/>
                  <a:pt x="4921" y="11906"/>
                </a:cubicBezTo>
                <a:cubicBezTo>
                  <a:pt x="5069" y="11906"/>
                  <a:pt x="5218" y="11906"/>
                  <a:pt x="5366" y="11906"/>
                </a:cubicBezTo>
              </a:path>
              <a:path w="4192" h="1652">
                <a:moveTo>
                  <a:pt x="5652" y="11303"/>
                </a:moveTo>
                <a:cubicBezTo>
                  <a:pt x="5641" y="11292"/>
                  <a:pt x="5631" y="11282"/>
                  <a:pt x="5620" y="11271"/>
                </a:cubicBezTo>
                <a:cubicBezTo>
                  <a:pt x="5668" y="11255"/>
                  <a:pt x="5647" y="11240"/>
                  <a:pt x="5715" y="11240"/>
                </a:cubicBezTo>
                <a:cubicBezTo>
                  <a:pt x="5800" y="11240"/>
                  <a:pt x="5859" y="11221"/>
                  <a:pt x="5937" y="11208"/>
                </a:cubicBezTo>
                <a:cubicBezTo>
                  <a:pt x="6054" y="11188"/>
                  <a:pt x="6189" y="11207"/>
                  <a:pt x="6286" y="11240"/>
                </a:cubicBezTo>
                <a:cubicBezTo>
                  <a:pt x="6318" y="11240"/>
                  <a:pt x="6329" y="11240"/>
                  <a:pt x="6350" y="11240"/>
                </a:cubicBezTo>
                <a:cubicBezTo>
                  <a:pt x="6350" y="11286"/>
                  <a:pt x="6341" y="11332"/>
                  <a:pt x="6318" y="11366"/>
                </a:cubicBezTo>
                <a:cubicBezTo>
                  <a:pt x="6266" y="11443"/>
                  <a:pt x="6261" y="11505"/>
                  <a:pt x="6223" y="11589"/>
                </a:cubicBezTo>
                <a:cubicBezTo>
                  <a:pt x="6180" y="11684"/>
                  <a:pt x="6112" y="11802"/>
                  <a:pt x="6096" y="11906"/>
                </a:cubicBezTo>
                <a:cubicBezTo>
                  <a:pt x="6076" y="12032"/>
                  <a:pt x="6053" y="12136"/>
                  <a:pt x="6001" y="12256"/>
                </a:cubicBezTo>
                <a:cubicBezTo>
                  <a:pt x="5970" y="12328"/>
                  <a:pt x="5952" y="12402"/>
                  <a:pt x="5937" y="12478"/>
                </a:cubicBezTo>
              </a:path>
              <a:path w="4192" h="1652">
                <a:moveTo>
                  <a:pt x="6572" y="11748"/>
                </a:moveTo>
                <a:cubicBezTo>
                  <a:pt x="6720" y="11748"/>
                  <a:pt x="6869" y="11748"/>
                  <a:pt x="7017" y="11748"/>
                </a:cubicBezTo>
              </a:path>
              <a:path w="4192" h="1652">
                <a:moveTo>
                  <a:pt x="6540" y="12256"/>
                </a:moveTo>
                <a:cubicBezTo>
                  <a:pt x="6607" y="12256"/>
                  <a:pt x="6631" y="12281"/>
                  <a:pt x="6699" y="12287"/>
                </a:cubicBezTo>
                <a:cubicBezTo>
                  <a:pt x="6792" y="12295"/>
                  <a:pt x="6844" y="12293"/>
                  <a:pt x="6922" y="12319"/>
                </a:cubicBezTo>
                <a:cubicBezTo>
                  <a:pt x="6932" y="12319"/>
                  <a:pt x="6943" y="12319"/>
                  <a:pt x="6953" y="12319"/>
                </a:cubicBezTo>
              </a:path>
              <a:path w="4192" h="1652">
                <a:moveTo>
                  <a:pt x="7810" y="11589"/>
                </a:moveTo>
                <a:cubicBezTo>
                  <a:pt x="7781" y="11548"/>
                  <a:pt x="7777" y="11534"/>
                  <a:pt x="7747" y="11494"/>
                </a:cubicBezTo>
                <a:cubicBezTo>
                  <a:pt x="7697" y="11506"/>
                  <a:pt x="7622" y="11541"/>
                  <a:pt x="7588" y="11589"/>
                </a:cubicBezTo>
                <a:cubicBezTo>
                  <a:pt x="7520" y="11683"/>
                  <a:pt x="7477" y="11803"/>
                  <a:pt x="7430" y="11906"/>
                </a:cubicBezTo>
                <a:cubicBezTo>
                  <a:pt x="7383" y="12010"/>
                  <a:pt x="7371" y="12141"/>
                  <a:pt x="7366" y="12256"/>
                </a:cubicBezTo>
                <a:cubicBezTo>
                  <a:pt x="7362" y="12339"/>
                  <a:pt x="7414" y="12442"/>
                  <a:pt x="7461" y="12510"/>
                </a:cubicBezTo>
                <a:cubicBezTo>
                  <a:pt x="7514" y="12587"/>
                  <a:pt x="7604" y="12573"/>
                  <a:pt x="7684" y="12573"/>
                </a:cubicBezTo>
                <a:cubicBezTo>
                  <a:pt x="7807" y="12573"/>
                  <a:pt x="7859" y="12476"/>
                  <a:pt x="7906" y="12382"/>
                </a:cubicBezTo>
                <a:cubicBezTo>
                  <a:pt x="7962" y="12270"/>
                  <a:pt x="8019" y="12130"/>
                  <a:pt x="8001" y="12002"/>
                </a:cubicBezTo>
                <a:cubicBezTo>
                  <a:pt x="7985" y="11891"/>
                  <a:pt x="7980" y="11746"/>
                  <a:pt x="7906" y="11652"/>
                </a:cubicBezTo>
                <a:cubicBezTo>
                  <a:pt x="7876" y="11614"/>
                  <a:pt x="7783" y="11508"/>
                  <a:pt x="7715" y="11557"/>
                </a:cubicBezTo>
                <a:cubicBezTo>
                  <a:pt x="7712" y="11559"/>
                  <a:pt x="7655" y="11679"/>
                  <a:pt x="7652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4"/>
          <p:cNvSpPr/>
          <p:nvPr/>
        </p:nvSpPr>
        <p:spPr>
          <a:xfrm>
            <a:off x="4835520" y="4149720"/>
            <a:ext cx="1461960" cy="525600"/>
          </a:xfrm>
          <a:custGeom>
            <a:avLst/>
            <a:gdLst/>
            <a:ahLst/>
            <a:rect l="l" t="t" r="r" b="b"/>
            <a:pathLst>
              <a:path w="4065" h="1462">
                <a:moveTo>
                  <a:pt x="13430" y="11525"/>
                </a:moveTo>
                <a:lnTo>
                  <a:pt x="13430" y="11525"/>
                </a:lnTo>
              </a:path>
              <a:path w="4065" h="1462">
                <a:moveTo>
                  <a:pt x="13430" y="11525"/>
                </a:moveTo>
                <a:lnTo>
                  <a:pt x="13430" y="11525"/>
                </a:lnTo>
              </a:path>
              <a:path w="4065" h="1462">
                <a:moveTo>
                  <a:pt x="13462" y="11557"/>
                </a:moveTo>
                <a:cubicBezTo>
                  <a:pt x="13474" y="11656"/>
                  <a:pt x="13521" y="11718"/>
                  <a:pt x="13557" y="11811"/>
                </a:cubicBezTo>
                <a:cubicBezTo>
                  <a:pt x="13608" y="11940"/>
                  <a:pt x="13649" y="12072"/>
                  <a:pt x="13716" y="12192"/>
                </a:cubicBezTo>
                <a:cubicBezTo>
                  <a:pt x="13784" y="12314"/>
                  <a:pt x="13851" y="12464"/>
                  <a:pt x="13938" y="12573"/>
                </a:cubicBezTo>
                <a:cubicBezTo>
                  <a:pt x="13985" y="12631"/>
                  <a:pt x="14029" y="12715"/>
                  <a:pt x="14097" y="12732"/>
                </a:cubicBezTo>
              </a:path>
              <a:path w="4065" h="1462">
                <a:moveTo>
                  <a:pt x="14097" y="11716"/>
                </a:moveTo>
                <a:cubicBezTo>
                  <a:pt x="14045" y="11785"/>
                  <a:pt x="14016" y="11859"/>
                  <a:pt x="13970" y="11938"/>
                </a:cubicBezTo>
                <a:cubicBezTo>
                  <a:pt x="13905" y="12049"/>
                  <a:pt x="13817" y="12146"/>
                  <a:pt x="13748" y="12256"/>
                </a:cubicBezTo>
                <a:cubicBezTo>
                  <a:pt x="13684" y="12358"/>
                  <a:pt x="13611" y="12432"/>
                  <a:pt x="13557" y="12541"/>
                </a:cubicBezTo>
                <a:cubicBezTo>
                  <a:pt x="13527" y="12602"/>
                  <a:pt x="13477" y="12641"/>
                  <a:pt x="13462" y="12700"/>
                </a:cubicBezTo>
              </a:path>
              <a:path w="4065" h="1462">
                <a:moveTo>
                  <a:pt x="14351" y="12033"/>
                </a:moveTo>
                <a:cubicBezTo>
                  <a:pt x="14411" y="12033"/>
                  <a:pt x="14452" y="12008"/>
                  <a:pt x="14510" y="12002"/>
                </a:cubicBezTo>
                <a:cubicBezTo>
                  <a:pt x="14588" y="11994"/>
                  <a:pt x="14626" y="11989"/>
                  <a:pt x="14700" y="11970"/>
                </a:cubicBezTo>
                <a:cubicBezTo>
                  <a:pt x="14739" y="11960"/>
                  <a:pt x="14787" y="11970"/>
                  <a:pt x="14827" y="11970"/>
                </a:cubicBezTo>
              </a:path>
              <a:path w="4065" h="1462">
                <a:moveTo>
                  <a:pt x="15145" y="11652"/>
                </a:moveTo>
                <a:cubicBezTo>
                  <a:pt x="15176" y="11609"/>
                  <a:pt x="15186" y="11575"/>
                  <a:pt x="15240" y="11557"/>
                </a:cubicBezTo>
                <a:cubicBezTo>
                  <a:pt x="15295" y="11539"/>
                  <a:pt x="15374" y="11528"/>
                  <a:pt x="15430" y="11525"/>
                </a:cubicBezTo>
                <a:cubicBezTo>
                  <a:pt x="15521" y="11520"/>
                  <a:pt x="15561" y="11561"/>
                  <a:pt x="15621" y="11620"/>
                </a:cubicBezTo>
                <a:cubicBezTo>
                  <a:pt x="15684" y="11683"/>
                  <a:pt x="15653" y="11771"/>
                  <a:pt x="15621" y="11843"/>
                </a:cubicBezTo>
                <a:cubicBezTo>
                  <a:pt x="15581" y="11931"/>
                  <a:pt x="15541" y="12037"/>
                  <a:pt x="15462" y="12097"/>
                </a:cubicBezTo>
                <a:cubicBezTo>
                  <a:pt x="15410" y="12136"/>
                  <a:pt x="15336" y="12186"/>
                  <a:pt x="15272" y="12192"/>
                </a:cubicBezTo>
                <a:cubicBezTo>
                  <a:pt x="15261" y="12192"/>
                  <a:pt x="15251" y="12192"/>
                  <a:pt x="15240" y="12192"/>
                </a:cubicBezTo>
                <a:cubicBezTo>
                  <a:pt x="15254" y="12149"/>
                  <a:pt x="15342" y="12138"/>
                  <a:pt x="15399" y="12160"/>
                </a:cubicBezTo>
                <a:cubicBezTo>
                  <a:pt x="15461" y="12184"/>
                  <a:pt x="15505" y="12203"/>
                  <a:pt x="15558" y="12256"/>
                </a:cubicBezTo>
                <a:cubicBezTo>
                  <a:pt x="15625" y="12323"/>
                  <a:pt x="15693" y="12440"/>
                  <a:pt x="15684" y="12541"/>
                </a:cubicBezTo>
                <a:cubicBezTo>
                  <a:pt x="15675" y="12634"/>
                  <a:pt x="15614" y="12722"/>
                  <a:pt x="15558" y="12795"/>
                </a:cubicBezTo>
                <a:cubicBezTo>
                  <a:pt x="15535" y="12826"/>
                  <a:pt x="15406" y="12869"/>
                  <a:pt x="15367" y="12859"/>
                </a:cubicBezTo>
                <a:cubicBezTo>
                  <a:pt x="15287" y="12837"/>
                  <a:pt x="15213" y="12815"/>
                  <a:pt x="15145" y="12764"/>
                </a:cubicBezTo>
                <a:cubicBezTo>
                  <a:pt x="15098" y="12729"/>
                  <a:pt x="15095" y="12743"/>
                  <a:pt x="15081" y="12700"/>
                </a:cubicBezTo>
              </a:path>
              <a:path w="4065" h="1462">
                <a:moveTo>
                  <a:pt x="16002" y="12160"/>
                </a:moveTo>
                <a:cubicBezTo>
                  <a:pt x="16020" y="12107"/>
                  <a:pt x="16063" y="12128"/>
                  <a:pt x="16129" y="12128"/>
                </a:cubicBezTo>
                <a:cubicBezTo>
                  <a:pt x="16224" y="12128"/>
                  <a:pt x="16320" y="12128"/>
                  <a:pt x="16415" y="12128"/>
                </a:cubicBezTo>
              </a:path>
              <a:path w="4065" h="1462">
                <a:moveTo>
                  <a:pt x="15938" y="12446"/>
                </a:moveTo>
                <a:cubicBezTo>
                  <a:pt x="15938" y="12457"/>
                  <a:pt x="15938" y="12467"/>
                  <a:pt x="15938" y="12478"/>
                </a:cubicBezTo>
                <a:cubicBezTo>
                  <a:pt x="16055" y="12478"/>
                  <a:pt x="16171" y="12478"/>
                  <a:pt x="16288" y="12478"/>
                </a:cubicBezTo>
              </a:path>
              <a:path w="4065" h="1462">
                <a:moveTo>
                  <a:pt x="17240" y="12128"/>
                </a:moveTo>
                <a:cubicBezTo>
                  <a:pt x="17240" y="12071"/>
                  <a:pt x="17221" y="12051"/>
                  <a:pt x="17208" y="12002"/>
                </a:cubicBezTo>
                <a:cubicBezTo>
                  <a:pt x="17140" y="12015"/>
                  <a:pt x="17012" y="12059"/>
                  <a:pt x="16954" y="12097"/>
                </a:cubicBezTo>
                <a:cubicBezTo>
                  <a:pt x="16879" y="12147"/>
                  <a:pt x="16755" y="12303"/>
                  <a:pt x="16732" y="12382"/>
                </a:cubicBezTo>
                <a:cubicBezTo>
                  <a:pt x="16693" y="12516"/>
                  <a:pt x="16717" y="12607"/>
                  <a:pt x="16764" y="12732"/>
                </a:cubicBezTo>
                <a:cubicBezTo>
                  <a:pt x="16811" y="12857"/>
                  <a:pt x="16892" y="12905"/>
                  <a:pt x="17018" y="12954"/>
                </a:cubicBezTo>
                <a:cubicBezTo>
                  <a:pt x="17137" y="13000"/>
                  <a:pt x="17242" y="12964"/>
                  <a:pt x="17336" y="12890"/>
                </a:cubicBezTo>
                <a:cubicBezTo>
                  <a:pt x="17421" y="12823"/>
                  <a:pt x="17478" y="12678"/>
                  <a:pt x="17494" y="12573"/>
                </a:cubicBezTo>
                <a:cubicBezTo>
                  <a:pt x="17516" y="12421"/>
                  <a:pt x="17493" y="12282"/>
                  <a:pt x="17399" y="12160"/>
                </a:cubicBezTo>
                <a:cubicBezTo>
                  <a:pt x="17348" y="12093"/>
                  <a:pt x="17244" y="11972"/>
                  <a:pt x="17145" y="12002"/>
                </a:cubicBezTo>
                <a:cubicBezTo>
                  <a:pt x="17134" y="12012"/>
                  <a:pt x="17124" y="12023"/>
                  <a:pt x="17113" y="12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5"/>
          <p:cNvSpPr/>
          <p:nvPr/>
        </p:nvSpPr>
        <p:spPr>
          <a:xfrm>
            <a:off x="3600360" y="674640"/>
            <a:ext cx="2971800" cy="3532320"/>
          </a:xfrm>
          <a:custGeom>
            <a:avLst/>
            <a:gdLst/>
            <a:ahLst/>
            <a:rect l="l" t="t" r="r" b="b"/>
            <a:pathLst>
              <a:path w="8256" h="9812">
                <a:moveTo>
                  <a:pt x="10890" y="6255"/>
                </a:moveTo>
                <a:cubicBezTo>
                  <a:pt x="10915" y="6296"/>
                  <a:pt x="10929" y="6342"/>
                  <a:pt x="10954" y="6414"/>
                </a:cubicBezTo>
                <a:cubicBezTo>
                  <a:pt x="11002" y="6550"/>
                  <a:pt x="11058" y="6691"/>
                  <a:pt x="11112" y="6826"/>
                </a:cubicBezTo>
                <a:cubicBezTo>
                  <a:pt x="11192" y="7025"/>
                  <a:pt x="11238" y="7192"/>
                  <a:pt x="11271" y="7398"/>
                </a:cubicBezTo>
                <a:cubicBezTo>
                  <a:pt x="11304" y="7602"/>
                  <a:pt x="11310" y="7767"/>
                  <a:pt x="11271" y="7969"/>
                </a:cubicBezTo>
                <a:cubicBezTo>
                  <a:pt x="11229" y="8188"/>
                  <a:pt x="11147" y="8278"/>
                  <a:pt x="11017" y="8446"/>
                </a:cubicBezTo>
                <a:cubicBezTo>
                  <a:pt x="10928" y="8562"/>
                  <a:pt x="10845" y="8644"/>
                  <a:pt x="10732" y="8731"/>
                </a:cubicBezTo>
                <a:cubicBezTo>
                  <a:pt x="10721" y="8742"/>
                  <a:pt x="10711" y="8752"/>
                  <a:pt x="10700" y="8763"/>
                </a:cubicBezTo>
              </a:path>
              <a:path w="8256" h="9812">
                <a:moveTo>
                  <a:pt x="12541" y="6223"/>
                </a:moveTo>
                <a:cubicBezTo>
                  <a:pt x="12485" y="6307"/>
                  <a:pt x="12414" y="6365"/>
                  <a:pt x="12351" y="6445"/>
                </a:cubicBezTo>
                <a:cubicBezTo>
                  <a:pt x="12236" y="6591"/>
                  <a:pt x="12100" y="6730"/>
                  <a:pt x="12002" y="6890"/>
                </a:cubicBezTo>
                <a:cubicBezTo>
                  <a:pt x="11874" y="7099"/>
                  <a:pt x="11798" y="7286"/>
                  <a:pt x="11748" y="7525"/>
                </a:cubicBezTo>
                <a:cubicBezTo>
                  <a:pt x="11705" y="7730"/>
                  <a:pt x="11689" y="7956"/>
                  <a:pt x="11748" y="8160"/>
                </a:cubicBezTo>
                <a:cubicBezTo>
                  <a:pt x="11804" y="8354"/>
                  <a:pt x="11929" y="8526"/>
                  <a:pt x="12097" y="8636"/>
                </a:cubicBezTo>
                <a:cubicBezTo>
                  <a:pt x="12139" y="8657"/>
                  <a:pt x="12182" y="8679"/>
                  <a:pt x="12224" y="8700"/>
                </a:cubicBezTo>
              </a:path>
              <a:path w="8256" h="9812">
                <a:moveTo>
                  <a:pt x="17685" y="5906"/>
                </a:moveTo>
                <a:cubicBezTo>
                  <a:pt x="17740" y="5969"/>
                  <a:pt x="17768" y="6024"/>
                  <a:pt x="17812" y="6096"/>
                </a:cubicBezTo>
                <a:cubicBezTo>
                  <a:pt x="17906" y="6251"/>
                  <a:pt x="17964" y="6434"/>
                  <a:pt x="18034" y="6604"/>
                </a:cubicBezTo>
                <a:cubicBezTo>
                  <a:pt x="18126" y="6828"/>
                  <a:pt x="18182" y="7033"/>
                  <a:pt x="18224" y="7271"/>
                </a:cubicBezTo>
                <a:cubicBezTo>
                  <a:pt x="18267" y="7517"/>
                  <a:pt x="18269" y="7755"/>
                  <a:pt x="18224" y="8001"/>
                </a:cubicBezTo>
                <a:cubicBezTo>
                  <a:pt x="18190" y="8188"/>
                  <a:pt x="18103" y="8351"/>
                  <a:pt x="18002" y="8509"/>
                </a:cubicBezTo>
                <a:cubicBezTo>
                  <a:pt x="17915" y="8645"/>
                  <a:pt x="17807" y="8758"/>
                  <a:pt x="17685" y="8858"/>
                </a:cubicBezTo>
              </a:path>
              <a:path w="8256" h="9812">
                <a:moveTo>
                  <a:pt x="13462" y="3429"/>
                </a:moveTo>
                <a:cubicBezTo>
                  <a:pt x="13524" y="3491"/>
                  <a:pt x="13575" y="3545"/>
                  <a:pt x="13652" y="3588"/>
                </a:cubicBezTo>
                <a:cubicBezTo>
                  <a:pt x="13740" y="3637"/>
                  <a:pt x="13839" y="3620"/>
                  <a:pt x="13938" y="3620"/>
                </a:cubicBezTo>
                <a:cubicBezTo>
                  <a:pt x="14037" y="3620"/>
                  <a:pt x="14203" y="3578"/>
                  <a:pt x="14288" y="3524"/>
                </a:cubicBezTo>
                <a:cubicBezTo>
                  <a:pt x="14410" y="3447"/>
                  <a:pt x="14510" y="3341"/>
                  <a:pt x="14605" y="3238"/>
                </a:cubicBezTo>
                <a:cubicBezTo>
                  <a:pt x="14713" y="3121"/>
                  <a:pt x="14810" y="3013"/>
                  <a:pt x="14859" y="2858"/>
                </a:cubicBezTo>
                <a:cubicBezTo>
                  <a:pt x="14908" y="2701"/>
                  <a:pt x="14922" y="2576"/>
                  <a:pt x="14922" y="2413"/>
                </a:cubicBezTo>
                <a:cubicBezTo>
                  <a:pt x="14922" y="2314"/>
                  <a:pt x="14875" y="2127"/>
                  <a:pt x="14796" y="2064"/>
                </a:cubicBezTo>
                <a:cubicBezTo>
                  <a:pt x="14733" y="2014"/>
                  <a:pt x="14561" y="1890"/>
                  <a:pt x="14478" y="1873"/>
                </a:cubicBezTo>
                <a:cubicBezTo>
                  <a:pt x="14345" y="1845"/>
                  <a:pt x="14220" y="1896"/>
                  <a:pt x="14097" y="1937"/>
                </a:cubicBezTo>
                <a:cubicBezTo>
                  <a:pt x="13953" y="1985"/>
                  <a:pt x="13844" y="2073"/>
                  <a:pt x="13748" y="2191"/>
                </a:cubicBezTo>
                <a:cubicBezTo>
                  <a:pt x="13643" y="2320"/>
                  <a:pt x="13558" y="2482"/>
                  <a:pt x="13494" y="2635"/>
                </a:cubicBezTo>
                <a:cubicBezTo>
                  <a:pt x="13447" y="2746"/>
                  <a:pt x="13439" y="2927"/>
                  <a:pt x="13462" y="3048"/>
                </a:cubicBezTo>
                <a:cubicBezTo>
                  <a:pt x="13485" y="3173"/>
                  <a:pt x="13586" y="3290"/>
                  <a:pt x="13684" y="3366"/>
                </a:cubicBezTo>
                <a:cubicBezTo>
                  <a:pt x="13781" y="3442"/>
                  <a:pt x="13891" y="3475"/>
                  <a:pt x="14002" y="3524"/>
                </a:cubicBezTo>
              </a:path>
              <a:path w="8256" h="9812">
                <a:moveTo>
                  <a:pt x="10065" y="8572"/>
                </a:moveTo>
                <a:cubicBezTo>
                  <a:pt x="10051" y="8608"/>
                  <a:pt x="10017" y="8654"/>
                  <a:pt x="10033" y="8700"/>
                </a:cubicBezTo>
                <a:cubicBezTo>
                  <a:pt x="10047" y="8742"/>
                  <a:pt x="10049" y="8814"/>
                  <a:pt x="10065" y="8858"/>
                </a:cubicBezTo>
                <a:cubicBezTo>
                  <a:pt x="10077" y="8891"/>
                  <a:pt x="10133" y="8994"/>
                  <a:pt x="10160" y="9017"/>
                </a:cubicBezTo>
                <a:cubicBezTo>
                  <a:pt x="10207" y="9057"/>
                  <a:pt x="10335" y="9128"/>
                  <a:pt x="10382" y="9144"/>
                </a:cubicBezTo>
                <a:cubicBezTo>
                  <a:pt x="10494" y="9181"/>
                  <a:pt x="10618" y="9155"/>
                  <a:pt x="10732" y="9176"/>
                </a:cubicBezTo>
                <a:cubicBezTo>
                  <a:pt x="10864" y="9201"/>
                  <a:pt x="11006" y="9233"/>
                  <a:pt x="11144" y="9208"/>
                </a:cubicBezTo>
                <a:cubicBezTo>
                  <a:pt x="11264" y="9186"/>
                  <a:pt x="11447" y="9189"/>
                  <a:pt x="11557" y="9144"/>
                </a:cubicBezTo>
                <a:cubicBezTo>
                  <a:pt x="11674" y="9096"/>
                  <a:pt x="11782" y="9063"/>
                  <a:pt x="11906" y="9017"/>
                </a:cubicBezTo>
                <a:cubicBezTo>
                  <a:pt x="12001" y="8981"/>
                  <a:pt x="12068" y="8915"/>
                  <a:pt x="12128" y="8826"/>
                </a:cubicBezTo>
                <a:cubicBezTo>
                  <a:pt x="12170" y="8763"/>
                  <a:pt x="12188" y="8708"/>
                  <a:pt x="12192" y="8636"/>
                </a:cubicBezTo>
                <a:cubicBezTo>
                  <a:pt x="12192" y="8578"/>
                  <a:pt x="12197" y="8562"/>
                  <a:pt x="12160" y="8541"/>
                </a:cubicBezTo>
              </a:path>
              <a:path w="8256" h="9812">
                <a:moveTo>
                  <a:pt x="10414" y="9462"/>
                </a:moveTo>
                <a:cubicBezTo>
                  <a:pt x="10528" y="9462"/>
                  <a:pt x="10634" y="9474"/>
                  <a:pt x="10732" y="9493"/>
                </a:cubicBezTo>
                <a:cubicBezTo>
                  <a:pt x="10824" y="9511"/>
                  <a:pt x="10820" y="9487"/>
                  <a:pt x="10890" y="9557"/>
                </a:cubicBezTo>
                <a:cubicBezTo>
                  <a:pt x="10850" y="9609"/>
                  <a:pt x="10884" y="9635"/>
                  <a:pt x="10858" y="9684"/>
                </a:cubicBezTo>
                <a:cubicBezTo>
                  <a:pt x="10830" y="9735"/>
                  <a:pt x="10802" y="9777"/>
                  <a:pt x="10795" y="9842"/>
                </a:cubicBezTo>
                <a:cubicBezTo>
                  <a:pt x="10789" y="9906"/>
                  <a:pt x="10802" y="9918"/>
                  <a:pt x="10763" y="9970"/>
                </a:cubicBezTo>
                <a:cubicBezTo>
                  <a:pt x="10795" y="9970"/>
                  <a:pt x="10805" y="9970"/>
                  <a:pt x="10795" y="10001"/>
                </a:cubicBezTo>
              </a:path>
              <a:path w="8256" h="9812">
                <a:moveTo>
                  <a:pt x="11049" y="9525"/>
                </a:moveTo>
                <a:cubicBezTo>
                  <a:pt x="11102" y="9578"/>
                  <a:pt x="11084" y="9601"/>
                  <a:pt x="11112" y="9652"/>
                </a:cubicBezTo>
                <a:cubicBezTo>
                  <a:pt x="11150" y="9720"/>
                  <a:pt x="11195" y="9808"/>
                  <a:pt x="11240" y="9874"/>
                </a:cubicBezTo>
                <a:cubicBezTo>
                  <a:pt x="11276" y="9927"/>
                  <a:pt x="11271" y="10033"/>
                  <a:pt x="11335" y="10033"/>
                </a:cubicBezTo>
                <a:cubicBezTo>
                  <a:pt x="11345" y="10022"/>
                  <a:pt x="11356" y="10012"/>
                  <a:pt x="11366" y="10001"/>
                </a:cubicBezTo>
              </a:path>
              <a:path w="8256" h="9812">
                <a:moveTo>
                  <a:pt x="11335" y="9684"/>
                </a:moveTo>
                <a:cubicBezTo>
                  <a:pt x="11320" y="9744"/>
                  <a:pt x="11264" y="9756"/>
                  <a:pt x="11240" y="9811"/>
                </a:cubicBezTo>
                <a:cubicBezTo>
                  <a:pt x="11213" y="9873"/>
                  <a:pt x="11166" y="9916"/>
                  <a:pt x="11112" y="9970"/>
                </a:cubicBezTo>
              </a:path>
              <a:path w="8256" h="9812">
                <a:moveTo>
                  <a:pt x="10255" y="10382"/>
                </a:moveTo>
                <a:cubicBezTo>
                  <a:pt x="10314" y="10382"/>
                  <a:pt x="10330" y="10356"/>
                  <a:pt x="10382" y="10350"/>
                </a:cubicBezTo>
                <a:cubicBezTo>
                  <a:pt x="10413" y="10347"/>
                  <a:pt x="10447" y="10350"/>
                  <a:pt x="10478" y="10350"/>
                </a:cubicBezTo>
              </a:path>
              <a:path w="8256" h="9812">
                <a:moveTo>
                  <a:pt x="10763" y="10287"/>
                </a:moveTo>
                <a:lnTo>
                  <a:pt x="10763" y="10287"/>
                </a:lnTo>
              </a:path>
              <a:path w="8256" h="9812">
                <a:moveTo>
                  <a:pt x="10890" y="10255"/>
                </a:moveTo>
                <a:cubicBezTo>
                  <a:pt x="10961" y="10326"/>
                  <a:pt x="10947" y="10306"/>
                  <a:pt x="10922" y="10382"/>
                </a:cubicBezTo>
                <a:cubicBezTo>
                  <a:pt x="10901" y="10443"/>
                  <a:pt x="10895" y="10446"/>
                  <a:pt x="10827" y="10446"/>
                </a:cubicBezTo>
                <a:cubicBezTo>
                  <a:pt x="10791" y="10446"/>
                  <a:pt x="10777" y="10449"/>
                  <a:pt x="10763" y="10478"/>
                </a:cubicBezTo>
                <a:cubicBezTo>
                  <a:pt x="10834" y="10425"/>
                  <a:pt x="10815" y="10470"/>
                  <a:pt x="10890" y="10478"/>
                </a:cubicBezTo>
                <a:cubicBezTo>
                  <a:pt x="10945" y="10484"/>
                  <a:pt x="11023" y="10516"/>
                  <a:pt x="11049" y="10573"/>
                </a:cubicBezTo>
                <a:cubicBezTo>
                  <a:pt x="11078" y="10638"/>
                  <a:pt x="11046" y="10711"/>
                  <a:pt x="11017" y="10732"/>
                </a:cubicBezTo>
                <a:cubicBezTo>
                  <a:pt x="10979" y="10760"/>
                  <a:pt x="10912" y="10785"/>
                  <a:pt x="10858" y="10763"/>
                </a:cubicBezTo>
                <a:cubicBezTo>
                  <a:pt x="10825" y="10749"/>
                  <a:pt x="10792" y="10722"/>
                  <a:pt x="10763" y="10700"/>
                </a:cubicBezTo>
              </a:path>
              <a:path w="8256" h="9812">
                <a:moveTo>
                  <a:pt x="11271" y="10382"/>
                </a:moveTo>
                <a:cubicBezTo>
                  <a:pt x="11287" y="10461"/>
                  <a:pt x="11326" y="10479"/>
                  <a:pt x="11366" y="10541"/>
                </a:cubicBezTo>
                <a:cubicBezTo>
                  <a:pt x="11414" y="10615"/>
                  <a:pt x="11439" y="10696"/>
                  <a:pt x="11525" y="10732"/>
                </a:cubicBezTo>
                <a:cubicBezTo>
                  <a:pt x="11536" y="10732"/>
                  <a:pt x="11546" y="10732"/>
                  <a:pt x="11557" y="10732"/>
                </a:cubicBezTo>
              </a:path>
              <a:path w="8256" h="9812">
                <a:moveTo>
                  <a:pt x="11462" y="10446"/>
                </a:moveTo>
                <a:cubicBezTo>
                  <a:pt x="11444" y="10537"/>
                  <a:pt x="11401" y="10570"/>
                  <a:pt x="11335" y="10636"/>
                </a:cubicBezTo>
                <a:cubicBezTo>
                  <a:pt x="11292" y="10679"/>
                  <a:pt x="11271" y="10700"/>
                  <a:pt x="11240" y="10732"/>
                </a:cubicBezTo>
              </a:path>
              <a:path w="8256" h="9812">
                <a:moveTo>
                  <a:pt x="10001" y="10858"/>
                </a:moveTo>
                <a:lnTo>
                  <a:pt x="10001" y="10858"/>
                </a:lnTo>
              </a:path>
              <a:path w="8256" h="9812">
                <a:moveTo>
                  <a:pt x="10001" y="10858"/>
                </a:moveTo>
                <a:lnTo>
                  <a:pt x="10001" y="10858"/>
                </a:lnTo>
              </a:path>
              <a:path w="8256" h="9812">
                <a:moveTo>
                  <a:pt x="10065" y="10858"/>
                </a:moveTo>
                <a:cubicBezTo>
                  <a:pt x="10141" y="10904"/>
                  <a:pt x="10224" y="10890"/>
                  <a:pt x="10319" y="10890"/>
                </a:cubicBezTo>
                <a:cubicBezTo>
                  <a:pt x="10556" y="10890"/>
                  <a:pt x="10785" y="10878"/>
                  <a:pt x="11017" y="10858"/>
                </a:cubicBezTo>
                <a:cubicBezTo>
                  <a:pt x="11215" y="10841"/>
                  <a:pt x="11493" y="10813"/>
                  <a:pt x="11684" y="10827"/>
                </a:cubicBezTo>
                <a:cubicBezTo>
                  <a:pt x="11760" y="10832"/>
                  <a:pt x="11827" y="10858"/>
                  <a:pt x="11906" y="10858"/>
                </a:cubicBezTo>
                <a:cubicBezTo>
                  <a:pt x="11917" y="10858"/>
                  <a:pt x="11927" y="10858"/>
                  <a:pt x="11938" y="10858"/>
                </a:cubicBezTo>
              </a:path>
              <a:path w="8256" h="9812">
                <a:moveTo>
                  <a:pt x="10795" y="11017"/>
                </a:moveTo>
                <a:cubicBezTo>
                  <a:pt x="10840" y="10984"/>
                  <a:pt x="10835" y="10986"/>
                  <a:pt x="10890" y="10986"/>
                </a:cubicBezTo>
                <a:cubicBezTo>
                  <a:pt x="10821" y="11008"/>
                  <a:pt x="10888" y="11026"/>
                  <a:pt x="10858" y="11081"/>
                </a:cubicBezTo>
                <a:cubicBezTo>
                  <a:pt x="10831" y="11131"/>
                  <a:pt x="10811" y="11188"/>
                  <a:pt x="10795" y="11240"/>
                </a:cubicBezTo>
                <a:cubicBezTo>
                  <a:pt x="10787" y="11265"/>
                  <a:pt x="10795" y="11308"/>
                  <a:pt x="10795" y="11335"/>
                </a:cubicBezTo>
                <a:cubicBezTo>
                  <a:pt x="10843" y="11351"/>
                  <a:pt x="10822" y="11366"/>
                  <a:pt x="10890" y="11366"/>
                </a:cubicBezTo>
                <a:cubicBezTo>
                  <a:pt x="10926" y="11366"/>
                  <a:pt x="10940" y="11363"/>
                  <a:pt x="10954" y="11335"/>
                </a:cubicBezTo>
                <a:cubicBezTo>
                  <a:pt x="11002" y="11370"/>
                  <a:pt x="11020" y="11366"/>
                  <a:pt x="11081" y="11366"/>
                </a:cubicBezTo>
                <a:cubicBezTo>
                  <a:pt x="11123" y="11366"/>
                  <a:pt x="11166" y="11366"/>
                  <a:pt x="11208" y="11366"/>
                </a:cubicBezTo>
              </a:path>
              <a:path w="8256" h="9812">
                <a:moveTo>
                  <a:pt x="11112" y="11049"/>
                </a:moveTo>
                <a:cubicBezTo>
                  <a:pt x="11083" y="11064"/>
                  <a:pt x="11112" y="11104"/>
                  <a:pt x="11112" y="11176"/>
                </a:cubicBezTo>
                <a:cubicBezTo>
                  <a:pt x="11112" y="11281"/>
                  <a:pt x="11097" y="11365"/>
                  <a:pt x="11081" y="11462"/>
                </a:cubicBezTo>
                <a:cubicBezTo>
                  <a:pt x="11070" y="11532"/>
                  <a:pt x="11081" y="11613"/>
                  <a:pt x="11081" y="11684"/>
                </a:cubicBezTo>
              </a:path>
              <a:path w="8256" h="9812">
                <a:moveTo>
                  <a:pt x="11366" y="11144"/>
                </a:moveTo>
                <a:cubicBezTo>
                  <a:pt x="11366" y="11198"/>
                  <a:pt x="11385" y="11265"/>
                  <a:pt x="11430" y="11303"/>
                </a:cubicBezTo>
                <a:cubicBezTo>
                  <a:pt x="11497" y="11360"/>
                  <a:pt x="11582" y="11408"/>
                  <a:pt x="11652" y="11462"/>
                </a:cubicBezTo>
                <a:cubicBezTo>
                  <a:pt x="11703" y="11502"/>
                  <a:pt x="11753" y="11542"/>
                  <a:pt x="11811" y="11557"/>
                </a:cubicBezTo>
              </a:path>
              <a:path w="8256" h="9812">
                <a:moveTo>
                  <a:pt x="11716" y="11208"/>
                </a:moveTo>
                <a:cubicBezTo>
                  <a:pt x="11702" y="11279"/>
                  <a:pt x="11644" y="11354"/>
                  <a:pt x="11589" y="11398"/>
                </a:cubicBezTo>
                <a:cubicBezTo>
                  <a:pt x="11507" y="11463"/>
                  <a:pt x="11467" y="11537"/>
                  <a:pt x="11398" y="11620"/>
                </a:cubicBezTo>
                <a:cubicBezTo>
                  <a:pt x="11377" y="11641"/>
                  <a:pt x="11356" y="11663"/>
                  <a:pt x="11335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6"/>
          <p:cNvSpPr/>
          <p:nvPr/>
        </p:nvSpPr>
        <p:spPr>
          <a:xfrm>
            <a:off x="2092320" y="2446200"/>
            <a:ext cx="1633680" cy="549360"/>
          </a:xfrm>
          <a:custGeom>
            <a:avLst/>
            <a:gdLst/>
            <a:ahLst/>
            <a:rect l="l" t="t" r="r" b="b"/>
            <a:pathLst>
              <a:path w="4541" h="1525">
                <a:moveTo>
                  <a:pt x="8636" y="7747"/>
                </a:moveTo>
                <a:cubicBezTo>
                  <a:pt x="8636" y="7863"/>
                  <a:pt x="8636" y="7980"/>
                  <a:pt x="8636" y="8096"/>
                </a:cubicBezTo>
              </a:path>
              <a:path w="4541" h="1525">
                <a:moveTo>
                  <a:pt x="8255" y="7715"/>
                </a:moveTo>
                <a:cubicBezTo>
                  <a:pt x="8378" y="7715"/>
                  <a:pt x="8485" y="7701"/>
                  <a:pt x="8604" y="7684"/>
                </a:cubicBezTo>
                <a:cubicBezTo>
                  <a:pt x="8787" y="7659"/>
                  <a:pt x="8991" y="7684"/>
                  <a:pt x="9176" y="7684"/>
                </a:cubicBezTo>
              </a:path>
              <a:path w="4541" h="1525">
                <a:moveTo>
                  <a:pt x="8636" y="7144"/>
                </a:moveTo>
                <a:cubicBezTo>
                  <a:pt x="8636" y="7250"/>
                  <a:pt x="8620" y="7332"/>
                  <a:pt x="8604" y="7430"/>
                </a:cubicBezTo>
                <a:cubicBezTo>
                  <a:pt x="8576" y="7596"/>
                  <a:pt x="8599" y="7776"/>
                  <a:pt x="8572" y="7938"/>
                </a:cubicBezTo>
                <a:cubicBezTo>
                  <a:pt x="8562" y="7996"/>
                  <a:pt x="8572" y="8068"/>
                  <a:pt x="8572" y="8128"/>
                </a:cubicBezTo>
              </a:path>
              <a:path w="4541" h="1525">
                <a:moveTo>
                  <a:pt x="6953" y="6890"/>
                </a:moveTo>
                <a:cubicBezTo>
                  <a:pt x="6998" y="6912"/>
                  <a:pt x="7039" y="6984"/>
                  <a:pt x="7048" y="7048"/>
                </a:cubicBezTo>
                <a:cubicBezTo>
                  <a:pt x="7066" y="7187"/>
                  <a:pt x="7127" y="7265"/>
                  <a:pt x="7176" y="7398"/>
                </a:cubicBezTo>
                <a:cubicBezTo>
                  <a:pt x="7225" y="7531"/>
                  <a:pt x="7306" y="7639"/>
                  <a:pt x="7398" y="7747"/>
                </a:cubicBezTo>
                <a:cubicBezTo>
                  <a:pt x="7452" y="7810"/>
                  <a:pt x="7552" y="7896"/>
                  <a:pt x="7588" y="7969"/>
                </a:cubicBezTo>
                <a:cubicBezTo>
                  <a:pt x="7588" y="8001"/>
                  <a:pt x="7588" y="8012"/>
                  <a:pt x="7620" y="8001"/>
                </a:cubicBezTo>
              </a:path>
              <a:path w="4541" h="1525">
                <a:moveTo>
                  <a:pt x="7588" y="6858"/>
                </a:moveTo>
                <a:cubicBezTo>
                  <a:pt x="7571" y="6942"/>
                  <a:pt x="7525" y="7065"/>
                  <a:pt x="7493" y="7144"/>
                </a:cubicBezTo>
                <a:cubicBezTo>
                  <a:pt x="7371" y="7442"/>
                  <a:pt x="7207" y="7749"/>
                  <a:pt x="7017" y="8001"/>
                </a:cubicBezTo>
                <a:cubicBezTo>
                  <a:pt x="6953" y="8096"/>
                  <a:pt x="6932" y="8128"/>
                  <a:pt x="6890" y="8192"/>
                </a:cubicBezTo>
              </a:path>
              <a:path w="4541" h="1525">
                <a:moveTo>
                  <a:pt x="9557" y="6890"/>
                </a:moveTo>
                <a:cubicBezTo>
                  <a:pt x="9618" y="6927"/>
                  <a:pt x="9636" y="6922"/>
                  <a:pt x="9716" y="6922"/>
                </a:cubicBezTo>
                <a:cubicBezTo>
                  <a:pt x="9804" y="6922"/>
                  <a:pt x="9918" y="6890"/>
                  <a:pt x="10001" y="6858"/>
                </a:cubicBezTo>
                <a:cubicBezTo>
                  <a:pt x="10082" y="6827"/>
                  <a:pt x="10167" y="6805"/>
                  <a:pt x="10255" y="6794"/>
                </a:cubicBezTo>
                <a:cubicBezTo>
                  <a:pt x="10313" y="6794"/>
                  <a:pt x="10329" y="6789"/>
                  <a:pt x="10350" y="6826"/>
                </a:cubicBezTo>
                <a:cubicBezTo>
                  <a:pt x="10324" y="6922"/>
                  <a:pt x="10295" y="6965"/>
                  <a:pt x="10255" y="7048"/>
                </a:cubicBezTo>
                <a:cubicBezTo>
                  <a:pt x="10192" y="7182"/>
                  <a:pt x="10139" y="7299"/>
                  <a:pt x="10065" y="7430"/>
                </a:cubicBezTo>
                <a:cubicBezTo>
                  <a:pt x="9981" y="7578"/>
                  <a:pt x="9915" y="7727"/>
                  <a:pt x="9842" y="7874"/>
                </a:cubicBezTo>
                <a:cubicBezTo>
                  <a:pt x="9786" y="7985"/>
                  <a:pt x="9753" y="8080"/>
                  <a:pt x="9716" y="8192"/>
                </a:cubicBezTo>
                <a:cubicBezTo>
                  <a:pt x="9697" y="8250"/>
                  <a:pt x="9682" y="8273"/>
                  <a:pt x="9652" y="8318"/>
                </a:cubicBezTo>
              </a:path>
              <a:path w="4541" h="1525">
                <a:moveTo>
                  <a:pt x="5842" y="7652"/>
                </a:moveTo>
                <a:cubicBezTo>
                  <a:pt x="5829" y="7659"/>
                  <a:pt x="5817" y="7702"/>
                  <a:pt x="5842" y="7747"/>
                </a:cubicBezTo>
                <a:cubicBezTo>
                  <a:pt x="5866" y="7789"/>
                  <a:pt x="5920" y="7884"/>
                  <a:pt x="5969" y="7906"/>
                </a:cubicBezTo>
                <a:cubicBezTo>
                  <a:pt x="5989" y="7915"/>
                  <a:pt x="6042" y="7906"/>
                  <a:pt x="6064" y="7906"/>
                </a:cubicBezTo>
                <a:cubicBezTo>
                  <a:pt x="6064" y="7841"/>
                  <a:pt x="6080" y="7775"/>
                  <a:pt x="6096" y="7715"/>
                </a:cubicBezTo>
                <a:cubicBezTo>
                  <a:pt x="6135" y="7567"/>
                  <a:pt x="6197" y="7410"/>
                  <a:pt x="6255" y="7271"/>
                </a:cubicBezTo>
                <a:cubicBezTo>
                  <a:pt x="6333" y="7084"/>
                  <a:pt x="6437" y="6942"/>
                  <a:pt x="6572" y="67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7"/>
          <p:cNvSpPr/>
          <p:nvPr/>
        </p:nvSpPr>
        <p:spPr>
          <a:xfrm>
            <a:off x="4537080" y="2378160"/>
            <a:ext cx="1406520" cy="639720"/>
          </a:xfrm>
          <a:custGeom>
            <a:avLst/>
            <a:gdLst/>
            <a:ahLst/>
            <a:rect l="l" t="t" r="r" b="b"/>
            <a:pathLst>
              <a:path w="3906" h="1779">
                <a:moveTo>
                  <a:pt x="14160" y="7493"/>
                </a:moveTo>
                <a:cubicBezTo>
                  <a:pt x="14236" y="7493"/>
                  <a:pt x="14273" y="7473"/>
                  <a:pt x="14351" y="7461"/>
                </a:cubicBezTo>
                <a:cubicBezTo>
                  <a:pt x="14450" y="7446"/>
                  <a:pt x="14630" y="7477"/>
                  <a:pt x="14732" y="7493"/>
                </a:cubicBezTo>
                <a:cubicBezTo>
                  <a:pt x="14866" y="7513"/>
                  <a:pt x="14977" y="7525"/>
                  <a:pt x="15113" y="7525"/>
                </a:cubicBezTo>
                <a:cubicBezTo>
                  <a:pt x="15155" y="7525"/>
                  <a:pt x="15198" y="7525"/>
                  <a:pt x="15240" y="7525"/>
                </a:cubicBezTo>
              </a:path>
              <a:path w="3906" h="1779">
                <a:moveTo>
                  <a:pt x="12700" y="6826"/>
                </a:moveTo>
                <a:cubicBezTo>
                  <a:pt x="12700" y="6919"/>
                  <a:pt x="12681" y="7029"/>
                  <a:pt x="12732" y="7112"/>
                </a:cubicBezTo>
                <a:cubicBezTo>
                  <a:pt x="12812" y="7243"/>
                  <a:pt x="12892" y="7368"/>
                  <a:pt x="12986" y="7493"/>
                </a:cubicBezTo>
                <a:cubicBezTo>
                  <a:pt x="13086" y="7626"/>
                  <a:pt x="13179" y="7768"/>
                  <a:pt x="13272" y="7906"/>
                </a:cubicBezTo>
                <a:cubicBezTo>
                  <a:pt x="13339" y="8006"/>
                  <a:pt x="13405" y="8091"/>
                  <a:pt x="13462" y="8192"/>
                </a:cubicBezTo>
                <a:cubicBezTo>
                  <a:pt x="13488" y="8244"/>
                  <a:pt x="13486" y="8265"/>
                  <a:pt x="13526" y="8255"/>
                </a:cubicBezTo>
              </a:path>
              <a:path w="3906" h="1779">
                <a:moveTo>
                  <a:pt x="13526" y="6953"/>
                </a:moveTo>
                <a:cubicBezTo>
                  <a:pt x="13518" y="7050"/>
                  <a:pt x="13506" y="7117"/>
                  <a:pt x="13462" y="7207"/>
                </a:cubicBezTo>
                <a:cubicBezTo>
                  <a:pt x="13381" y="7374"/>
                  <a:pt x="13248" y="7529"/>
                  <a:pt x="13144" y="7684"/>
                </a:cubicBezTo>
                <a:cubicBezTo>
                  <a:pt x="13001" y="7898"/>
                  <a:pt x="12825" y="8087"/>
                  <a:pt x="12668" y="8287"/>
                </a:cubicBezTo>
                <a:cubicBezTo>
                  <a:pt x="12647" y="8319"/>
                  <a:pt x="12626" y="8350"/>
                  <a:pt x="12605" y="8382"/>
                </a:cubicBezTo>
              </a:path>
              <a:path w="3906" h="1779">
                <a:moveTo>
                  <a:pt x="15684" y="6858"/>
                </a:moveTo>
                <a:cubicBezTo>
                  <a:pt x="15721" y="6812"/>
                  <a:pt x="15734" y="6777"/>
                  <a:pt x="15780" y="6731"/>
                </a:cubicBezTo>
                <a:cubicBezTo>
                  <a:pt x="15837" y="6674"/>
                  <a:pt x="15866" y="6672"/>
                  <a:pt x="15938" y="6636"/>
                </a:cubicBezTo>
                <a:cubicBezTo>
                  <a:pt x="16017" y="6596"/>
                  <a:pt x="16080" y="6586"/>
                  <a:pt x="16161" y="6636"/>
                </a:cubicBezTo>
                <a:cubicBezTo>
                  <a:pt x="16206" y="6664"/>
                  <a:pt x="16276" y="6743"/>
                  <a:pt x="16288" y="6794"/>
                </a:cubicBezTo>
                <a:cubicBezTo>
                  <a:pt x="16307" y="6876"/>
                  <a:pt x="16289" y="6975"/>
                  <a:pt x="16256" y="7048"/>
                </a:cubicBezTo>
                <a:cubicBezTo>
                  <a:pt x="16216" y="7137"/>
                  <a:pt x="16164" y="7146"/>
                  <a:pt x="16097" y="7207"/>
                </a:cubicBezTo>
                <a:cubicBezTo>
                  <a:pt x="16054" y="7246"/>
                  <a:pt x="15989" y="7284"/>
                  <a:pt x="15938" y="7302"/>
                </a:cubicBezTo>
                <a:cubicBezTo>
                  <a:pt x="15928" y="7302"/>
                  <a:pt x="15917" y="7302"/>
                  <a:pt x="15907" y="7302"/>
                </a:cubicBezTo>
                <a:cubicBezTo>
                  <a:pt x="15933" y="7276"/>
                  <a:pt x="15943" y="7250"/>
                  <a:pt x="16002" y="7239"/>
                </a:cubicBezTo>
                <a:cubicBezTo>
                  <a:pt x="16077" y="7225"/>
                  <a:pt x="16127" y="7244"/>
                  <a:pt x="16192" y="7271"/>
                </a:cubicBezTo>
                <a:cubicBezTo>
                  <a:pt x="16293" y="7313"/>
                  <a:pt x="16355" y="7370"/>
                  <a:pt x="16415" y="7461"/>
                </a:cubicBezTo>
                <a:cubicBezTo>
                  <a:pt x="16465" y="7537"/>
                  <a:pt x="16505" y="7627"/>
                  <a:pt x="16510" y="7715"/>
                </a:cubicBezTo>
                <a:cubicBezTo>
                  <a:pt x="16515" y="7810"/>
                  <a:pt x="16458" y="7911"/>
                  <a:pt x="16383" y="7969"/>
                </a:cubicBezTo>
                <a:cubicBezTo>
                  <a:pt x="16291" y="8040"/>
                  <a:pt x="16199" y="8040"/>
                  <a:pt x="16097" y="8064"/>
                </a:cubicBezTo>
                <a:cubicBezTo>
                  <a:pt x="15993" y="8088"/>
                  <a:pt x="15919" y="8096"/>
                  <a:pt x="15812" y="8096"/>
                </a:cubicBezTo>
                <a:cubicBezTo>
                  <a:pt x="15780" y="8096"/>
                  <a:pt x="15769" y="8096"/>
                  <a:pt x="15748" y="8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8"/>
          <p:cNvSpPr/>
          <p:nvPr/>
        </p:nvSpPr>
        <p:spPr>
          <a:xfrm>
            <a:off x="1303200" y="4572000"/>
            <a:ext cx="1497240" cy="1246320"/>
          </a:xfrm>
          <a:custGeom>
            <a:avLst/>
            <a:gdLst/>
            <a:ahLst/>
            <a:rect l="l" t="t" r="r" b="b"/>
            <a:pathLst>
              <a:path w="4160" h="3462">
                <a:moveTo>
                  <a:pt x="4858" y="12954"/>
                </a:moveTo>
                <a:cubicBezTo>
                  <a:pt x="4888" y="12962"/>
                  <a:pt x="4958" y="12971"/>
                  <a:pt x="4985" y="12986"/>
                </a:cubicBezTo>
                <a:cubicBezTo>
                  <a:pt x="5038" y="13016"/>
                  <a:pt x="5047" y="13018"/>
                  <a:pt x="5112" y="13018"/>
                </a:cubicBezTo>
              </a:path>
              <a:path w="4160" h="3462">
                <a:moveTo>
                  <a:pt x="5493" y="12827"/>
                </a:moveTo>
                <a:cubicBezTo>
                  <a:pt x="5599" y="12827"/>
                  <a:pt x="5687" y="12823"/>
                  <a:pt x="5778" y="12795"/>
                </a:cubicBezTo>
                <a:cubicBezTo>
                  <a:pt x="5804" y="12787"/>
                  <a:pt x="5847" y="12795"/>
                  <a:pt x="5874" y="12795"/>
                </a:cubicBezTo>
                <a:cubicBezTo>
                  <a:pt x="5843" y="12836"/>
                  <a:pt x="5835" y="12884"/>
                  <a:pt x="5810" y="12922"/>
                </a:cubicBezTo>
                <a:cubicBezTo>
                  <a:pt x="5765" y="12989"/>
                  <a:pt x="5780" y="13073"/>
                  <a:pt x="5747" y="13144"/>
                </a:cubicBezTo>
                <a:cubicBezTo>
                  <a:pt x="5719" y="13204"/>
                  <a:pt x="5688" y="13301"/>
                  <a:pt x="5683" y="13367"/>
                </a:cubicBezTo>
                <a:cubicBezTo>
                  <a:pt x="5683" y="13420"/>
                  <a:pt x="5673" y="13441"/>
                  <a:pt x="5715" y="13430"/>
                </a:cubicBezTo>
              </a:path>
              <a:path w="4160" h="3462">
                <a:moveTo>
                  <a:pt x="6763" y="12859"/>
                </a:moveTo>
                <a:cubicBezTo>
                  <a:pt x="6858" y="12859"/>
                  <a:pt x="6953" y="12859"/>
                  <a:pt x="7048" y="12859"/>
                </a:cubicBezTo>
              </a:path>
              <a:path w="4160" h="3462">
                <a:moveTo>
                  <a:pt x="7398" y="12700"/>
                </a:moveTo>
                <a:cubicBezTo>
                  <a:pt x="7486" y="12700"/>
                  <a:pt x="7537" y="12711"/>
                  <a:pt x="7620" y="12732"/>
                </a:cubicBezTo>
                <a:cubicBezTo>
                  <a:pt x="7670" y="12745"/>
                  <a:pt x="7703" y="12749"/>
                  <a:pt x="7747" y="12764"/>
                </a:cubicBezTo>
                <a:cubicBezTo>
                  <a:pt x="7779" y="12764"/>
                  <a:pt x="7789" y="12764"/>
                  <a:pt x="7779" y="12795"/>
                </a:cubicBezTo>
                <a:cubicBezTo>
                  <a:pt x="7735" y="12854"/>
                  <a:pt x="7703" y="12893"/>
                  <a:pt x="7652" y="12954"/>
                </a:cubicBezTo>
                <a:cubicBezTo>
                  <a:pt x="7574" y="13047"/>
                  <a:pt x="7559" y="13138"/>
                  <a:pt x="7525" y="13240"/>
                </a:cubicBezTo>
                <a:cubicBezTo>
                  <a:pt x="7486" y="13356"/>
                  <a:pt x="7454" y="13473"/>
                  <a:pt x="7430" y="13589"/>
                </a:cubicBezTo>
                <a:cubicBezTo>
                  <a:pt x="7430" y="13631"/>
                  <a:pt x="7430" y="13652"/>
                  <a:pt x="7430" y="13684"/>
                </a:cubicBezTo>
              </a:path>
              <a:path w="4160" h="3462">
                <a:moveTo>
                  <a:pt x="5016" y="14129"/>
                </a:moveTo>
                <a:cubicBezTo>
                  <a:pt x="5016" y="14226"/>
                  <a:pt x="5025" y="14322"/>
                  <a:pt x="5048" y="14414"/>
                </a:cubicBezTo>
                <a:cubicBezTo>
                  <a:pt x="5084" y="14555"/>
                  <a:pt x="5124" y="14713"/>
                  <a:pt x="5144" y="14859"/>
                </a:cubicBezTo>
                <a:cubicBezTo>
                  <a:pt x="5164" y="15004"/>
                  <a:pt x="5178" y="15135"/>
                  <a:pt x="5239" y="15272"/>
                </a:cubicBezTo>
                <a:cubicBezTo>
                  <a:pt x="5249" y="15293"/>
                  <a:pt x="5260" y="15314"/>
                  <a:pt x="5270" y="15335"/>
                </a:cubicBezTo>
              </a:path>
              <a:path w="4160" h="3462">
                <a:moveTo>
                  <a:pt x="5461" y="14414"/>
                </a:moveTo>
                <a:cubicBezTo>
                  <a:pt x="5361" y="14537"/>
                  <a:pt x="5256" y="14648"/>
                  <a:pt x="5144" y="14764"/>
                </a:cubicBezTo>
                <a:cubicBezTo>
                  <a:pt x="5047" y="14864"/>
                  <a:pt x="4922" y="14986"/>
                  <a:pt x="4858" y="15113"/>
                </a:cubicBezTo>
                <a:cubicBezTo>
                  <a:pt x="4824" y="15213"/>
                  <a:pt x="4811" y="15249"/>
                  <a:pt x="4762" y="15304"/>
                </a:cubicBezTo>
              </a:path>
              <a:path w="4160" h="3462">
                <a:moveTo>
                  <a:pt x="5683" y="14542"/>
                </a:moveTo>
                <a:cubicBezTo>
                  <a:pt x="5736" y="14529"/>
                  <a:pt x="5821" y="14530"/>
                  <a:pt x="5874" y="14510"/>
                </a:cubicBezTo>
                <a:cubicBezTo>
                  <a:pt x="5910" y="14474"/>
                  <a:pt x="5927" y="14463"/>
                  <a:pt x="5969" y="14478"/>
                </a:cubicBezTo>
              </a:path>
              <a:path w="4160" h="3462">
                <a:moveTo>
                  <a:pt x="5715" y="14764"/>
                </a:moveTo>
                <a:cubicBezTo>
                  <a:pt x="5853" y="14764"/>
                  <a:pt x="5990" y="14764"/>
                  <a:pt x="6128" y="14764"/>
                </a:cubicBezTo>
              </a:path>
              <a:path w="4160" h="3462">
                <a:moveTo>
                  <a:pt x="6509" y="14224"/>
                </a:moveTo>
                <a:cubicBezTo>
                  <a:pt x="6521" y="14187"/>
                  <a:pt x="6552" y="14166"/>
                  <a:pt x="6604" y="14160"/>
                </a:cubicBezTo>
                <a:cubicBezTo>
                  <a:pt x="6689" y="14151"/>
                  <a:pt x="6757" y="14169"/>
                  <a:pt x="6826" y="14192"/>
                </a:cubicBezTo>
                <a:cubicBezTo>
                  <a:pt x="6903" y="14218"/>
                  <a:pt x="6960" y="14179"/>
                  <a:pt x="7017" y="14160"/>
                </a:cubicBezTo>
                <a:cubicBezTo>
                  <a:pt x="7052" y="14148"/>
                  <a:pt x="7076" y="14138"/>
                  <a:pt x="7112" y="14129"/>
                </a:cubicBezTo>
                <a:cubicBezTo>
                  <a:pt x="7112" y="14200"/>
                  <a:pt x="7084" y="14172"/>
                  <a:pt x="7080" y="14224"/>
                </a:cubicBezTo>
                <a:cubicBezTo>
                  <a:pt x="7074" y="14298"/>
                  <a:pt x="7050" y="14344"/>
                  <a:pt x="7017" y="14414"/>
                </a:cubicBezTo>
                <a:cubicBezTo>
                  <a:pt x="6981" y="14491"/>
                  <a:pt x="6973" y="14558"/>
                  <a:pt x="6953" y="14637"/>
                </a:cubicBezTo>
                <a:cubicBezTo>
                  <a:pt x="6927" y="14740"/>
                  <a:pt x="6856" y="14819"/>
                  <a:pt x="6826" y="14922"/>
                </a:cubicBezTo>
                <a:cubicBezTo>
                  <a:pt x="6810" y="14978"/>
                  <a:pt x="6770" y="15064"/>
                  <a:pt x="6763" y="15113"/>
                </a:cubicBezTo>
                <a:cubicBezTo>
                  <a:pt x="6750" y="15203"/>
                  <a:pt x="6750" y="15230"/>
                  <a:pt x="6731" y="15304"/>
                </a:cubicBezTo>
              </a:path>
              <a:path w="4160" h="3462">
                <a:moveTo>
                  <a:pt x="6731" y="15272"/>
                </a:moveTo>
                <a:lnTo>
                  <a:pt x="6731" y="15272"/>
                </a:lnTo>
              </a:path>
              <a:path w="4160" h="3462">
                <a:moveTo>
                  <a:pt x="6032" y="14097"/>
                </a:moveTo>
                <a:cubicBezTo>
                  <a:pt x="6115" y="14097"/>
                  <a:pt x="6114" y="14098"/>
                  <a:pt x="6191" y="14065"/>
                </a:cubicBezTo>
              </a:path>
              <a:path w="4160" h="3462">
                <a:moveTo>
                  <a:pt x="6096" y="13652"/>
                </a:moveTo>
                <a:cubicBezTo>
                  <a:pt x="6072" y="13638"/>
                  <a:pt x="6028" y="13604"/>
                  <a:pt x="5969" y="13589"/>
                </a:cubicBezTo>
                <a:cubicBezTo>
                  <a:pt x="5861" y="13561"/>
                  <a:pt x="5762" y="13546"/>
                  <a:pt x="5652" y="13526"/>
                </a:cubicBezTo>
                <a:cubicBezTo>
                  <a:pt x="5520" y="13502"/>
                  <a:pt x="5407" y="13497"/>
                  <a:pt x="5270" y="13494"/>
                </a:cubicBezTo>
                <a:cubicBezTo>
                  <a:pt x="5147" y="13492"/>
                  <a:pt x="5023" y="13482"/>
                  <a:pt x="4890" y="13494"/>
                </a:cubicBezTo>
                <a:cubicBezTo>
                  <a:pt x="4762" y="13506"/>
                  <a:pt x="4632" y="13550"/>
                  <a:pt x="4508" y="13589"/>
                </a:cubicBezTo>
                <a:cubicBezTo>
                  <a:pt x="4370" y="13632"/>
                  <a:pt x="4252" y="13677"/>
                  <a:pt x="4128" y="13748"/>
                </a:cubicBezTo>
                <a:cubicBezTo>
                  <a:pt x="3961" y="13844"/>
                  <a:pt x="3823" y="13968"/>
                  <a:pt x="3715" y="14129"/>
                </a:cubicBezTo>
                <a:cubicBezTo>
                  <a:pt x="3643" y="14237"/>
                  <a:pt x="3597" y="14379"/>
                  <a:pt x="3620" y="14510"/>
                </a:cubicBezTo>
                <a:cubicBezTo>
                  <a:pt x="3641" y="14628"/>
                  <a:pt x="3721" y="14732"/>
                  <a:pt x="3778" y="14827"/>
                </a:cubicBezTo>
                <a:cubicBezTo>
                  <a:pt x="3861" y="14965"/>
                  <a:pt x="3966" y="15089"/>
                  <a:pt x="4064" y="15208"/>
                </a:cubicBezTo>
                <a:cubicBezTo>
                  <a:pt x="4209" y="15383"/>
                  <a:pt x="4384" y="15534"/>
                  <a:pt x="4572" y="15653"/>
                </a:cubicBezTo>
                <a:cubicBezTo>
                  <a:pt x="4712" y="15742"/>
                  <a:pt x="4862" y="15843"/>
                  <a:pt x="5016" y="15907"/>
                </a:cubicBezTo>
                <a:cubicBezTo>
                  <a:pt x="5180" y="15975"/>
                  <a:pt x="5351" y="16028"/>
                  <a:pt x="5524" y="16066"/>
                </a:cubicBezTo>
                <a:cubicBezTo>
                  <a:pt x="5774" y="16120"/>
                  <a:pt x="5998" y="16161"/>
                  <a:pt x="6255" y="16161"/>
                </a:cubicBezTo>
                <a:cubicBezTo>
                  <a:pt x="6459" y="16161"/>
                  <a:pt x="6627" y="16143"/>
                  <a:pt x="6826" y="16097"/>
                </a:cubicBezTo>
                <a:cubicBezTo>
                  <a:pt x="7010" y="16055"/>
                  <a:pt x="7139" y="15996"/>
                  <a:pt x="7302" y="15907"/>
                </a:cubicBezTo>
                <a:cubicBezTo>
                  <a:pt x="7435" y="15835"/>
                  <a:pt x="7586" y="15704"/>
                  <a:pt x="7652" y="15558"/>
                </a:cubicBezTo>
                <a:cubicBezTo>
                  <a:pt x="7749" y="15343"/>
                  <a:pt x="7777" y="15084"/>
                  <a:pt x="7715" y="14859"/>
                </a:cubicBezTo>
                <a:cubicBezTo>
                  <a:pt x="7674" y="14708"/>
                  <a:pt x="7576" y="14545"/>
                  <a:pt x="7493" y="14414"/>
                </a:cubicBezTo>
                <a:cubicBezTo>
                  <a:pt x="7405" y="14276"/>
                  <a:pt x="7271" y="14138"/>
                  <a:pt x="7144" y="14034"/>
                </a:cubicBezTo>
                <a:cubicBezTo>
                  <a:pt x="7012" y="13927"/>
                  <a:pt x="6881" y="13830"/>
                  <a:pt x="6731" y="13748"/>
                </a:cubicBezTo>
                <a:cubicBezTo>
                  <a:pt x="6595" y="13674"/>
                  <a:pt x="6411" y="13609"/>
                  <a:pt x="6255" y="13589"/>
                </a:cubicBezTo>
                <a:cubicBezTo>
                  <a:pt x="6101" y="13569"/>
                  <a:pt x="5985" y="13610"/>
                  <a:pt x="5842" y="13652"/>
                </a:cubicBezTo>
                <a:cubicBezTo>
                  <a:pt x="5713" y="13690"/>
                  <a:pt x="5615" y="13768"/>
                  <a:pt x="5493" y="13811"/>
                </a:cubicBezTo>
                <a:cubicBezTo>
                  <a:pt x="5409" y="13839"/>
                  <a:pt x="5390" y="13850"/>
                  <a:pt x="5334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9"/>
          <p:cNvSpPr/>
          <p:nvPr/>
        </p:nvSpPr>
        <p:spPr>
          <a:xfrm>
            <a:off x="2320920" y="2297160"/>
            <a:ext cx="365040" cy="789120"/>
          </a:xfrm>
          <a:custGeom>
            <a:avLst/>
            <a:gdLst/>
            <a:ahLst/>
            <a:rect l="l" t="t" r="r" b="b"/>
            <a:pathLst>
              <a:path w="1017" h="2191">
                <a:moveTo>
                  <a:pt x="7176" y="6382"/>
                </a:moveTo>
                <a:cubicBezTo>
                  <a:pt x="7155" y="6402"/>
                  <a:pt x="7117" y="6440"/>
                  <a:pt x="7080" y="6477"/>
                </a:cubicBezTo>
                <a:cubicBezTo>
                  <a:pt x="7010" y="6547"/>
                  <a:pt x="6948" y="6621"/>
                  <a:pt x="6890" y="6699"/>
                </a:cubicBezTo>
                <a:cubicBezTo>
                  <a:pt x="6784" y="6842"/>
                  <a:pt x="6659" y="7003"/>
                  <a:pt x="6604" y="7176"/>
                </a:cubicBezTo>
                <a:cubicBezTo>
                  <a:pt x="6542" y="7370"/>
                  <a:pt x="6466" y="7573"/>
                  <a:pt x="6445" y="7779"/>
                </a:cubicBezTo>
                <a:cubicBezTo>
                  <a:pt x="6424" y="7988"/>
                  <a:pt x="6536" y="8194"/>
                  <a:pt x="6668" y="8350"/>
                </a:cubicBezTo>
                <a:cubicBezTo>
                  <a:pt x="6761" y="8460"/>
                  <a:pt x="6860" y="8506"/>
                  <a:pt x="6985" y="8572"/>
                </a:cubicBezTo>
              </a:path>
              <a:path w="1017" h="2191">
                <a:moveTo>
                  <a:pt x="7461" y="8287"/>
                </a:moveTo>
                <a:lnTo>
                  <a:pt x="7461" y="828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10"/>
          <p:cNvSpPr/>
          <p:nvPr/>
        </p:nvSpPr>
        <p:spPr>
          <a:xfrm>
            <a:off x="5132520" y="4686480"/>
            <a:ext cx="1428480" cy="1177920"/>
          </a:xfrm>
          <a:custGeom>
            <a:avLst/>
            <a:gdLst/>
            <a:ahLst/>
            <a:rect l="l" t="t" r="r" b="b"/>
            <a:pathLst>
              <a:path w="3969" h="3271">
                <a:moveTo>
                  <a:pt x="14637" y="13018"/>
                </a:moveTo>
                <a:lnTo>
                  <a:pt x="14637" y="13018"/>
                </a:lnTo>
              </a:path>
              <a:path w="3969" h="3271">
                <a:moveTo>
                  <a:pt x="14668" y="13272"/>
                </a:moveTo>
                <a:cubicBezTo>
                  <a:pt x="14668" y="13371"/>
                  <a:pt x="14695" y="13438"/>
                  <a:pt x="14700" y="13526"/>
                </a:cubicBezTo>
                <a:cubicBezTo>
                  <a:pt x="14706" y="13625"/>
                  <a:pt x="14726" y="13766"/>
                  <a:pt x="14668" y="13843"/>
                </a:cubicBezTo>
              </a:path>
              <a:path w="3969" h="3271">
                <a:moveTo>
                  <a:pt x="14573" y="13081"/>
                </a:moveTo>
                <a:lnTo>
                  <a:pt x="14573" y="13081"/>
                </a:lnTo>
              </a:path>
              <a:path w="3969" h="3271">
                <a:moveTo>
                  <a:pt x="14637" y="13526"/>
                </a:moveTo>
                <a:cubicBezTo>
                  <a:pt x="14637" y="13621"/>
                  <a:pt x="14637" y="13716"/>
                  <a:pt x="14637" y="13811"/>
                </a:cubicBezTo>
                <a:cubicBezTo>
                  <a:pt x="14637" y="13547"/>
                  <a:pt x="14637" y="13282"/>
                  <a:pt x="14637" y="13018"/>
                </a:cubicBezTo>
              </a:path>
              <a:path w="3969" h="3271">
                <a:moveTo>
                  <a:pt x="14668" y="13113"/>
                </a:moveTo>
                <a:cubicBezTo>
                  <a:pt x="14668" y="13155"/>
                  <a:pt x="14668" y="13176"/>
                  <a:pt x="14668" y="13208"/>
                </a:cubicBezTo>
              </a:path>
              <a:path w="3969" h="3271">
                <a:moveTo>
                  <a:pt x="14256" y="13494"/>
                </a:moveTo>
                <a:cubicBezTo>
                  <a:pt x="14256" y="13483"/>
                  <a:pt x="14256" y="13473"/>
                  <a:pt x="14256" y="13462"/>
                </a:cubicBezTo>
                <a:cubicBezTo>
                  <a:pt x="14321" y="13462"/>
                  <a:pt x="14331" y="13476"/>
                  <a:pt x="14383" y="13494"/>
                </a:cubicBezTo>
                <a:cubicBezTo>
                  <a:pt x="14491" y="13531"/>
                  <a:pt x="14673" y="13492"/>
                  <a:pt x="14764" y="13462"/>
                </a:cubicBezTo>
                <a:cubicBezTo>
                  <a:pt x="14797" y="13451"/>
                  <a:pt x="14856" y="13462"/>
                  <a:pt x="14891" y="13462"/>
                </a:cubicBezTo>
              </a:path>
              <a:path w="3969" h="3271">
                <a:moveTo>
                  <a:pt x="15176" y="13208"/>
                </a:moveTo>
                <a:cubicBezTo>
                  <a:pt x="15220" y="13193"/>
                  <a:pt x="15215" y="13163"/>
                  <a:pt x="15272" y="13144"/>
                </a:cubicBezTo>
                <a:cubicBezTo>
                  <a:pt x="15299" y="13135"/>
                  <a:pt x="15321" y="13088"/>
                  <a:pt x="15367" y="13113"/>
                </a:cubicBezTo>
                <a:cubicBezTo>
                  <a:pt x="15426" y="13145"/>
                  <a:pt x="15391" y="13233"/>
                  <a:pt x="15367" y="13272"/>
                </a:cubicBezTo>
                <a:cubicBezTo>
                  <a:pt x="15322" y="13346"/>
                  <a:pt x="15305" y="13422"/>
                  <a:pt x="15272" y="13494"/>
                </a:cubicBezTo>
                <a:cubicBezTo>
                  <a:pt x="15241" y="13560"/>
                  <a:pt x="15177" y="13526"/>
                  <a:pt x="15272" y="13494"/>
                </a:cubicBezTo>
                <a:cubicBezTo>
                  <a:pt x="15337" y="13472"/>
                  <a:pt x="15378" y="13515"/>
                  <a:pt x="15399" y="13526"/>
                </a:cubicBezTo>
                <a:cubicBezTo>
                  <a:pt x="15433" y="13543"/>
                  <a:pt x="15456" y="13566"/>
                  <a:pt x="15462" y="13621"/>
                </a:cubicBezTo>
                <a:cubicBezTo>
                  <a:pt x="15465" y="13651"/>
                  <a:pt x="15417" y="13754"/>
                  <a:pt x="15399" y="13780"/>
                </a:cubicBezTo>
                <a:cubicBezTo>
                  <a:pt x="15358" y="13841"/>
                  <a:pt x="15323" y="13872"/>
                  <a:pt x="15272" y="13906"/>
                </a:cubicBezTo>
                <a:cubicBezTo>
                  <a:pt x="15225" y="13938"/>
                  <a:pt x="15234" y="13938"/>
                  <a:pt x="15176" y="13938"/>
                </a:cubicBezTo>
              </a:path>
              <a:path w="3969" h="3271">
                <a:moveTo>
                  <a:pt x="16446" y="13272"/>
                </a:moveTo>
                <a:cubicBezTo>
                  <a:pt x="16446" y="13340"/>
                  <a:pt x="16474" y="13396"/>
                  <a:pt x="16478" y="13462"/>
                </a:cubicBezTo>
                <a:cubicBezTo>
                  <a:pt x="16484" y="13556"/>
                  <a:pt x="16478" y="13653"/>
                  <a:pt x="16478" y="13748"/>
                </a:cubicBezTo>
              </a:path>
              <a:path w="3969" h="3271">
                <a:moveTo>
                  <a:pt x="16351" y="13652"/>
                </a:moveTo>
                <a:cubicBezTo>
                  <a:pt x="16341" y="13652"/>
                  <a:pt x="16330" y="13652"/>
                  <a:pt x="16320" y="13652"/>
                </a:cubicBezTo>
                <a:cubicBezTo>
                  <a:pt x="16391" y="13652"/>
                  <a:pt x="16420" y="13640"/>
                  <a:pt x="16478" y="13621"/>
                </a:cubicBezTo>
                <a:cubicBezTo>
                  <a:pt x="16538" y="13602"/>
                  <a:pt x="16588" y="13594"/>
                  <a:pt x="16637" y="13557"/>
                </a:cubicBezTo>
              </a:path>
              <a:path w="3969" h="3271">
                <a:moveTo>
                  <a:pt x="16891" y="13240"/>
                </a:moveTo>
                <a:cubicBezTo>
                  <a:pt x="16928" y="13203"/>
                  <a:pt x="16972" y="13159"/>
                  <a:pt x="17018" y="13144"/>
                </a:cubicBezTo>
                <a:cubicBezTo>
                  <a:pt x="17095" y="13118"/>
                  <a:pt x="17075" y="13121"/>
                  <a:pt x="17145" y="13144"/>
                </a:cubicBezTo>
                <a:cubicBezTo>
                  <a:pt x="17185" y="13157"/>
                  <a:pt x="17194" y="13214"/>
                  <a:pt x="17177" y="13272"/>
                </a:cubicBezTo>
                <a:cubicBezTo>
                  <a:pt x="17150" y="13363"/>
                  <a:pt x="17083" y="13444"/>
                  <a:pt x="17050" y="13526"/>
                </a:cubicBezTo>
                <a:cubicBezTo>
                  <a:pt x="17050" y="13557"/>
                  <a:pt x="17050" y="13568"/>
                  <a:pt x="17018" y="13557"/>
                </a:cubicBezTo>
                <a:cubicBezTo>
                  <a:pt x="17062" y="13514"/>
                  <a:pt x="17085" y="13480"/>
                  <a:pt x="17113" y="13430"/>
                </a:cubicBezTo>
                <a:cubicBezTo>
                  <a:pt x="17145" y="13373"/>
                  <a:pt x="17174" y="13342"/>
                  <a:pt x="17240" y="13335"/>
                </a:cubicBezTo>
                <a:cubicBezTo>
                  <a:pt x="17299" y="13328"/>
                  <a:pt x="17317" y="13326"/>
                  <a:pt x="17336" y="13367"/>
                </a:cubicBezTo>
                <a:cubicBezTo>
                  <a:pt x="17380" y="13463"/>
                  <a:pt x="17353" y="13471"/>
                  <a:pt x="17336" y="13557"/>
                </a:cubicBezTo>
                <a:cubicBezTo>
                  <a:pt x="17319" y="13643"/>
                  <a:pt x="17298" y="13736"/>
                  <a:pt x="17240" y="13811"/>
                </a:cubicBezTo>
                <a:cubicBezTo>
                  <a:pt x="17187" y="13880"/>
                  <a:pt x="17111" y="13940"/>
                  <a:pt x="17050" y="14002"/>
                </a:cubicBezTo>
              </a:path>
              <a:path w="3969" h="3271">
                <a:moveTo>
                  <a:pt x="15526" y="14605"/>
                </a:moveTo>
                <a:cubicBezTo>
                  <a:pt x="15595" y="14622"/>
                  <a:pt x="15619" y="14666"/>
                  <a:pt x="15653" y="14732"/>
                </a:cubicBezTo>
                <a:cubicBezTo>
                  <a:pt x="15705" y="14832"/>
                  <a:pt x="15741" y="14944"/>
                  <a:pt x="15780" y="15050"/>
                </a:cubicBezTo>
              </a:path>
              <a:path w="3969" h="3271">
                <a:moveTo>
                  <a:pt x="15875" y="15399"/>
                </a:moveTo>
                <a:cubicBezTo>
                  <a:pt x="15912" y="15510"/>
                  <a:pt x="15944" y="15646"/>
                  <a:pt x="16002" y="15748"/>
                </a:cubicBezTo>
                <a:cubicBezTo>
                  <a:pt x="16038" y="15784"/>
                  <a:pt x="16049" y="15801"/>
                  <a:pt x="16034" y="15843"/>
                </a:cubicBezTo>
              </a:path>
              <a:path w="3969" h="3271">
                <a:moveTo>
                  <a:pt x="15780" y="15684"/>
                </a:moveTo>
                <a:cubicBezTo>
                  <a:pt x="15759" y="15716"/>
                  <a:pt x="15737" y="15748"/>
                  <a:pt x="15716" y="15780"/>
                </a:cubicBezTo>
              </a:path>
              <a:path w="3969" h="3271">
                <a:moveTo>
                  <a:pt x="15621" y="15653"/>
                </a:moveTo>
                <a:cubicBezTo>
                  <a:pt x="15660" y="15549"/>
                  <a:pt x="15655" y="15440"/>
                  <a:pt x="15684" y="15335"/>
                </a:cubicBezTo>
                <a:cubicBezTo>
                  <a:pt x="15715" y="15222"/>
                  <a:pt x="15766" y="15100"/>
                  <a:pt x="15780" y="14986"/>
                </a:cubicBezTo>
                <a:cubicBezTo>
                  <a:pt x="15793" y="14880"/>
                  <a:pt x="15811" y="14793"/>
                  <a:pt x="15875" y="14700"/>
                </a:cubicBezTo>
                <a:cubicBezTo>
                  <a:pt x="15901" y="14663"/>
                  <a:pt x="15951" y="14615"/>
                  <a:pt x="15970" y="14573"/>
                </a:cubicBezTo>
                <a:cubicBezTo>
                  <a:pt x="15970" y="14537"/>
                  <a:pt x="15973" y="14524"/>
                  <a:pt x="16002" y="14510"/>
                </a:cubicBezTo>
              </a:path>
              <a:path w="3969" h="3271">
                <a:moveTo>
                  <a:pt x="16288" y="14986"/>
                </a:moveTo>
                <a:cubicBezTo>
                  <a:pt x="16288" y="14997"/>
                  <a:pt x="16288" y="15007"/>
                  <a:pt x="16288" y="15018"/>
                </a:cubicBezTo>
                <a:cubicBezTo>
                  <a:pt x="16294" y="15000"/>
                  <a:pt x="16347" y="14932"/>
                  <a:pt x="16383" y="14922"/>
                </a:cubicBezTo>
                <a:cubicBezTo>
                  <a:pt x="16447" y="14903"/>
                  <a:pt x="16509" y="14885"/>
                  <a:pt x="16574" y="14859"/>
                </a:cubicBezTo>
                <a:cubicBezTo>
                  <a:pt x="16628" y="14837"/>
                  <a:pt x="16733" y="14801"/>
                  <a:pt x="16796" y="14827"/>
                </a:cubicBezTo>
                <a:cubicBezTo>
                  <a:pt x="16847" y="14848"/>
                  <a:pt x="16831" y="14859"/>
                  <a:pt x="16891" y="14859"/>
                </a:cubicBezTo>
                <a:cubicBezTo>
                  <a:pt x="16891" y="14891"/>
                  <a:pt x="16891" y="14902"/>
                  <a:pt x="16859" y="14891"/>
                </a:cubicBezTo>
              </a:path>
              <a:path w="3969" h="3271">
                <a:moveTo>
                  <a:pt x="16478" y="15304"/>
                </a:moveTo>
                <a:cubicBezTo>
                  <a:pt x="16478" y="15314"/>
                  <a:pt x="16478" y="15325"/>
                  <a:pt x="16478" y="15335"/>
                </a:cubicBezTo>
              </a:path>
              <a:path w="3969" h="3271">
                <a:moveTo>
                  <a:pt x="17177" y="14319"/>
                </a:moveTo>
                <a:cubicBezTo>
                  <a:pt x="17229" y="14254"/>
                  <a:pt x="17249" y="14189"/>
                  <a:pt x="17336" y="14160"/>
                </a:cubicBezTo>
                <a:cubicBezTo>
                  <a:pt x="17382" y="14144"/>
                  <a:pt x="17408" y="14129"/>
                  <a:pt x="17462" y="14129"/>
                </a:cubicBezTo>
                <a:cubicBezTo>
                  <a:pt x="17516" y="14129"/>
                  <a:pt x="17554" y="14173"/>
                  <a:pt x="17558" y="14224"/>
                </a:cubicBezTo>
                <a:cubicBezTo>
                  <a:pt x="17565" y="14328"/>
                  <a:pt x="17541" y="14415"/>
                  <a:pt x="17526" y="14510"/>
                </a:cubicBezTo>
                <a:cubicBezTo>
                  <a:pt x="17515" y="14580"/>
                  <a:pt x="17506" y="14644"/>
                  <a:pt x="17462" y="14700"/>
                </a:cubicBezTo>
                <a:cubicBezTo>
                  <a:pt x="17415" y="14759"/>
                  <a:pt x="17421" y="14759"/>
                  <a:pt x="17367" y="14732"/>
                </a:cubicBezTo>
                <a:cubicBezTo>
                  <a:pt x="17379" y="14697"/>
                  <a:pt x="17391" y="14673"/>
                  <a:pt x="17431" y="14668"/>
                </a:cubicBezTo>
                <a:cubicBezTo>
                  <a:pt x="17482" y="14661"/>
                  <a:pt x="17500" y="14637"/>
                  <a:pt x="17558" y="14637"/>
                </a:cubicBezTo>
                <a:cubicBezTo>
                  <a:pt x="17589" y="14637"/>
                  <a:pt x="17670" y="14669"/>
                  <a:pt x="17685" y="14700"/>
                </a:cubicBezTo>
                <a:cubicBezTo>
                  <a:pt x="17705" y="14740"/>
                  <a:pt x="17740" y="14819"/>
                  <a:pt x="17748" y="14859"/>
                </a:cubicBezTo>
                <a:cubicBezTo>
                  <a:pt x="17766" y="14947"/>
                  <a:pt x="17736" y="15063"/>
                  <a:pt x="17716" y="15145"/>
                </a:cubicBezTo>
                <a:cubicBezTo>
                  <a:pt x="17694" y="15235"/>
                  <a:pt x="17652" y="15330"/>
                  <a:pt x="17590" y="15399"/>
                </a:cubicBezTo>
                <a:cubicBezTo>
                  <a:pt x="17529" y="15466"/>
                  <a:pt x="17463" y="15462"/>
                  <a:pt x="17399" y="15494"/>
                </a:cubicBezTo>
                <a:cubicBezTo>
                  <a:pt x="17345" y="15521"/>
                  <a:pt x="17338" y="15526"/>
                  <a:pt x="17272" y="15526"/>
                </a:cubicBezTo>
                <a:cubicBezTo>
                  <a:pt x="17222" y="15526"/>
                  <a:pt x="17240" y="15505"/>
                  <a:pt x="17240" y="15462"/>
                </a:cubicBezTo>
              </a:path>
              <a:path w="3969" h="3271">
                <a:moveTo>
                  <a:pt x="16415" y="15304"/>
                </a:moveTo>
                <a:lnTo>
                  <a:pt x="16415" y="15304"/>
                </a:lnTo>
              </a:path>
              <a:path w="3969" h="3271">
                <a:moveTo>
                  <a:pt x="16415" y="15304"/>
                </a:moveTo>
                <a:cubicBezTo>
                  <a:pt x="16404" y="15325"/>
                  <a:pt x="16394" y="15346"/>
                  <a:pt x="16383" y="15367"/>
                </a:cubicBezTo>
              </a:path>
              <a:path w="3969" h="3271">
                <a:moveTo>
                  <a:pt x="16383" y="15367"/>
                </a:moveTo>
                <a:cubicBezTo>
                  <a:pt x="16393" y="15338"/>
                  <a:pt x="16436" y="15318"/>
                  <a:pt x="16478" y="15304"/>
                </a:cubicBezTo>
                <a:cubicBezTo>
                  <a:pt x="16526" y="15289"/>
                  <a:pt x="16550" y="15272"/>
                  <a:pt x="16605" y="15272"/>
                </a:cubicBezTo>
                <a:cubicBezTo>
                  <a:pt x="16721" y="15272"/>
                  <a:pt x="16838" y="15272"/>
                  <a:pt x="16954" y="15272"/>
                </a:cubicBezTo>
                <a:cubicBezTo>
                  <a:pt x="16811" y="15272"/>
                  <a:pt x="16666" y="15262"/>
                  <a:pt x="16542" y="15304"/>
                </a:cubicBezTo>
                <a:cubicBezTo>
                  <a:pt x="16504" y="15317"/>
                  <a:pt x="16452" y="15331"/>
                  <a:pt x="16415" y="15335"/>
                </a:cubicBezTo>
                <a:cubicBezTo>
                  <a:pt x="16404" y="15335"/>
                  <a:pt x="16394" y="15335"/>
                  <a:pt x="16383" y="15335"/>
                </a:cubicBezTo>
              </a:path>
              <a:path w="3969" h="3271">
                <a:moveTo>
                  <a:pt x="15558" y="14700"/>
                </a:moveTo>
                <a:cubicBezTo>
                  <a:pt x="15558" y="14776"/>
                  <a:pt x="15570" y="14827"/>
                  <a:pt x="15589" y="14891"/>
                </a:cubicBezTo>
                <a:cubicBezTo>
                  <a:pt x="15605" y="14946"/>
                  <a:pt x="15616" y="15003"/>
                  <a:pt x="15653" y="15050"/>
                </a:cubicBezTo>
                <a:cubicBezTo>
                  <a:pt x="15707" y="15118"/>
                  <a:pt x="15695" y="15222"/>
                  <a:pt x="15748" y="15304"/>
                </a:cubicBezTo>
                <a:cubicBezTo>
                  <a:pt x="15790" y="15369"/>
                  <a:pt x="15857" y="15446"/>
                  <a:pt x="15875" y="15526"/>
                </a:cubicBezTo>
                <a:cubicBezTo>
                  <a:pt x="15897" y="15625"/>
                  <a:pt x="15943" y="15723"/>
                  <a:pt x="15970" y="15812"/>
                </a:cubicBezTo>
                <a:cubicBezTo>
                  <a:pt x="15978" y="15837"/>
                  <a:pt x="15970" y="15880"/>
                  <a:pt x="15970" y="15907"/>
                </a:cubicBezTo>
              </a:path>
              <a:path w="3969" h="3271">
                <a:moveTo>
                  <a:pt x="15526" y="15589"/>
                </a:moveTo>
                <a:cubicBezTo>
                  <a:pt x="15538" y="15542"/>
                  <a:pt x="15555" y="15500"/>
                  <a:pt x="15589" y="15462"/>
                </a:cubicBezTo>
                <a:cubicBezTo>
                  <a:pt x="15660" y="15382"/>
                  <a:pt x="15663" y="15307"/>
                  <a:pt x="15684" y="15208"/>
                </a:cubicBezTo>
                <a:cubicBezTo>
                  <a:pt x="15709" y="15088"/>
                  <a:pt x="15759" y="14999"/>
                  <a:pt x="15812" y="14891"/>
                </a:cubicBezTo>
                <a:cubicBezTo>
                  <a:pt x="15844" y="14826"/>
                  <a:pt x="15863" y="14751"/>
                  <a:pt x="15907" y="14700"/>
                </a:cubicBezTo>
                <a:cubicBezTo>
                  <a:pt x="15935" y="14671"/>
                  <a:pt x="15945" y="14665"/>
                  <a:pt x="15938" y="14637"/>
                </a:cubicBezTo>
              </a:path>
              <a:path w="3969" h="3271">
                <a:moveTo>
                  <a:pt x="15494" y="16224"/>
                </a:moveTo>
                <a:cubicBezTo>
                  <a:pt x="15543" y="16236"/>
                  <a:pt x="15567" y="16249"/>
                  <a:pt x="15621" y="16256"/>
                </a:cubicBezTo>
                <a:cubicBezTo>
                  <a:pt x="15713" y="16267"/>
                  <a:pt x="15822" y="16281"/>
                  <a:pt x="15907" y="16288"/>
                </a:cubicBezTo>
                <a:cubicBezTo>
                  <a:pt x="16111" y="16306"/>
                  <a:pt x="16313" y="16278"/>
                  <a:pt x="16510" y="16256"/>
                </a:cubicBezTo>
                <a:cubicBezTo>
                  <a:pt x="16627" y="16243"/>
                  <a:pt x="16744" y="16250"/>
                  <a:pt x="16859" y="16224"/>
                </a:cubicBezTo>
                <a:cubicBezTo>
                  <a:pt x="17025" y="16187"/>
                  <a:pt x="17162" y="16105"/>
                  <a:pt x="17304" y="16034"/>
                </a:cubicBezTo>
                <a:cubicBezTo>
                  <a:pt x="17482" y="15945"/>
                  <a:pt x="17549" y="15858"/>
                  <a:pt x="17685" y="15716"/>
                </a:cubicBezTo>
                <a:cubicBezTo>
                  <a:pt x="17803" y="15593"/>
                  <a:pt x="17859" y="15480"/>
                  <a:pt x="17939" y="15335"/>
                </a:cubicBezTo>
                <a:cubicBezTo>
                  <a:pt x="18017" y="15195"/>
                  <a:pt x="18073" y="15043"/>
                  <a:pt x="18129" y="14891"/>
                </a:cubicBezTo>
                <a:cubicBezTo>
                  <a:pt x="18174" y="14769"/>
                  <a:pt x="18210" y="14637"/>
                  <a:pt x="18224" y="14510"/>
                </a:cubicBezTo>
                <a:cubicBezTo>
                  <a:pt x="18234" y="14418"/>
                  <a:pt x="18223" y="14309"/>
                  <a:pt x="18193" y="14224"/>
                </a:cubicBezTo>
                <a:cubicBezTo>
                  <a:pt x="18156" y="14118"/>
                  <a:pt x="18114" y="14095"/>
                  <a:pt x="18034" y="14034"/>
                </a:cubicBezTo>
                <a:cubicBezTo>
                  <a:pt x="17971" y="13985"/>
                  <a:pt x="17891" y="13949"/>
                  <a:pt x="17812" y="13938"/>
                </a:cubicBezTo>
                <a:cubicBezTo>
                  <a:pt x="17679" y="13919"/>
                  <a:pt x="17553" y="13958"/>
                  <a:pt x="17431" y="13970"/>
                </a:cubicBezTo>
                <a:cubicBezTo>
                  <a:pt x="17327" y="13980"/>
                  <a:pt x="17213" y="13994"/>
                  <a:pt x="17113" y="14002"/>
                </a:cubicBezTo>
                <a:cubicBezTo>
                  <a:pt x="17005" y="14011"/>
                  <a:pt x="16901" y="14009"/>
                  <a:pt x="16796" y="14034"/>
                </a:cubicBezTo>
                <a:cubicBezTo>
                  <a:pt x="16683" y="14061"/>
                  <a:pt x="16560" y="14113"/>
                  <a:pt x="16446" y="14129"/>
                </a:cubicBezTo>
                <a:cubicBezTo>
                  <a:pt x="16329" y="14145"/>
                  <a:pt x="16214" y="14176"/>
                  <a:pt x="16097" y="14192"/>
                </a:cubicBezTo>
                <a:cubicBezTo>
                  <a:pt x="15944" y="14213"/>
                  <a:pt x="15830" y="14265"/>
                  <a:pt x="15684" y="14319"/>
                </a:cubicBezTo>
                <a:cubicBezTo>
                  <a:pt x="15550" y="14369"/>
                  <a:pt x="15409" y="14416"/>
                  <a:pt x="15304" y="14510"/>
                </a:cubicBezTo>
                <a:cubicBezTo>
                  <a:pt x="15233" y="14574"/>
                  <a:pt x="15107" y="14630"/>
                  <a:pt x="15050" y="14700"/>
                </a:cubicBezTo>
                <a:cubicBezTo>
                  <a:pt x="14973" y="14795"/>
                  <a:pt x="14933" y="14949"/>
                  <a:pt x="14891" y="15050"/>
                </a:cubicBezTo>
                <a:cubicBezTo>
                  <a:pt x="14854" y="15139"/>
                  <a:pt x="14808" y="15241"/>
                  <a:pt x="14796" y="15335"/>
                </a:cubicBezTo>
                <a:cubicBezTo>
                  <a:pt x="14785" y="15422"/>
                  <a:pt x="14812" y="15565"/>
                  <a:pt x="14827" y="15653"/>
                </a:cubicBezTo>
                <a:cubicBezTo>
                  <a:pt x="14845" y="15755"/>
                  <a:pt x="14873" y="15846"/>
                  <a:pt x="14922" y="15938"/>
                </a:cubicBezTo>
                <a:cubicBezTo>
                  <a:pt x="14956" y="16003"/>
                  <a:pt x="14997" y="16078"/>
                  <a:pt x="15050" y="16129"/>
                </a:cubicBezTo>
                <a:cubicBezTo>
                  <a:pt x="15105" y="16182"/>
                  <a:pt x="15140" y="16181"/>
                  <a:pt x="15208" y="16192"/>
                </a:cubicBezTo>
                <a:cubicBezTo>
                  <a:pt x="15279" y="16204"/>
                  <a:pt x="15336" y="16191"/>
                  <a:pt x="15399" y="16161"/>
                </a:cubicBezTo>
                <a:cubicBezTo>
                  <a:pt x="15464" y="16130"/>
                  <a:pt x="15518" y="16092"/>
                  <a:pt x="15589" y="16066"/>
                </a:cubicBezTo>
                <a:cubicBezTo>
                  <a:pt x="15669" y="16036"/>
                  <a:pt x="15727" y="16012"/>
                  <a:pt x="15812" y="16002"/>
                </a:cubicBezTo>
                <a:cubicBezTo>
                  <a:pt x="15875" y="15995"/>
                  <a:pt x="15920" y="15982"/>
                  <a:pt x="15970" y="15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4x - 68 = 0 using the quadratic formul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3"/>
          <p:cNvSpPr/>
          <p:nvPr/>
        </p:nvSpPr>
        <p:spPr>
          <a:xfrm>
            <a:off x="2664000" y="353880"/>
            <a:ext cx="160200" cy="206640"/>
          </a:xfrm>
          <a:custGeom>
            <a:avLst/>
            <a:gdLst/>
            <a:ahLst/>
            <a:rect l="l" t="t" r="r" b="b"/>
            <a:pathLst>
              <a:path w="445" h="573">
                <a:moveTo>
                  <a:pt x="7747" y="1206"/>
                </a:moveTo>
                <a:cubicBezTo>
                  <a:pt x="7779" y="1175"/>
                  <a:pt x="7790" y="1164"/>
                  <a:pt x="7747" y="1143"/>
                </a:cubicBezTo>
              </a:path>
              <a:path w="445" h="573">
                <a:moveTo>
                  <a:pt x="7747" y="1334"/>
                </a:moveTo>
                <a:cubicBezTo>
                  <a:pt x="7801" y="1401"/>
                  <a:pt x="7778" y="1413"/>
                  <a:pt x="7842" y="1397"/>
                </a:cubicBezTo>
              </a:path>
              <a:path w="445" h="573">
                <a:moveTo>
                  <a:pt x="7684" y="1143"/>
                </a:moveTo>
                <a:cubicBezTo>
                  <a:pt x="7684" y="1042"/>
                  <a:pt x="7687" y="1061"/>
                  <a:pt x="7620" y="1016"/>
                </a:cubicBezTo>
                <a:cubicBezTo>
                  <a:pt x="7605" y="1006"/>
                  <a:pt x="7520" y="950"/>
                  <a:pt x="7493" y="984"/>
                </a:cubicBezTo>
                <a:cubicBezTo>
                  <a:pt x="7461" y="1024"/>
                  <a:pt x="7410" y="1125"/>
                  <a:pt x="7398" y="1206"/>
                </a:cubicBezTo>
                <a:cubicBezTo>
                  <a:pt x="7383" y="1306"/>
                  <a:pt x="7404" y="1382"/>
                  <a:pt x="7430" y="1460"/>
                </a:cubicBezTo>
                <a:cubicBezTo>
                  <a:pt x="7446" y="1507"/>
                  <a:pt x="7473" y="1538"/>
                  <a:pt x="7525" y="1556"/>
                </a:cubicBezTo>
                <a:cubicBezTo>
                  <a:pt x="7566" y="1570"/>
                  <a:pt x="7628" y="1559"/>
                  <a:pt x="7652" y="1524"/>
                </a:cubicBezTo>
                <a:cubicBezTo>
                  <a:pt x="7697" y="1460"/>
                  <a:pt x="7669" y="1428"/>
                  <a:pt x="7715" y="1397"/>
                </a:cubicBezTo>
              </a:path>
              <a:path w="445" h="573">
                <a:moveTo>
                  <a:pt x="7684" y="1460"/>
                </a:moveTo>
                <a:cubicBezTo>
                  <a:pt x="7695" y="1507"/>
                  <a:pt x="7710" y="1518"/>
                  <a:pt x="7747" y="1556"/>
                </a:cubicBezTo>
                <a:cubicBezTo>
                  <a:pt x="7779" y="1524"/>
                  <a:pt x="7789" y="1514"/>
                  <a:pt x="7810" y="1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4"/>
          <p:cNvSpPr/>
          <p:nvPr/>
        </p:nvSpPr>
        <p:spPr>
          <a:xfrm>
            <a:off x="3897360" y="343080"/>
            <a:ext cx="171360" cy="228600"/>
          </a:xfrm>
          <a:custGeom>
            <a:avLst/>
            <a:gdLst/>
            <a:ahLst/>
            <a:rect l="l" t="t" r="r" b="b"/>
            <a:pathLst>
              <a:path w="477" h="637">
                <a:moveTo>
                  <a:pt x="10954" y="952"/>
                </a:moveTo>
                <a:cubicBezTo>
                  <a:pt x="10954" y="1153"/>
                  <a:pt x="10954" y="1355"/>
                  <a:pt x="10954" y="1556"/>
                </a:cubicBezTo>
                <a:cubicBezTo>
                  <a:pt x="10954" y="1439"/>
                  <a:pt x="10932" y="1302"/>
                  <a:pt x="10986" y="1206"/>
                </a:cubicBezTo>
                <a:cubicBezTo>
                  <a:pt x="11031" y="1126"/>
                  <a:pt x="11047" y="1092"/>
                  <a:pt x="11112" y="1048"/>
                </a:cubicBezTo>
                <a:cubicBezTo>
                  <a:pt x="11139" y="1030"/>
                  <a:pt x="11198" y="1024"/>
                  <a:pt x="11240" y="1048"/>
                </a:cubicBezTo>
                <a:cubicBezTo>
                  <a:pt x="11272" y="1066"/>
                  <a:pt x="11301" y="1143"/>
                  <a:pt x="11303" y="1175"/>
                </a:cubicBezTo>
                <a:cubicBezTo>
                  <a:pt x="11309" y="1259"/>
                  <a:pt x="11290" y="1329"/>
                  <a:pt x="11271" y="1397"/>
                </a:cubicBezTo>
                <a:cubicBezTo>
                  <a:pt x="11256" y="1453"/>
                  <a:pt x="11220" y="1480"/>
                  <a:pt x="11176" y="1524"/>
                </a:cubicBezTo>
                <a:cubicBezTo>
                  <a:pt x="11117" y="1583"/>
                  <a:pt x="11102" y="1588"/>
                  <a:pt x="11017" y="1588"/>
                </a:cubicBezTo>
                <a:cubicBezTo>
                  <a:pt x="10949" y="1588"/>
                  <a:pt x="10857" y="1617"/>
                  <a:pt x="10827" y="1556"/>
                </a:cubicBezTo>
                <a:cubicBezTo>
                  <a:pt x="10827" y="1535"/>
                  <a:pt x="10827" y="1513"/>
                  <a:pt x="10827" y="1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5"/>
          <p:cNvSpPr/>
          <p:nvPr/>
        </p:nvSpPr>
        <p:spPr>
          <a:xfrm>
            <a:off x="5154480" y="297000"/>
            <a:ext cx="217800" cy="206280"/>
          </a:xfrm>
          <a:custGeom>
            <a:avLst/>
            <a:gdLst/>
            <a:ahLst/>
            <a:rect l="l" t="t" r="r" b="b"/>
            <a:pathLst>
              <a:path w="604" h="572">
                <a:moveTo>
                  <a:pt x="14732" y="952"/>
                </a:moveTo>
                <a:cubicBezTo>
                  <a:pt x="14732" y="912"/>
                  <a:pt x="14721" y="868"/>
                  <a:pt x="14700" y="857"/>
                </a:cubicBezTo>
                <a:cubicBezTo>
                  <a:pt x="14629" y="821"/>
                  <a:pt x="14636" y="844"/>
                  <a:pt x="14573" y="857"/>
                </a:cubicBezTo>
                <a:cubicBezTo>
                  <a:pt x="14487" y="875"/>
                  <a:pt x="14413" y="903"/>
                  <a:pt x="14351" y="984"/>
                </a:cubicBezTo>
                <a:cubicBezTo>
                  <a:pt x="14312" y="1035"/>
                  <a:pt x="14302" y="1145"/>
                  <a:pt x="14319" y="1206"/>
                </a:cubicBezTo>
                <a:cubicBezTo>
                  <a:pt x="14333" y="1255"/>
                  <a:pt x="14423" y="1381"/>
                  <a:pt x="14478" y="1397"/>
                </a:cubicBezTo>
                <a:cubicBezTo>
                  <a:pt x="14557" y="1419"/>
                  <a:pt x="14671" y="1397"/>
                  <a:pt x="14732" y="1365"/>
                </a:cubicBezTo>
                <a:cubicBezTo>
                  <a:pt x="14807" y="1326"/>
                  <a:pt x="14863" y="1299"/>
                  <a:pt x="14922" y="1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6"/>
          <p:cNvSpPr/>
          <p:nvPr/>
        </p:nvSpPr>
        <p:spPr>
          <a:xfrm>
            <a:off x="525600" y="2136600"/>
            <a:ext cx="823680" cy="389160"/>
          </a:xfrm>
          <a:custGeom>
            <a:avLst/>
            <a:gdLst/>
            <a:ahLst/>
            <a:rect l="l" t="t" r="r" b="b"/>
            <a:pathLst>
              <a:path w="2287" h="1081">
                <a:moveTo>
                  <a:pt x="1588" y="6128"/>
                </a:moveTo>
                <a:cubicBezTo>
                  <a:pt x="1537" y="6241"/>
                  <a:pt x="1518" y="6331"/>
                  <a:pt x="1492" y="6445"/>
                </a:cubicBezTo>
                <a:cubicBezTo>
                  <a:pt x="1470" y="6538"/>
                  <a:pt x="1432" y="6664"/>
                  <a:pt x="1460" y="6763"/>
                </a:cubicBezTo>
                <a:cubicBezTo>
                  <a:pt x="1471" y="6800"/>
                  <a:pt x="1545" y="6910"/>
                  <a:pt x="1588" y="6922"/>
                </a:cubicBezTo>
                <a:cubicBezTo>
                  <a:pt x="1653" y="6941"/>
                  <a:pt x="1739" y="6912"/>
                  <a:pt x="1778" y="6858"/>
                </a:cubicBezTo>
                <a:cubicBezTo>
                  <a:pt x="1851" y="6755"/>
                  <a:pt x="1848" y="6654"/>
                  <a:pt x="1873" y="6540"/>
                </a:cubicBezTo>
                <a:cubicBezTo>
                  <a:pt x="1897" y="6432"/>
                  <a:pt x="1913" y="6327"/>
                  <a:pt x="1937" y="6223"/>
                </a:cubicBezTo>
                <a:cubicBezTo>
                  <a:pt x="1937" y="6187"/>
                  <a:pt x="1934" y="6173"/>
                  <a:pt x="1905" y="6160"/>
                </a:cubicBezTo>
                <a:cubicBezTo>
                  <a:pt x="1905" y="6365"/>
                  <a:pt x="1904" y="6567"/>
                  <a:pt x="1937" y="6763"/>
                </a:cubicBezTo>
                <a:cubicBezTo>
                  <a:pt x="1952" y="6852"/>
                  <a:pt x="1968" y="6914"/>
                  <a:pt x="2032" y="6985"/>
                </a:cubicBezTo>
                <a:cubicBezTo>
                  <a:pt x="2068" y="7025"/>
                  <a:pt x="2078" y="7017"/>
                  <a:pt x="2127" y="7017"/>
                </a:cubicBezTo>
              </a:path>
              <a:path w="2287" h="1081">
                <a:moveTo>
                  <a:pt x="1556" y="6128"/>
                </a:moveTo>
                <a:cubicBezTo>
                  <a:pt x="1569" y="6088"/>
                  <a:pt x="1628" y="6057"/>
                  <a:pt x="1651" y="6001"/>
                </a:cubicBezTo>
                <a:cubicBezTo>
                  <a:pt x="1662" y="5973"/>
                  <a:pt x="1704" y="5951"/>
                  <a:pt x="1746" y="5937"/>
                </a:cubicBezTo>
                <a:cubicBezTo>
                  <a:pt x="1790" y="5922"/>
                  <a:pt x="1860" y="5955"/>
                  <a:pt x="1873" y="6001"/>
                </a:cubicBezTo>
                <a:cubicBezTo>
                  <a:pt x="1889" y="6057"/>
                  <a:pt x="1905" y="6101"/>
                  <a:pt x="1905" y="6160"/>
                </a:cubicBezTo>
                <a:cubicBezTo>
                  <a:pt x="1905" y="6181"/>
                  <a:pt x="1905" y="6202"/>
                  <a:pt x="1905" y="6223"/>
                </a:cubicBezTo>
              </a:path>
              <a:path w="2287" h="1081">
                <a:moveTo>
                  <a:pt x="2286" y="6255"/>
                </a:moveTo>
                <a:cubicBezTo>
                  <a:pt x="2320" y="6263"/>
                  <a:pt x="2372" y="6308"/>
                  <a:pt x="2413" y="6286"/>
                </a:cubicBezTo>
                <a:cubicBezTo>
                  <a:pt x="2479" y="6251"/>
                  <a:pt x="2525" y="6255"/>
                  <a:pt x="2604" y="6255"/>
                </a:cubicBezTo>
                <a:cubicBezTo>
                  <a:pt x="2636" y="6255"/>
                  <a:pt x="2667" y="6255"/>
                  <a:pt x="2699" y="6255"/>
                </a:cubicBezTo>
                <a:cubicBezTo>
                  <a:pt x="2699" y="6286"/>
                  <a:pt x="2699" y="6296"/>
                  <a:pt x="2730" y="6286"/>
                </a:cubicBezTo>
              </a:path>
              <a:path w="2287" h="1081">
                <a:moveTo>
                  <a:pt x="2413" y="6572"/>
                </a:moveTo>
                <a:lnTo>
                  <a:pt x="2413" y="6572"/>
                </a:lnTo>
              </a:path>
              <a:path w="2287" h="1081">
                <a:moveTo>
                  <a:pt x="2413" y="6572"/>
                </a:moveTo>
                <a:lnTo>
                  <a:pt x="2413" y="6572"/>
                </a:lnTo>
              </a:path>
              <a:path w="2287" h="1081">
                <a:moveTo>
                  <a:pt x="2445" y="6572"/>
                </a:moveTo>
                <a:cubicBezTo>
                  <a:pt x="2503" y="6572"/>
                  <a:pt x="2520" y="6546"/>
                  <a:pt x="2572" y="6540"/>
                </a:cubicBezTo>
                <a:cubicBezTo>
                  <a:pt x="2670" y="6529"/>
                  <a:pt x="2747" y="6546"/>
                  <a:pt x="2826" y="6572"/>
                </a:cubicBezTo>
                <a:cubicBezTo>
                  <a:pt x="2882" y="6591"/>
                  <a:pt x="2870" y="6545"/>
                  <a:pt x="2889" y="6604"/>
                </a:cubicBezTo>
              </a:path>
              <a:path w="2287" h="1081">
                <a:moveTo>
                  <a:pt x="3334" y="6128"/>
                </a:moveTo>
                <a:cubicBezTo>
                  <a:pt x="3320" y="6086"/>
                  <a:pt x="3296" y="6087"/>
                  <a:pt x="3334" y="6032"/>
                </a:cubicBezTo>
                <a:cubicBezTo>
                  <a:pt x="3355" y="6001"/>
                  <a:pt x="3456" y="5949"/>
                  <a:pt x="3492" y="5937"/>
                </a:cubicBezTo>
                <a:cubicBezTo>
                  <a:pt x="3527" y="5925"/>
                  <a:pt x="3637" y="5952"/>
                  <a:pt x="3651" y="5969"/>
                </a:cubicBezTo>
                <a:cubicBezTo>
                  <a:pt x="3706" y="6036"/>
                  <a:pt x="3679" y="6150"/>
                  <a:pt x="3651" y="6223"/>
                </a:cubicBezTo>
                <a:cubicBezTo>
                  <a:pt x="3609" y="6334"/>
                  <a:pt x="3557" y="6476"/>
                  <a:pt x="3492" y="6572"/>
                </a:cubicBezTo>
                <a:cubicBezTo>
                  <a:pt x="3427" y="6667"/>
                  <a:pt x="3366" y="6761"/>
                  <a:pt x="3302" y="6858"/>
                </a:cubicBezTo>
                <a:cubicBezTo>
                  <a:pt x="3275" y="6899"/>
                  <a:pt x="3192" y="6971"/>
                  <a:pt x="3238" y="6953"/>
                </a:cubicBezTo>
                <a:cubicBezTo>
                  <a:pt x="3291" y="6932"/>
                  <a:pt x="3349" y="6868"/>
                  <a:pt x="3397" y="6858"/>
                </a:cubicBezTo>
                <a:cubicBezTo>
                  <a:pt x="3480" y="6840"/>
                  <a:pt x="3525" y="6876"/>
                  <a:pt x="3588" y="6890"/>
                </a:cubicBezTo>
                <a:cubicBezTo>
                  <a:pt x="3628" y="6899"/>
                  <a:pt x="3721" y="6884"/>
                  <a:pt x="3746" y="6922"/>
                </a:cubicBezTo>
                <a:cubicBezTo>
                  <a:pt x="3746" y="6932"/>
                  <a:pt x="3746" y="6943"/>
                  <a:pt x="3746" y="6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7"/>
          <p:cNvSpPr/>
          <p:nvPr/>
        </p:nvSpPr>
        <p:spPr>
          <a:xfrm>
            <a:off x="2400480" y="1839960"/>
            <a:ext cx="3795480" cy="755640"/>
          </a:xfrm>
          <a:custGeom>
            <a:avLst/>
            <a:gdLst/>
            <a:ahLst/>
            <a:rect l="l" t="t" r="r" b="b"/>
            <a:pathLst>
              <a:path w="10541" h="2096">
                <a:moveTo>
                  <a:pt x="6731" y="6160"/>
                </a:moveTo>
                <a:lnTo>
                  <a:pt x="6731" y="6160"/>
                </a:lnTo>
              </a:path>
              <a:path w="10541" h="2096">
                <a:moveTo>
                  <a:pt x="6731" y="6160"/>
                </a:moveTo>
                <a:cubicBezTo>
                  <a:pt x="6731" y="6149"/>
                  <a:pt x="6731" y="6139"/>
                  <a:pt x="6731" y="6128"/>
                </a:cubicBezTo>
              </a:path>
              <a:path w="10541" h="2096">
                <a:moveTo>
                  <a:pt x="6731" y="6128"/>
                </a:moveTo>
                <a:cubicBezTo>
                  <a:pt x="6826" y="6128"/>
                  <a:pt x="6905" y="6112"/>
                  <a:pt x="6985" y="6096"/>
                </a:cubicBezTo>
                <a:cubicBezTo>
                  <a:pt x="7082" y="6076"/>
                  <a:pt x="7410" y="6096"/>
                  <a:pt x="7398" y="6096"/>
                </a:cubicBezTo>
                <a:cubicBezTo>
                  <a:pt x="7283" y="6096"/>
                  <a:pt x="7187" y="6110"/>
                  <a:pt x="7080" y="6128"/>
                </a:cubicBezTo>
                <a:cubicBezTo>
                  <a:pt x="6971" y="6146"/>
                  <a:pt x="6869" y="6135"/>
                  <a:pt x="6763" y="6160"/>
                </a:cubicBezTo>
                <a:cubicBezTo>
                  <a:pt x="6735" y="6166"/>
                  <a:pt x="6696" y="6160"/>
                  <a:pt x="6668" y="6160"/>
                </a:cubicBezTo>
                <a:cubicBezTo>
                  <a:pt x="6738" y="6160"/>
                  <a:pt x="6758" y="6145"/>
                  <a:pt x="6826" y="6128"/>
                </a:cubicBezTo>
                <a:cubicBezTo>
                  <a:pt x="6897" y="6110"/>
                  <a:pt x="6976" y="6076"/>
                  <a:pt x="7048" y="6064"/>
                </a:cubicBezTo>
                <a:cubicBezTo>
                  <a:pt x="7132" y="6050"/>
                  <a:pt x="7219" y="6038"/>
                  <a:pt x="7302" y="6032"/>
                </a:cubicBezTo>
                <a:cubicBezTo>
                  <a:pt x="7310" y="6031"/>
                  <a:pt x="7448" y="6027"/>
                  <a:pt x="7398" y="6064"/>
                </a:cubicBezTo>
                <a:cubicBezTo>
                  <a:pt x="7357" y="6095"/>
                  <a:pt x="7310" y="6055"/>
                  <a:pt x="7302" y="6032"/>
                </a:cubicBezTo>
              </a:path>
              <a:path w="10541" h="2096">
                <a:moveTo>
                  <a:pt x="8001" y="5207"/>
                </a:moveTo>
                <a:cubicBezTo>
                  <a:pt x="8033" y="5278"/>
                  <a:pt x="8043" y="5346"/>
                  <a:pt x="8033" y="5461"/>
                </a:cubicBezTo>
                <a:cubicBezTo>
                  <a:pt x="7997" y="5865"/>
                  <a:pt x="8026" y="6301"/>
                  <a:pt x="8064" y="6699"/>
                </a:cubicBezTo>
                <a:cubicBezTo>
                  <a:pt x="8078" y="6845"/>
                  <a:pt x="8064" y="6998"/>
                  <a:pt x="8064" y="7144"/>
                </a:cubicBezTo>
                <a:cubicBezTo>
                  <a:pt x="8142" y="7183"/>
                  <a:pt x="8071" y="7139"/>
                  <a:pt x="8064" y="7080"/>
                </a:cubicBezTo>
                <a:cubicBezTo>
                  <a:pt x="8039" y="6881"/>
                  <a:pt x="8071" y="6665"/>
                  <a:pt x="8096" y="6477"/>
                </a:cubicBezTo>
                <a:cubicBezTo>
                  <a:pt x="8109" y="6378"/>
                  <a:pt x="8116" y="6305"/>
                  <a:pt x="8160" y="6223"/>
                </a:cubicBezTo>
                <a:cubicBezTo>
                  <a:pt x="8197" y="6155"/>
                  <a:pt x="8236" y="6100"/>
                  <a:pt x="8287" y="6064"/>
                </a:cubicBezTo>
                <a:cubicBezTo>
                  <a:pt x="8360" y="6012"/>
                  <a:pt x="8433" y="6009"/>
                  <a:pt x="8509" y="6032"/>
                </a:cubicBezTo>
                <a:cubicBezTo>
                  <a:pt x="8612" y="6063"/>
                  <a:pt x="8603" y="6081"/>
                  <a:pt x="8668" y="6160"/>
                </a:cubicBezTo>
                <a:cubicBezTo>
                  <a:pt x="8726" y="6230"/>
                  <a:pt x="8803" y="6381"/>
                  <a:pt x="8795" y="6477"/>
                </a:cubicBezTo>
                <a:cubicBezTo>
                  <a:pt x="8787" y="6572"/>
                  <a:pt x="8767" y="6708"/>
                  <a:pt x="8731" y="6794"/>
                </a:cubicBezTo>
                <a:cubicBezTo>
                  <a:pt x="8693" y="6885"/>
                  <a:pt x="8624" y="6989"/>
                  <a:pt x="8541" y="7048"/>
                </a:cubicBezTo>
                <a:cubicBezTo>
                  <a:pt x="8449" y="7113"/>
                  <a:pt x="8388" y="7143"/>
                  <a:pt x="8287" y="7176"/>
                </a:cubicBezTo>
                <a:cubicBezTo>
                  <a:pt x="8187" y="7209"/>
                  <a:pt x="8161" y="7217"/>
                  <a:pt x="8064" y="7176"/>
                </a:cubicBezTo>
                <a:cubicBezTo>
                  <a:pt x="8017" y="7156"/>
                  <a:pt x="7985" y="7147"/>
                  <a:pt x="8001" y="7080"/>
                </a:cubicBezTo>
                <a:cubicBezTo>
                  <a:pt x="8033" y="7017"/>
                  <a:pt x="8044" y="6996"/>
                  <a:pt x="8064" y="6953"/>
                </a:cubicBezTo>
              </a:path>
              <a:path w="10541" h="2096">
                <a:moveTo>
                  <a:pt x="9842" y="5207"/>
                </a:moveTo>
                <a:cubicBezTo>
                  <a:pt x="9832" y="5196"/>
                  <a:pt x="9821" y="5186"/>
                  <a:pt x="9811" y="5175"/>
                </a:cubicBezTo>
                <a:cubicBezTo>
                  <a:pt x="9811" y="5411"/>
                  <a:pt x="9817" y="5648"/>
                  <a:pt x="9779" y="5874"/>
                </a:cubicBezTo>
                <a:cubicBezTo>
                  <a:pt x="9773" y="5912"/>
                  <a:pt x="9779" y="5962"/>
                  <a:pt x="9779" y="6001"/>
                </a:cubicBezTo>
              </a:path>
              <a:path w="10541" h="2096">
                <a:moveTo>
                  <a:pt x="9462" y="5652"/>
                </a:moveTo>
                <a:cubicBezTo>
                  <a:pt x="9376" y="5652"/>
                  <a:pt x="9511" y="5652"/>
                  <a:pt x="9525" y="5652"/>
                </a:cubicBezTo>
                <a:cubicBezTo>
                  <a:pt x="9630" y="5652"/>
                  <a:pt x="9708" y="5625"/>
                  <a:pt x="9811" y="5620"/>
                </a:cubicBezTo>
                <a:cubicBezTo>
                  <a:pt x="9927" y="5614"/>
                  <a:pt x="10044" y="5620"/>
                  <a:pt x="10160" y="5620"/>
                </a:cubicBezTo>
              </a:path>
              <a:path w="10541" h="2096">
                <a:moveTo>
                  <a:pt x="9239" y="6509"/>
                </a:moveTo>
                <a:cubicBezTo>
                  <a:pt x="9208" y="6509"/>
                  <a:pt x="9198" y="6509"/>
                  <a:pt x="9208" y="6540"/>
                </a:cubicBezTo>
                <a:cubicBezTo>
                  <a:pt x="9284" y="6540"/>
                  <a:pt x="9327" y="6521"/>
                  <a:pt x="9398" y="6509"/>
                </a:cubicBezTo>
                <a:cubicBezTo>
                  <a:pt x="9566" y="6480"/>
                  <a:pt x="9822" y="6491"/>
                  <a:pt x="9970" y="6540"/>
                </a:cubicBezTo>
                <a:cubicBezTo>
                  <a:pt x="10024" y="6558"/>
                  <a:pt x="10012" y="6533"/>
                  <a:pt x="10065" y="6572"/>
                </a:cubicBezTo>
              </a:path>
              <a:path w="10541" h="2096">
                <a:moveTo>
                  <a:pt x="10668" y="5874"/>
                </a:moveTo>
                <a:cubicBezTo>
                  <a:pt x="10668" y="6203"/>
                  <a:pt x="10679" y="6508"/>
                  <a:pt x="10732" y="6826"/>
                </a:cubicBezTo>
                <a:cubicBezTo>
                  <a:pt x="10745" y="6903"/>
                  <a:pt x="10748" y="6973"/>
                  <a:pt x="10763" y="7048"/>
                </a:cubicBezTo>
                <a:cubicBezTo>
                  <a:pt x="10769" y="6929"/>
                  <a:pt x="10773" y="6815"/>
                  <a:pt x="10795" y="6699"/>
                </a:cubicBezTo>
                <a:cubicBezTo>
                  <a:pt x="10827" y="6528"/>
                  <a:pt x="10851" y="6362"/>
                  <a:pt x="10890" y="6191"/>
                </a:cubicBezTo>
                <a:cubicBezTo>
                  <a:pt x="10925" y="6041"/>
                  <a:pt x="10958" y="5894"/>
                  <a:pt x="10986" y="5747"/>
                </a:cubicBezTo>
                <a:cubicBezTo>
                  <a:pt x="11004" y="5650"/>
                  <a:pt x="11011" y="5561"/>
                  <a:pt x="11017" y="5461"/>
                </a:cubicBezTo>
                <a:cubicBezTo>
                  <a:pt x="11022" y="5381"/>
                  <a:pt x="11015" y="5337"/>
                  <a:pt x="11049" y="5270"/>
                </a:cubicBezTo>
                <a:cubicBezTo>
                  <a:pt x="11077" y="5215"/>
                  <a:pt x="11083" y="5199"/>
                  <a:pt x="11144" y="5175"/>
                </a:cubicBezTo>
                <a:cubicBezTo>
                  <a:pt x="11224" y="5143"/>
                  <a:pt x="11338" y="5204"/>
                  <a:pt x="11398" y="5207"/>
                </a:cubicBezTo>
                <a:cubicBezTo>
                  <a:pt x="12122" y="5249"/>
                  <a:pt x="12873" y="5209"/>
                  <a:pt x="13589" y="5175"/>
                </a:cubicBezTo>
                <a:cubicBezTo>
                  <a:pt x="13950" y="5158"/>
                  <a:pt x="14315" y="5190"/>
                  <a:pt x="14668" y="5207"/>
                </a:cubicBezTo>
                <a:cubicBezTo>
                  <a:pt x="15101" y="5228"/>
                  <a:pt x="15549" y="5203"/>
                  <a:pt x="15970" y="5175"/>
                </a:cubicBezTo>
                <a:cubicBezTo>
                  <a:pt x="16100" y="5166"/>
                  <a:pt x="16224" y="5152"/>
                  <a:pt x="16351" y="5144"/>
                </a:cubicBezTo>
                <a:cubicBezTo>
                  <a:pt x="16636" y="5125"/>
                  <a:pt x="16943" y="5159"/>
                  <a:pt x="17208" y="5112"/>
                </a:cubicBezTo>
              </a:path>
              <a:path w="10541" h="2096">
                <a:moveTo>
                  <a:pt x="11557" y="5620"/>
                </a:moveTo>
                <a:cubicBezTo>
                  <a:pt x="11494" y="5641"/>
                  <a:pt x="11525" y="5737"/>
                  <a:pt x="11525" y="5810"/>
                </a:cubicBezTo>
                <a:cubicBezTo>
                  <a:pt x="11525" y="5926"/>
                  <a:pt x="11553" y="6016"/>
                  <a:pt x="11557" y="6128"/>
                </a:cubicBezTo>
                <a:cubicBezTo>
                  <a:pt x="11562" y="6252"/>
                  <a:pt x="11531" y="6355"/>
                  <a:pt x="11525" y="6477"/>
                </a:cubicBezTo>
                <a:cubicBezTo>
                  <a:pt x="11520" y="6593"/>
                  <a:pt x="11525" y="6710"/>
                  <a:pt x="11525" y="6826"/>
                </a:cubicBezTo>
                <a:cubicBezTo>
                  <a:pt x="11525" y="6900"/>
                  <a:pt x="11497" y="6776"/>
                  <a:pt x="11494" y="6763"/>
                </a:cubicBezTo>
                <a:cubicBezTo>
                  <a:pt x="11473" y="6663"/>
                  <a:pt x="11512" y="6571"/>
                  <a:pt x="11525" y="6477"/>
                </a:cubicBezTo>
                <a:cubicBezTo>
                  <a:pt x="11538" y="6386"/>
                  <a:pt x="11555" y="6351"/>
                  <a:pt x="11620" y="6286"/>
                </a:cubicBezTo>
                <a:cubicBezTo>
                  <a:pt x="11698" y="6208"/>
                  <a:pt x="11679" y="6230"/>
                  <a:pt x="11779" y="6255"/>
                </a:cubicBezTo>
                <a:cubicBezTo>
                  <a:pt x="11848" y="6272"/>
                  <a:pt x="11917" y="6337"/>
                  <a:pt x="11938" y="6414"/>
                </a:cubicBezTo>
                <a:cubicBezTo>
                  <a:pt x="11956" y="6478"/>
                  <a:pt x="11983" y="6639"/>
                  <a:pt x="11970" y="6699"/>
                </a:cubicBezTo>
                <a:cubicBezTo>
                  <a:pt x="11956" y="6765"/>
                  <a:pt x="11928" y="6903"/>
                  <a:pt x="11874" y="6953"/>
                </a:cubicBezTo>
                <a:cubicBezTo>
                  <a:pt x="11814" y="7009"/>
                  <a:pt x="11731" y="7044"/>
                  <a:pt x="11652" y="7048"/>
                </a:cubicBezTo>
                <a:cubicBezTo>
                  <a:pt x="11593" y="7051"/>
                  <a:pt x="11477" y="7068"/>
                  <a:pt x="11430" y="7017"/>
                </a:cubicBezTo>
                <a:cubicBezTo>
                  <a:pt x="11387" y="6970"/>
                  <a:pt x="11398" y="6915"/>
                  <a:pt x="11398" y="6858"/>
                </a:cubicBezTo>
              </a:path>
              <a:path w="10541" h="2096">
                <a:moveTo>
                  <a:pt x="12128" y="5842"/>
                </a:moveTo>
                <a:cubicBezTo>
                  <a:pt x="12128" y="5831"/>
                  <a:pt x="12128" y="5821"/>
                  <a:pt x="12128" y="5810"/>
                </a:cubicBezTo>
              </a:path>
              <a:path w="10541" h="2096">
                <a:moveTo>
                  <a:pt x="12128" y="5842"/>
                </a:moveTo>
                <a:cubicBezTo>
                  <a:pt x="12139" y="5800"/>
                  <a:pt x="12149" y="5757"/>
                  <a:pt x="12160" y="5715"/>
                </a:cubicBezTo>
              </a:path>
              <a:path w="10541" h="2096">
                <a:moveTo>
                  <a:pt x="12160" y="5715"/>
                </a:moveTo>
                <a:cubicBezTo>
                  <a:pt x="12172" y="5678"/>
                  <a:pt x="12204" y="5658"/>
                  <a:pt x="12256" y="5652"/>
                </a:cubicBezTo>
                <a:cubicBezTo>
                  <a:pt x="12309" y="5646"/>
                  <a:pt x="12348" y="5701"/>
                  <a:pt x="12351" y="5747"/>
                </a:cubicBezTo>
                <a:cubicBezTo>
                  <a:pt x="12356" y="5812"/>
                  <a:pt x="12344" y="5915"/>
                  <a:pt x="12319" y="5969"/>
                </a:cubicBezTo>
                <a:cubicBezTo>
                  <a:pt x="12292" y="6027"/>
                  <a:pt x="12249" y="6095"/>
                  <a:pt x="12224" y="6128"/>
                </a:cubicBezTo>
                <a:cubicBezTo>
                  <a:pt x="12213" y="6139"/>
                  <a:pt x="12203" y="6149"/>
                  <a:pt x="12192" y="6160"/>
                </a:cubicBezTo>
                <a:cubicBezTo>
                  <a:pt x="12232" y="6130"/>
                  <a:pt x="12269" y="6102"/>
                  <a:pt x="12319" y="6096"/>
                </a:cubicBezTo>
                <a:cubicBezTo>
                  <a:pt x="12390" y="6088"/>
                  <a:pt x="12417" y="6113"/>
                  <a:pt x="12446" y="6128"/>
                </a:cubicBezTo>
                <a:cubicBezTo>
                  <a:pt x="12457" y="6128"/>
                  <a:pt x="12467" y="6128"/>
                  <a:pt x="12478" y="6128"/>
                </a:cubicBezTo>
              </a:path>
              <a:path w="10541" h="2096">
                <a:moveTo>
                  <a:pt x="13144" y="6445"/>
                </a:moveTo>
                <a:cubicBezTo>
                  <a:pt x="13134" y="6445"/>
                  <a:pt x="13123" y="6445"/>
                  <a:pt x="13113" y="6445"/>
                </a:cubicBezTo>
                <a:cubicBezTo>
                  <a:pt x="13261" y="6445"/>
                  <a:pt x="13409" y="6445"/>
                  <a:pt x="13557" y="6445"/>
                </a:cubicBezTo>
              </a:path>
              <a:path w="10541" h="2096">
                <a:moveTo>
                  <a:pt x="13811" y="5906"/>
                </a:moveTo>
                <a:cubicBezTo>
                  <a:pt x="13822" y="5906"/>
                  <a:pt x="13858" y="5925"/>
                  <a:pt x="13843" y="6001"/>
                </a:cubicBezTo>
                <a:cubicBezTo>
                  <a:pt x="13821" y="6112"/>
                  <a:pt x="13811" y="6203"/>
                  <a:pt x="13811" y="6318"/>
                </a:cubicBezTo>
                <a:cubicBezTo>
                  <a:pt x="13811" y="6393"/>
                  <a:pt x="13787" y="6438"/>
                  <a:pt x="13780" y="6509"/>
                </a:cubicBezTo>
                <a:cubicBezTo>
                  <a:pt x="13773" y="6583"/>
                  <a:pt x="13790" y="6572"/>
                  <a:pt x="13811" y="6509"/>
                </a:cubicBezTo>
                <a:cubicBezTo>
                  <a:pt x="13820" y="6480"/>
                  <a:pt x="13865" y="6459"/>
                  <a:pt x="13906" y="6445"/>
                </a:cubicBezTo>
                <a:cubicBezTo>
                  <a:pt x="13978" y="6421"/>
                  <a:pt x="14043" y="6465"/>
                  <a:pt x="14097" y="6477"/>
                </a:cubicBezTo>
                <a:cubicBezTo>
                  <a:pt x="14181" y="6495"/>
                  <a:pt x="14254" y="6467"/>
                  <a:pt x="14319" y="6445"/>
                </a:cubicBezTo>
                <a:cubicBezTo>
                  <a:pt x="14373" y="6427"/>
                  <a:pt x="14372" y="6407"/>
                  <a:pt x="14383" y="6350"/>
                </a:cubicBezTo>
              </a:path>
              <a:path w="10541" h="2096">
                <a:moveTo>
                  <a:pt x="14256" y="5778"/>
                </a:moveTo>
                <a:cubicBezTo>
                  <a:pt x="14256" y="5861"/>
                  <a:pt x="14236" y="5920"/>
                  <a:pt x="14224" y="6001"/>
                </a:cubicBezTo>
                <a:cubicBezTo>
                  <a:pt x="14203" y="6145"/>
                  <a:pt x="14207" y="6303"/>
                  <a:pt x="14192" y="6445"/>
                </a:cubicBezTo>
                <a:cubicBezTo>
                  <a:pt x="14177" y="6584"/>
                  <a:pt x="14143" y="6718"/>
                  <a:pt x="14129" y="6858"/>
                </a:cubicBezTo>
                <a:cubicBezTo>
                  <a:pt x="14120" y="6951"/>
                  <a:pt x="14129" y="7050"/>
                  <a:pt x="14129" y="7144"/>
                </a:cubicBezTo>
              </a:path>
              <a:path w="10541" h="2096">
                <a:moveTo>
                  <a:pt x="15113" y="6445"/>
                </a:moveTo>
                <a:cubicBezTo>
                  <a:pt x="15113" y="6364"/>
                  <a:pt x="15128" y="6291"/>
                  <a:pt x="15081" y="6255"/>
                </a:cubicBezTo>
                <a:cubicBezTo>
                  <a:pt x="15010" y="6201"/>
                  <a:pt x="15033" y="6177"/>
                  <a:pt x="14954" y="6223"/>
                </a:cubicBezTo>
                <a:cubicBezTo>
                  <a:pt x="14855" y="6280"/>
                  <a:pt x="14794" y="6345"/>
                  <a:pt x="14732" y="6445"/>
                </a:cubicBezTo>
                <a:cubicBezTo>
                  <a:pt x="14665" y="6553"/>
                  <a:pt x="14690" y="6682"/>
                  <a:pt x="14700" y="6794"/>
                </a:cubicBezTo>
                <a:cubicBezTo>
                  <a:pt x="14708" y="6886"/>
                  <a:pt x="14735" y="6948"/>
                  <a:pt x="14827" y="6985"/>
                </a:cubicBezTo>
                <a:cubicBezTo>
                  <a:pt x="14888" y="7009"/>
                  <a:pt x="14953" y="6973"/>
                  <a:pt x="14986" y="6922"/>
                </a:cubicBezTo>
                <a:cubicBezTo>
                  <a:pt x="15055" y="6815"/>
                  <a:pt x="15050" y="6717"/>
                  <a:pt x="15081" y="6604"/>
                </a:cubicBezTo>
                <a:cubicBezTo>
                  <a:pt x="15103" y="6522"/>
                  <a:pt x="15113" y="6470"/>
                  <a:pt x="15113" y="6382"/>
                </a:cubicBezTo>
                <a:cubicBezTo>
                  <a:pt x="15096" y="6484"/>
                  <a:pt x="15081" y="6562"/>
                  <a:pt x="15081" y="6668"/>
                </a:cubicBezTo>
                <a:cubicBezTo>
                  <a:pt x="15081" y="6766"/>
                  <a:pt x="15092" y="6831"/>
                  <a:pt x="15113" y="6922"/>
                </a:cubicBezTo>
                <a:cubicBezTo>
                  <a:pt x="15128" y="6985"/>
                  <a:pt x="15145" y="6985"/>
                  <a:pt x="15208" y="6985"/>
                </a:cubicBezTo>
              </a:path>
              <a:path w="10541" h="2096">
                <a:moveTo>
                  <a:pt x="15843" y="6286"/>
                </a:moveTo>
                <a:cubicBezTo>
                  <a:pt x="15843" y="6226"/>
                  <a:pt x="15840" y="6208"/>
                  <a:pt x="15812" y="6160"/>
                </a:cubicBezTo>
                <a:cubicBezTo>
                  <a:pt x="15747" y="6173"/>
                  <a:pt x="15674" y="6211"/>
                  <a:pt x="15621" y="6255"/>
                </a:cubicBezTo>
                <a:cubicBezTo>
                  <a:pt x="15545" y="6318"/>
                  <a:pt x="15477" y="6472"/>
                  <a:pt x="15462" y="6572"/>
                </a:cubicBezTo>
                <a:cubicBezTo>
                  <a:pt x="15449" y="6653"/>
                  <a:pt x="15499" y="6830"/>
                  <a:pt x="15558" y="6890"/>
                </a:cubicBezTo>
                <a:cubicBezTo>
                  <a:pt x="15582" y="6914"/>
                  <a:pt x="15743" y="6989"/>
                  <a:pt x="15780" y="6985"/>
                </a:cubicBezTo>
                <a:cubicBezTo>
                  <a:pt x="15831" y="6979"/>
                  <a:pt x="15898" y="6946"/>
                  <a:pt x="15938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8"/>
          <p:cNvSpPr/>
          <p:nvPr/>
        </p:nvSpPr>
        <p:spPr>
          <a:xfrm>
            <a:off x="525600" y="2674800"/>
            <a:ext cx="903240" cy="457200"/>
          </a:xfrm>
          <a:custGeom>
            <a:avLst/>
            <a:gdLst/>
            <a:ahLst/>
            <a:rect l="l" t="t" r="r" b="b"/>
            <a:pathLst>
              <a:path w="2510" h="1271">
                <a:moveTo>
                  <a:pt x="1619" y="7430"/>
                </a:moveTo>
                <a:cubicBezTo>
                  <a:pt x="1564" y="7448"/>
                  <a:pt x="1573" y="7587"/>
                  <a:pt x="1588" y="7652"/>
                </a:cubicBezTo>
                <a:cubicBezTo>
                  <a:pt x="1614" y="7770"/>
                  <a:pt x="1619" y="7875"/>
                  <a:pt x="1619" y="8001"/>
                </a:cubicBezTo>
                <a:cubicBezTo>
                  <a:pt x="1619" y="8124"/>
                  <a:pt x="1593" y="8231"/>
                  <a:pt x="1588" y="8350"/>
                </a:cubicBezTo>
                <a:cubicBezTo>
                  <a:pt x="1585" y="8413"/>
                  <a:pt x="1588" y="8478"/>
                  <a:pt x="1588" y="8541"/>
                </a:cubicBezTo>
                <a:cubicBezTo>
                  <a:pt x="1588" y="8456"/>
                  <a:pt x="1606" y="8396"/>
                  <a:pt x="1619" y="8318"/>
                </a:cubicBezTo>
                <a:cubicBezTo>
                  <a:pt x="1636" y="8214"/>
                  <a:pt x="1680" y="8149"/>
                  <a:pt x="1746" y="8064"/>
                </a:cubicBezTo>
                <a:cubicBezTo>
                  <a:pt x="1781" y="8018"/>
                  <a:pt x="1844" y="7970"/>
                  <a:pt x="1905" y="8001"/>
                </a:cubicBezTo>
                <a:cubicBezTo>
                  <a:pt x="1984" y="8041"/>
                  <a:pt x="1968" y="8119"/>
                  <a:pt x="1968" y="8192"/>
                </a:cubicBezTo>
                <a:cubicBezTo>
                  <a:pt x="1968" y="8294"/>
                  <a:pt x="1977" y="8382"/>
                  <a:pt x="1937" y="8477"/>
                </a:cubicBezTo>
                <a:cubicBezTo>
                  <a:pt x="1893" y="8581"/>
                  <a:pt x="1861" y="8605"/>
                  <a:pt x="1778" y="8668"/>
                </a:cubicBezTo>
                <a:cubicBezTo>
                  <a:pt x="1714" y="8716"/>
                  <a:pt x="1639" y="8700"/>
                  <a:pt x="1556" y="8700"/>
                </a:cubicBezTo>
                <a:cubicBezTo>
                  <a:pt x="1524" y="8700"/>
                  <a:pt x="1453" y="8635"/>
                  <a:pt x="1460" y="8604"/>
                </a:cubicBezTo>
                <a:cubicBezTo>
                  <a:pt x="1498" y="8566"/>
                  <a:pt x="1512" y="8548"/>
                  <a:pt x="1524" y="8509"/>
                </a:cubicBezTo>
              </a:path>
              <a:path w="2510" h="1271">
                <a:moveTo>
                  <a:pt x="2254" y="8064"/>
                </a:moveTo>
                <a:cubicBezTo>
                  <a:pt x="2317" y="8064"/>
                  <a:pt x="2330" y="8050"/>
                  <a:pt x="2381" y="8033"/>
                </a:cubicBezTo>
                <a:cubicBezTo>
                  <a:pt x="2444" y="8013"/>
                  <a:pt x="2525" y="8030"/>
                  <a:pt x="2572" y="8064"/>
                </a:cubicBezTo>
              </a:path>
              <a:path w="2510" h="1271">
                <a:moveTo>
                  <a:pt x="2318" y="8318"/>
                </a:moveTo>
                <a:cubicBezTo>
                  <a:pt x="2373" y="8318"/>
                  <a:pt x="2427" y="8307"/>
                  <a:pt x="2476" y="8287"/>
                </a:cubicBezTo>
                <a:cubicBezTo>
                  <a:pt x="2528" y="8261"/>
                  <a:pt x="2536" y="8250"/>
                  <a:pt x="2572" y="8255"/>
                </a:cubicBezTo>
              </a:path>
              <a:path w="2510" h="1271">
                <a:moveTo>
                  <a:pt x="2889" y="7747"/>
                </a:moveTo>
                <a:cubicBezTo>
                  <a:pt x="2959" y="7800"/>
                  <a:pt x="2976" y="7769"/>
                  <a:pt x="3048" y="7747"/>
                </a:cubicBezTo>
                <a:cubicBezTo>
                  <a:pt x="3118" y="7726"/>
                  <a:pt x="3228" y="7747"/>
                  <a:pt x="3302" y="7747"/>
                </a:cubicBezTo>
              </a:path>
              <a:path w="2510" h="1271">
                <a:moveTo>
                  <a:pt x="3524" y="7525"/>
                </a:moveTo>
                <a:cubicBezTo>
                  <a:pt x="3572" y="7541"/>
                  <a:pt x="3556" y="7563"/>
                  <a:pt x="3556" y="7620"/>
                </a:cubicBezTo>
                <a:cubicBezTo>
                  <a:pt x="3556" y="7693"/>
                  <a:pt x="3524" y="7761"/>
                  <a:pt x="3524" y="7842"/>
                </a:cubicBezTo>
                <a:cubicBezTo>
                  <a:pt x="3524" y="7907"/>
                  <a:pt x="3492" y="7962"/>
                  <a:pt x="3492" y="8033"/>
                </a:cubicBezTo>
                <a:cubicBezTo>
                  <a:pt x="3492" y="8065"/>
                  <a:pt x="3492" y="8096"/>
                  <a:pt x="3492" y="8128"/>
                </a:cubicBezTo>
                <a:cubicBezTo>
                  <a:pt x="3564" y="8128"/>
                  <a:pt x="3535" y="8103"/>
                  <a:pt x="3588" y="8096"/>
                </a:cubicBezTo>
                <a:cubicBezTo>
                  <a:pt x="3645" y="8089"/>
                  <a:pt x="3677" y="8064"/>
                  <a:pt x="3746" y="8064"/>
                </a:cubicBezTo>
                <a:cubicBezTo>
                  <a:pt x="3827" y="8064"/>
                  <a:pt x="3902" y="8080"/>
                  <a:pt x="3937" y="8033"/>
                </a:cubicBezTo>
                <a:cubicBezTo>
                  <a:pt x="3948" y="8022"/>
                  <a:pt x="3958" y="8012"/>
                  <a:pt x="3969" y="8001"/>
                </a:cubicBezTo>
              </a:path>
              <a:path w="2510" h="1271">
                <a:moveTo>
                  <a:pt x="3937" y="7493"/>
                </a:moveTo>
                <a:cubicBezTo>
                  <a:pt x="3937" y="7585"/>
                  <a:pt x="3916" y="7663"/>
                  <a:pt x="3905" y="7747"/>
                </a:cubicBezTo>
                <a:cubicBezTo>
                  <a:pt x="3888" y="7874"/>
                  <a:pt x="3898" y="8002"/>
                  <a:pt x="3874" y="8128"/>
                </a:cubicBezTo>
                <a:cubicBezTo>
                  <a:pt x="3849" y="8262"/>
                  <a:pt x="3872" y="8412"/>
                  <a:pt x="3842" y="8541"/>
                </a:cubicBezTo>
                <a:cubicBezTo>
                  <a:pt x="3831" y="8562"/>
                  <a:pt x="3821" y="8583"/>
                  <a:pt x="3810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9"/>
          <p:cNvSpPr/>
          <p:nvPr/>
        </p:nvSpPr>
        <p:spPr>
          <a:xfrm>
            <a:off x="3908520" y="2743200"/>
            <a:ext cx="595080" cy="353880"/>
          </a:xfrm>
          <a:custGeom>
            <a:avLst/>
            <a:gdLst/>
            <a:ahLst/>
            <a:rect l="l" t="t" r="r" b="b"/>
            <a:pathLst>
              <a:path w="1653" h="985">
                <a:moveTo>
                  <a:pt x="11049" y="7842"/>
                </a:moveTo>
                <a:cubicBezTo>
                  <a:pt x="11040" y="7815"/>
                  <a:pt x="10991" y="7793"/>
                  <a:pt x="11017" y="7747"/>
                </a:cubicBezTo>
                <a:cubicBezTo>
                  <a:pt x="11024" y="7735"/>
                  <a:pt x="11130" y="7656"/>
                  <a:pt x="11144" y="7652"/>
                </a:cubicBezTo>
                <a:cubicBezTo>
                  <a:pt x="11198" y="7637"/>
                  <a:pt x="11322" y="7604"/>
                  <a:pt x="11366" y="7652"/>
                </a:cubicBezTo>
                <a:cubicBezTo>
                  <a:pt x="11448" y="7742"/>
                  <a:pt x="11415" y="7774"/>
                  <a:pt x="11398" y="7874"/>
                </a:cubicBezTo>
                <a:cubicBezTo>
                  <a:pt x="11381" y="7974"/>
                  <a:pt x="11330" y="8077"/>
                  <a:pt x="11271" y="8160"/>
                </a:cubicBezTo>
                <a:cubicBezTo>
                  <a:pt x="11206" y="8251"/>
                  <a:pt x="11115" y="8323"/>
                  <a:pt x="11049" y="8414"/>
                </a:cubicBezTo>
                <a:cubicBezTo>
                  <a:pt x="11013" y="8464"/>
                  <a:pt x="10953" y="8545"/>
                  <a:pt x="10890" y="8572"/>
                </a:cubicBezTo>
                <a:cubicBezTo>
                  <a:pt x="10879" y="8572"/>
                  <a:pt x="10869" y="8572"/>
                  <a:pt x="10858" y="8572"/>
                </a:cubicBezTo>
                <a:cubicBezTo>
                  <a:pt x="10888" y="8562"/>
                  <a:pt x="10920" y="8532"/>
                  <a:pt x="10954" y="8509"/>
                </a:cubicBezTo>
                <a:cubicBezTo>
                  <a:pt x="11012" y="8470"/>
                  <a:pt x="11040" y="8446"/>
                  <a:pt x="11112" y="8446"/>
                </a:cubicBezTo>
                <a:cubicBezTo>
                  <a:pt x="11179" y="8446"/>
                  <a:pt x="11192" y="8460"/>
                  <a:pt x="11240" y="8509"/>
                </a:cubicBezTo>
                <a:cubicBezTo>
                  <a:pt x="11292" y="8562"/>
                  <a:pt x="11316" y="8544"/>
                  <a:pt x="11366" y="8572"/>
                </a:cubicBezTo>
                <a:cubicBezTo>
                  <a:pt x="11395" y="8601"/>
                  <a:pt x="11401" y="8612"/>
                  <a:pt x="11430" y="8604"/>
                </a:cubicBezTo>
              </a:path>
              <a:path w="1653" h="985">
                <a:moveTo>
                  <a:pt x="12097" y="8192"/>
                </a:moveTo>
                <a:cubicBezTo>
                  <a:pt x="12097" y="8133"/>
                  <a:pt x="12095" y="8077"/>
                  <a:pt x="12065" y="8033"/>
                </a:cubicBezTo>
                <a:cubicBezTo>
                  <a:pt x="12042" y="7999"/>
                  <a:pt x="11975" y="7973"/>
                  <a:pt x="11938" y="7969"/>
                </a:cubicBezTo>
                <a:cubicBezTo>
                  <a:pt x="11903" y="7965"/>
                  <a:pt x="11772" y="8038"/>
                  <a:pt x="11748" y="8064"/>
                </a:cubicBezTo>
                <a:cubicBezTo>
                  <a:pt x="11708" y="8108"/>
                  <a:pt x="11618" y="8321"/>
                  <a:pt x="11620" y="8382"/>
                </a:cubicBezTo>
                <a:cubicBezTo>
                  <a:pt x="11623" y="8466"/>
                  <a:pt x="11660" y="8581"/>
                  <a:pt x="11748" y="8604"/>
                </a:cubicBezTo>
                <a:cubicBezTo>
                  <a:pt x="11814" y="8622"/>
                  <a:pt x="11914" y="8609"/>
                  <a:pt x="11970" y="8572"/>
                </a:cubicBezTo>
                <a:cubicBezTo>
                  <a:pt x="12047" y="8521"/>
                  <a:pt x="12045" y="8459"/>
                  <a:pt x="12065" y="8382"/>
                </a:cubicBezTo>
                <a:cubicBezTo>
                  <a:pt x="12092" y="8278"/>
                  <a:pt x="12097" y="8203"/>
                  <a:pt x="12097" y="8096"/>
                </a:cubicBezTo>
                <a:cubicBezTo>
                  <a:pt x="12097" y="8179"/>
                  <a:pt x="12069" y="8237"/>
                  <a:pt x="12065" y="8318"/>
                </a:cubicBezTo>
                <a:cubicBezTo>
                  <a:pt x="12060" y="8427"/>
                  <a:pt x="12063" y="8486"/>
                  <a:pt x="12128" y="8572"/>
                </a:cubicBezTo>
                <a:cubicBezTo>
                  <a:pt x="12163" y="8619"/>
                  <a:pt x="12266" y="8619"/>
                  <a:pt x="12319" y="8604"/>
                </a:cubicBezTo>
                <a:cubicBezTo>
                  <a:pt x="12398" y="8582"/>
                  <a:pt x="12454" y="8501"/>
                  <a:pt x="12510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0"/>
          <p:cNvSpPr/>
          <p:nvPr/>
        </p:nvSpPr>
        <p:spPr>
          <a:xfrm>
            <a:off x="399960" y="3303720"/>
            <a:ext cx="1270080" cy="434880"/>
          </a:xfrm>
          <a:custGeom>
            <a:avLst/>
            <a:gdLst/>
            <a:ahLst/>
            <a:rect l="l" t="t" r="r" b="b"/>
            <a:pathLst>
              <a:path w="3526" h="1207">
                <a:moveTo>
                  <a:pt x="1111" y="9874"/>
                </a:moveTo>
                <a:lnTo>
                  <a:pt x="1111" y="9874"/>
                </a:lnTo>
              </a:path>
              <a:path w="3526" h="1207">
                <a:moveTo>
                  <a:pt x="1111" y="9874"/>
                </a:moveTo>
                <a:cubicBezTo>
                  <a:pt x="1122" y="9874"/>
                  <a:pt x="1132" y="9874"/>
                  <a:pt x="1143" y="9874"/>
                </a:cubicBezTo>
              </a:path>
              <a:path w="3526" h="1207">
                <a:moveTo>
                  <a:pt x="1143" y="9874"/>
                </a:moveTo>
                <a:cubicBezTo>
                  <a:pt x="1132" y="9874"/>
                  <a:pt x="1122" y="9874"/>
                  <a:pt x="1111" y="9874"/>
                </a:cubicBezTo>
                <a:cubicBezTo>
                  <a:pt x="1218" y="9874"/>
                  <a:pt x="1305" y="9878"/>
                  <a:pt x="1397" y="9906"/>
                </a:cubicBezTo>
                <a:cubicBezTo>
                  <a:pt x="1442" y="9920"/>
                  <a:pt x="1508" y="9906"/>
                  <a:pt x="1556" y="9906"/>
                </a:cubicBezTo>
              </a:path>
              <a:path w="3526" h="1207">
                <a:moveTo>
                  <a:pt x="1714" y="9271"/>
                </a:moveTo>
                <a:cubicBezTo>
                  <a:pt x="1714" y="9440"/>
                  <a:pt x="1714" y="9885"/>
                  <a:pt x="1714" y="9716"/>
                </a:cubicBezTo>
                <a:cubicBezTo>
                  <a:pt x="1714" y="9655"/>
                  <a:pt x="1714" y="9576"/>
                  <a:pt x="1683" y="9525"/>
                </a:cubicBezTo>
                <a:cubicBezTo>
                  <a:pt x="1653" y="9475"/>
                  <a:pt x="1645" y="9459"/>
                  <a:pt x="1619" y="9398"/>
                </a:cubicBezTo>
                <a:cubicBezTo>
                  <a:pt x="1530" y="9398"/>
                  <a:pt x="1558" y="9446"/>
                  <a:pt x="1492" y="9493"/>
                </a:cubicBezTo>
                <a:cubicBezTo>
                  <a:pt x="1408" y="9553"/>
                  <a:pt x="1374" y="9581"/>
                  <a:pt x="1334" y="9684"/>
                </a:cubicBezTo>
                <a:cubicBezTo>
                  <a:pt x="1293" y="9790"/>
                  <a:pt x="1270" y="9857"/>
                  <a:pt x="1270" y="9970"/>
                </a:cubicBezTo>
                <a:cubicBezTo>
                  <a:pt x="1270" y="10089"/>
                  <a:pt x="1315" y="10098"/>
                  <a:pt x="1397" y="10160"/>
                </a:cubicBezTo>
                <a:cubicBezTo>
                  <a:pt x="1436" y="10189"/>
                  <a:pt x="1533" y="10215"/>
                  <a:pt x="1588" y="10192"/>
                </a:cubicBezTo>
                <a:cubicBezTo>
                  <a:pt x="1639" y="10170"/>
                  <a:pt x="1661" y="10099"/>
                  <a:pt x="1683" y="10065"/>
                </a:cubicBezTo>
                <a:cubicBezTo>
                  <a:pt x="1713" y="10019"/>
                  <a:pt x="1706" y="10014"/>
                  <a:pt x="1746" y="10001"/>
                </a:cubicBezTo>
              </a:path>
              <a:path w="3526" h="1207">
                <a:moveTo>
                  <a:pt x="2096" y="9684"/>
                </a:moveTo>
                <a:cubicBezTo>
                  <a:pt x="2149" y="9695"/>
                  <a:pt x="2226" y="9741"/>
                  <a:pt x="2286" y="9716"/>
                </a:cubicBezTo>
                <a:cubicBezTo>
                  <a:pt x="2360" y="9685"/>
                  <a:pt x="2418" y="9684"/>
                  <a:pt x="2508" y="9684"/>
                </a:cubicBezTo>
                <a:cubicBezTo>
                  <a:pt x="2540" y="9684"/>
                  <a:pt x="2551" y="9684"/>
                  <a:pt x="2572" y="9684"/>
                </a:cubicBezTo>
              </a:path>
              <a:path w="3526" h="1207">
                <a:moveTo>
                  <a:pt x="2191" y="9938"/>
                </a:moveTo>
                <a:cubicBezTo>
                  <a:pt x="2305" y="9938"/>
                  <a:pt x="2401" y="9924"/>
                  <a:pt x="2508" y="9906"/>
                </a:cubicBezTo>
                <a:cubicBezTo>
                  <a:pt x="2572" y="9906"/>
                  <a:pt x="2593" y="9906"/>
                  <a:pt x="2635" y="9906"/>
                </a:cubicBezTo>
              </a:path>
              <a:path w="3526" h="1207">
                <a:moveTo>
                  <a:pt x="2826" y="9557"/>
                </a:moveTo>
                <a:cubicBezTo>
                  <a:pt x="2886" y="9572"/>
                  <a:pt x="2941" y="9608"/>
                  <a:pt x="3016" y="9588"/>
                </a:cubicBezTo>
                <a:cubicBezTo>
                  <a:pt x="3121" y="9560"/>
                  <a:pt x="3226" y="9539"/>
                  <a:pt x="3334" y="9525"/>
                </a:cubicBezTo>
              </a:path>
              <a:path w="3526" h="1207">
                <a:moveTo>
                  <a:pt x="3524" y="9239"/>
                </a:moveTo>
                <a:cubicBezTo>
                  <a:pt x="3524" y="9297"/>
                  <a:pt x="3508" y="9344"/>
                  <a:pt x="3492" y="9398"/>
                </a:cubicBezTo>
                <a:cubicBezTo>
                  <a:pt x="3445" y="9559"/>
                  <a:pt x="3372" y="9706"/>
                  <a:pt x="3366" y="9874"/>
                </a:cubicBezTo>
                <a:cubicBezTo>
                  <a:pt x="3362" y="9988"/>
                  <a:pt x="3351" y="10073"/>
                  <a:pt x="3429" y="10160"/>
                </a:cubicBezTo>
                <a:cubicBezTo>
                  <a:pt x="3483" y="10220"/>
                  <a:pt x="3572" y="10246"/>
                  <a:pt x="3651" y="10224"/>
                </a:cubicBezTo>
                <a:cubicBezTo>
                  <a:pt x="3747" y="10197"/>
                  <a:pt x="3847" y="10112"/>
                  <a:pt x="3905" y="10033"/>
                </a:cubicBezTo>
                <a:cubicBezTo>
                  <a:pt x="3955" y="9964"/>
                  <a:pt x="3953" y="9872"/>
                  <a:pt x="3905" y="9811"/>
                </a:cubicBezTo>
                <a:cubicBezTo>
                  <a:pt x="3847" y="9738"/>
                  <a:pt x="3798" y="9727"/>
                  <a:pt x="3715" y="9779"/>
                </a:cubicBezTo>
                <a:cubicBezTo>
                  <a:pt x="3654" y="9817"/>
                  <a:pt x="3575" y="9860"/>
                  <a:pt x="3556" y="9938"/>
                </a:cubicBezTo>
                <a:cubicBezTo>
                  <a:pt x="3545" y="9983"/>
                  <a:pt x="3535" y="10133"/>
                  <a:pt x="3588" y="10160"/>
                </a:cubicBezTo>
                <a:cubicBezTo>
                  <a:pt x="3620" y="10160"/>
                  <a:pt x="3630" y="10160"/>
                  <a:pt x="3651" y="10160"/>
                </a:cubicBezTo>
              </a:path>
              <a:path w="3526" h="1207">
                <a:moveTo>
                  <a:pt x="4508" y="9620"/>
                </a:moveTo>
                <a:cubicBezTo>
                  <a:pt x="4559" y="9536"/>
                  <a:pt x="4545" y="9464"/>
                  <a:pt x="4508" y="9366"/>
                </a:cubicBezTo>
                <a:cubicBezTo>
                  <a:pt x="4473" y="9272"/>
                  <a:pt x="4370" y="9250"/>
                  <a:pt x="4286" y="9208"/>
                </a:cubicBezTo>
                <a:cubicBezTo>
                  <a:pt x="4214" y="9172"/>
                  <a:pt x="4126" y="9190"/>
                  <a:pt x="4064" y="9239"/>
                </a:cubicBezTo>
                <a:cubicBezTo>
                  <a:pt x="3997" y="9292"/>
                  <a:pt x="4046" y="9342"/>
                  <a:pt x="4064" y="9398"/>
                </a:cubicBezTo>
                <a:cubicBezTo>
                  <a:pt x="4107" y="9532"/>
                  <a:pt x="4155" y="9628"/>
                  <a:pt x="4223" y="9747"/>
                </a:cubicBezTo>
                <a:cubicBezTo>
                  <a:pt x="4302" y="9884"/>
                  <a:pt x="4311" y="9984"/>
                  <a:pt x="4350" y="10128"/>
                </a:cubicBezTo>
                <a:cubicBezTo>
                  <a:pt x="4379" y="10234"/>
                  <a:pt x="4379" y="10255"/>
                  <a:pt x="4350" y="10350"/>
                </a:cubicBezTo>
                <a:cubicBezTo>
                  <a:pt x="4350" y="10361"/>
                  <a:pt x="4350" y="10371"/>
                  <a:pt x="4350" y="10382"/>
                </a:cubicBezTo>
                <a:cubicBezTo>
                  <a:pt x="4282" y="10382"/>
                  <a:pt x="4271" y="10367"/>
                  <a:pt x="4223" y="10319"/>
                </a:cubicBezTo>
                <a:cubicBezTo>
                  <a:pt x="4153" y="10249"/>
                  <a:pt x="4159" y="10190"/>
                  <a:pt x="4159" y="10096"/>
                </a:cubicBezTo>
                <a:cubicBezTo>
                  <a:pt x="4159" y="9963"/>
                  <a:pt x="4182" y="9949"/>
                  <a:pt x="4254" y="9842"/>
                </a:cubicBezTo>
                <a:cubicBezTo>
                  <a:pt x="4326" y="9735"/>
                  <a:pt x="4430" y="9688"/>
                  <a:pt x="4508" y="9588"/>
                </a:cubicBezTo>
                <a:cubicBezTo>
                  <a:pt x="4565" y="9515"/>
                  <a:pt x="4598" y="9450"/>
                  <a:pt x="4636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1"/>
          <p:cNvSpPr/>
          <p:nvPr/>
        </p:nvSpPr>
        <p:spPr>
          <a:xfrm>
            <a:off x="2593800" y="3646440"/>
            <a:ext cx="3430800" cy="731880"/>
          </a:xfrm>
          <a:custGeom>
            <a:avLst/>
            <a:gdLst/>
            <a:ahLst/>
            <a:rect l="l" t="t" r="r" b="b"/>
            <a:pathLst>
              <a:path w="9526" h="2033">
                <a:moveTo>
                  <a:pt x="7334" y="10224"/>
                </a:moveTo>
                <a:cubicBezTo>
                  <a:pt x="7334" y="10293"/>
                  <a:pt x="7314" y="10328"/>
                  <a:pt x="7302" y="10382"/>
                </a:cubicBezTo>
                <a:cubicBezTo>
                  <a:pt x="7287" y="10450"/>
                  <a:pt x="7282" y="10537"/>
                  <a:pt x="7271" y="10604"/>
                </a:cubicBezTo>
                <a:cubicBezTo>
                  <a:pt x="7258" y="10679"/>
                  <a:pt x="7245" y="10753"/>
                  <a:pt x="7239" y="10827"/>
                </a:cubicBezTo>
                <a:cubicBezTo>
                  <a:pt x="7235" y="10878"/>
                  <a:pt x="7207" y="10896"/>
                  <a:pt x="7207" y="10954"/>
                </a:cubicBezTo>
                <a:cubicBezTo>
                  <a:pt x="7258" y="10937"/>
                  <a:pt x="7220" y="10939"/>
                  <a:pt x="7271" y="10922"/>
                </a:cubicBezTo>
                <a:cubicBezTo>
                  <a:pt x="7287" y="10874"/>
                  <a:pt x="7309" y="10890"/>
                  <a:pt x="7366" y="10890"/>
                </a:cubicBezTo>
                <a:cubicBezTo>
                  <a:pt x="7431" y="10890"/>
                  <a:pt x="7441" y="10904"/>
                  <a:pt x="7493" y="10922"/>
                </a:cubicBezTo>
                <a:cubicBezTo>
                  <a:pt x="7558" y="10944"/>
                  <a:pt x="7701" y="10931"/>
                  <a:pt x="7747" y="10890"/>
                </a:cubicBezTo>
                <a:cubicBezTo>
                  <a:pt x="7758" y="10879"/>
                  <a:pt x="7768" y="10869"/>
                  <a:pt x="7779" y="10858"/>
                </a:cubicBezTo>
              </a:path>
              <a:path w="9526" h="2033">
                <a:moveTo>
                  <a:pt x="7842" y="10160"/>
                </a:moveTo>
                <a:cubicBezTo>
                  <a:pt x="7842" y="10233"/>
                  <a:pt x="7821" y="10283"/>
                  <a:pt x="7810" y="10350"/>
                </a:cubicBezTo>
                <a:cubicBezTo>
                  <a:pt x="7789" y="10474"/>
                  <a:pt x="7764" y="10607"/>
                  <a:pt x="7747" y="10732"/>
                </a:cubicBezTo>
                <a:cubicBezTo>
                  <a:pt x="7729" y="10867"/>
                  <a:pt x="7711" y="11011"/>
                  <a:pt x="7684" y="11144"/>
                </a:cubicBezTo>
                <a:cubicBezTo>
                  <a:pt x="7663" y="11247"/>
                  <a:pt x="7652" y="11366"/>
                  <a:pt x="7620" y="11462"/>
                </a:cubicBezTo>
                <a:cubicBezTo>
                  <a:pt x="7597" y="11530"/>
                  <a:pt x="7588" y="11549"/>
                  <a:pt x="7588" y="11620"/>
                </a:cubicBezTo>
              </a:path>
              <a:path w="9526" h="2033">
                <a:moveTo>
                  <a:pt x="8826" y="10224"/>
                </a:moveTo>
                <a:cubicBezTo>
                  <a:pt x="8826" y="10281"/>
                  <a:pt x="8801" y="10299"/>
                  <a:pt x="8795" y="10350"/>
                </a:cubicBezTo>
                <a:cubicBezTo>
                  <a:pt x="8776" y="10529"/>
                  <a:pt x="8795" y="11007"/>
                  <a:pt x="8795" y="10827"/>
                </a:cubicBezTo>
              </a:path>
              <a:path w="9526" h="2033">
                <a:moveTo>
                  <a:pt x="8477" y="10509"/>
                </a:moveTo>
                <a:cubicBezTo>
                  <a:pt x="8582" y="10509"/>
                  <a:pt x="8665" y="10502"/>
                  <a:pt x="8763" y="10478"/>
                </a:cubicBezTo>
                <a:cubicBezTo>
                  <a:pt x="8829" y="10462"/>
                  <a:pt x="8916" y="10478"/>
                  <a:pt x="8985" y="10478"/>
                </a:cubicBezTo>
              </a:path>
              <a:path w="9526" h="2033">
                <a:moveTo>
                  <a:pt x="8446" y="11240"/>
                </a:moveTo>
                <a:cubicBezTo>
                  <a:pt x="8501" y="11281"/>
                  <a:pt x="8531" y="11271"/>
                  <a:pt x="8604" y="11271"/>
                </a:cubicBezTo>
                <a:cubicBezTo>
                  <a:pt x="8738" y="11271"/>
                  <a:pt x="8869" y="11278"/>
                  <a:pt x="8985" y="11240"/>
                </a:cubicBezTo>
                <a:cubicBezTo>
                  <a:pt x="9017" y="11240"/>
                  <a:pt x="9028" y="11240"/>
                  <a:pt x="9049" y="11240"/>
                </a:cubicBezTo>
              </a:path>
              <a:path w="9526" h="2033">
                <a:moveTo>
                  <a:pt x="9493" y="10986"/>
                </a:moveTo>
                <a:cubicBezTo>
                  <a:pt x="9501" y="11108"/>
                  <a:pt x="9516" y="11217"/>
                  <a:pt x="9525" y="11335"/>
                </a:cubicBezTo>
                <a:cubicBezTo>
                  <a:pt x="9532" y="11421"/>
                  <a:pt x="9528" y="11510"/>
                  <a:pt x="9557" y="11589"/>
                </a:cubicBezTo>
                <a:cubicBezTo>
                  <a:pt x="9574" y="11637"/>
                  <a:pt x="9596" y="11710"/>
                  <a:pt x="9620" y="11748"/>
                </a:cubicBezTo>
                <a:cubicBezTo>
                  <a:pt x="9631" y="11748"/>
                  <a:pt x="9641" y="11748"/>
                  <a:pt x="9652" y="11748"/>
                </a:cubicBezTo>
                <a:cubicBezTo>
                  <a:pt x="9657" y="11647"/>
                  <a:pt x="9662" y="11559"/>
                  <a:pt x="9684" y="11462"/>
                </a:cubicBezTo>
                <a:cubicBezTo>
                  <a:pt x="9708" y="11357"/>
                  <a:pt x="9728" y="11253"/>
                  <a:pt x="9747" y="11144"/>
                </a:cubicBezTo>
                <a:cubicBezTo>
                  <a:pt x="9770" y="11009"/>
                  <a:pt x="9753" y="10923"/>
                  <a:pt x="9747" y="10795"/>
                </a:cubicBezTo>
                <a:cubicBezTo>
                  <a:pt x="9743" y="10693"/>
                  <a:pt x="9737" y="10605"/>
                  <a:pt x="9716" y="10509"/>
                </a:cubicBezTo>
                <a:cubicBezTo>
                  <a:pt x="9710" y="10480"/>
                  <a:pt x="9648" y="10339"/>
                  <a:pt x="9652" y="10319"/>
                </a:cubicBezTo>
                <a:cubicBezTo>
                  <a:pt x="9656" y="10299"/>
                  <a:pt x="9684" y="10241"/>
                  <a:pt x="9716" y="10224"/>
                </a:cubicBezTo>
                <a:cubicBezTo>
                  <a:pt x="9798" y="10181"/>
                  <a:pt x="9955" y="10249"/>
                  <a:pt x="10033" y="10255"/>
                </a:cubicBezTo>
                <a:cubicBezTo>
                  <a:pt x="10106" y="10261"/>
                  <a:pt x="10190" y="10283"/>
                  <a:pt x="10255" y="10287"/>
                </a:cubicBezTo>
                <a:cubicBezTo>
                  <a:pt x="10371" y="10295"/>
                  <a:pt x="10496" y="10311"/>
                  <a:pt x="10604" y="10319"/>
                </a:cubicBezTo>
                <a:cubicBezTo>
                  <a:pt x="10698" y="10326"/>
                  <a:pt x="10804" y="10344"/>
                  <a:pt x="10890" y="10350"/>
                </a:cubicBezTo>
                <a:cubicBezTo>
                  <a:pt x="11037" y="10360"/>
                  <a:pt x="11197" y="10373"/>
                  <a:pt x="11335" y="10382"/>
                </a:cubicBezTo>
                <a:cubicBezTo>
                  <a:pt x="11524" y="10395"/>
                  <a:pt x="11722" y="10402"/>
                  <a:pt x="11906" y="10414"/>
                </a:cubicBezTo>
                <a:cubicBezTo>
                  <a:pt x="12022" y="10421"/>
                  <a:pt x="12145" y="10440"/>
                  <a:pt x="12256" y="10446"/>
                </a:cubicBezTo>
                <a:cubicBezTo>
                  <a:pt x="12403" y="10454"/>
                  <a:pt x="12563" y="10470"/>
                  <a:pt x="12700" y="10478"/>
                </a:cubicBezTo>
                <a:cubicBezTo>
                  <a:pt x="13060" y="10499"/>
                  <a:pt x="13428" y="10468"/>
                  <a:pt x="13780" y="10446"/>
                </a:cubicBezTo>
                <a:cubicBezTo>
                  <a:pt x="13918" y="10437"/>
                  <a:pt x="14059" y="10424"/>
                  <a:pt x="14192" y="10414"/>
                </a:cubicBezTo>
                <a:cubicBezTo>
                  <a:pt x="14291" y="10407"/>
                  <a:pt x="14381" y="10389"/>
                  <a:pt x="14478" y="10382"/>
                </a:cubicBezTo>
                <a:cubicBezTo>
                  <a:pt x="14606" y="10373"/>
                  <a:pt x="14736" y="10359"/>
                  <a:pt x="14859" y="10350"/>
                </a:cubicBezTo>
                <a:cubicBezTo>
                  <a:pt x="14971" y="10342"/>
                  <a:pt x="15121" y="10387"/>
                  <a:pt x="15208" y="10382"/>
                </a:cubicBezTo>
                <a:cubicBezTo>
                  <a:pt x="15276" y="10378"/>
                  <a:pt x="15301" y="10357"/>
                  <a:pt x="15367" y="10350"/>
                </a:cubicBezTo>
              </a:path>
              <a:path w="9526" h="2033">
                <a:moveTo>
                  <a:pt x="10541" y="10478"/>
                </a:moveTo>
                <a:cubicBezTo>
                  <a:pt x="10530" y="10478"/>
                  <a:pt x="10520" y="10478"/>
                  <a:pt x="10509" y="10478"/>
                </a:cubicBezTo>
              </a:path>
              <a:path w="9526" h="2033">
                <a:moveTo>
                  <a:pt x="10541" y="10478"/>
                </a:moveTo>
                <a:cubicBezTo>
                  <a:pt x="10530" y="10478"/>
                  <a:pt x="10520" y="10478"/>
                  <a:pt x="10509" y="10478"/>
                </a:cubicBezTo>
              </a:path>
              <a:path w="9526" h="2033">
                <a:moveTo>
                  <a:pt x="10509" y="10478"/>
                </a:moveTo>
                <a:cubicBezTo>
                  <a:pt x="10467" y="10520"/>
                  <a:pt x="10441" y="10564"/>
                  <a:pt x="10414" y="10604"/>
                </a:cubicBezTo>
                <a:cubicBezTo>
                  <a:pt x="10363" y="10679"/>
                  <a:pt x="10348" y="10709"/>
                  <a:pt x="10319" y="10795"/>
                </a:cubicBezTo>
                <a:cubicBezTo>
                  <a:pt x="10279" y="10913"/>
                  <a:pt x="10230" y="10981"/>
                  <a:pt x="10224" y="11112"/>
                </a:cubicBezTo>
                <a:cubicBezTo>
                  <a:pt x="10219" y="11234"/>
                  <a:pt x="10235" y="11320"/>
                  <a:pt x="10287" y="11430"/>
                </a:cubicBezTo>
                <a:cubicBezTo>
                  <a:pt x="10339" y="11539"/>
                  <a:pt x="10380" y="11618"/>
                  <a:pt x="10446" y="11716"/>
                </a:cubicBezTo>
                <a:cubicBezTo>
                  <a:pt x="10502" y="11798"/>
                  <a:pt x="10531" y="11865"/>
                  <a:pt x="10604" y="11938"/>
                </a:cubicBezTo>
                <a:cubicBezTo>
                  <a:pt x="10633" y="11967"/>
                  <a:pt x="10639" y="11978"/>
                  <a:pt x="10668" y="11970"/>
                </a:cubicBezTo>
              </a:path>
              <a:path w="9526" h="2033">
                <a:moveTo>
                  <a:pt x="10192" y="10382"/>
                </a:moveTo>
                <a:cubicBezTo>
                  <a:pt x="10172" y="10394"/>
                  <a:pt x="10115" y="10396"/>
                  <a:pt x="10096" y="10414"/>
                </a:cubicBezTo>
                <a:cubicBezTo>
                  <a:pt x="10067" y="10440"/>
                  <a:pt x="10024" y="10534"/>
                  <a:pt x="10001" y="10573"/>
                </a:cubicBezTo>
                <a:cubicBezTo>
                  <a:pt x="9943" y="10670"/>
                  <a:pt x="9859" y="10810"/>
                  <a:pt x="9842" y="10922"/>
                </a:cubicBezTo>
                <a:cubicBezTo>
                  <a:pt x="9817" y="11084"/>
                  <a:pt x="9779" y="11231"/>
                  <a:pt x="9779" y="11398"/>
                </a:cubicBezTo>
                <a:cubicBezTo>
                  <a:pt x="9779" y="11512"/>
                  <a:pt x="9770" y="11608"/>
                  <a:pt x="9811" y="11716"/>
                </a:cubicBezTo>
                <a:cubicBezTo>
                  <a:pt x="9846" y="11809"/>
                  <a:pt x="9920" y="12007"/>
                  <a:pt x="10001" y="12065"/>
                </a:cubicBezTo>
                <a:cubicBezTo>
                  <a:pt x="10053" y="12091"/>
                  <a:pt x="10074" y="12088"/>
                  <a:pt x="10065" y="12128"/>
                </a:cubicBezTo>
              </a:path>
              <a:path w="9526" h="2033">
                <a:moveTo>
                  <a:pt x="10573" y="11112"/>
                </a:moveTo>
                <a:cubicBezTo>
                  <a:pt x="10562" y="11112"/>
                  <a:pt x="10552" y="11112"/>
                  <a:pt x="10541" y="11112"/>
                </a:cubicBezTo>
                <a:cubicBezTo>
                  <a:pt x="10604" y="11112"/>
                  <a:pt x="10616" y="11098"/>
                  <a:pt x="10668" y="11081"/>
                </a:cubicBezTo>
                <a:cubicBezTo>
                  <a:pt x="10717" y="11065"/>
                  <a:pt x="10878" y="11118"/>
                  <a:pt x="10890" y="11112"/>
                </a:cubicBezTo>
                <a:cubicBezTo>
                  <a:pt x="10890" y="11102"/>
                  <a:pt x="10890" y="11091"/>
                  <a:pt x="10890" y="11081"/>
                </a:cubicBezTo>
              </a:path>
              <a:path w="9526" h="2033">
                <a:moveTo>
                  <a:pt x="11112" y="10795"/>
                </a:moveTo>
                <a:cubicBezTo>
                  <a:pt x="11112" y="10871"/>
                  <a:pt x="11100" y="10922"/>
                  <a:pt x="11081" y="10986"/>
                </a:cubicBezTo>
                <a:cubicBezTo>
                  <a:pt x="11065" y="11039"/>
                  <a:pt x="11081" y="11121"/>
                  <a:pt x="11081" y="11176"/>
                </a:cubicBezTo>
                <a:cubicBezTo>
                  <a:pt x="11178" y="11176"/>
                  <a:pt x="11254" y="11191"/>
                  <a:pt x="11335" y="11208"/>
                </a:cubicBezTo>
                <a:cubicBezTo>
                  <a:pt x="11396" y="11221"/>
                  <a:pt x="11431" y="11240"/>
                  <a:pt x="11494" y="11240"/>
                </a:cubicBezTo>
              </a:path>
              <a:path w="9526" h="2033">
                <a:moveTo>
                  <a:pt x="11462" y="10858"/>
                </a:moveTo>
                <a:cubicBezTo>
                  <a:pt x="11448" y="10916"/>
                  <a:pt x="11430" y="10948"/>
                  <a:pt x="11430" y="11017"/>
                </a:cubicBezTo>
                <a:cubicBezTo>
                  <a:pt x="11430" y="11125"/>
                  <a:pt x="11398" y="11223"/>
                  <a:pt x="11398" y="11335"/>
                </a:cubicBezTo>
                <a:cubicBezTo>
                  <a:pt x="11398" y="11442"/>
                  <a:pt x="11352" y="11627"/>
                  <a:pt x="11366" y="11716"/>
                </a:cubicBezTo>
                <a:cubicBezTo>
                  <a:pt x="11366" y="11718"/>
                  <a:pt x="11398" y="11825"/>
                  <a:pt x="11398" y="11748"/>
                </a:cubicBezTo>
              </a:path>
              <a:path w="9526" h="2033">
                <a:moveTo>
                  <a:pt x="11620" y="10573"/>
                </a:moveTo>
                <a:cubicBezTo>
                  <a:pt x="11656" y="10620"/>
                  <a:pt x="11691" y="10672"/>
                  <a:pt x="11716" y="10732"/>
                </a:cubicBezTo>
                <a:cubicBezTo>
                  <a:pt x="11772" y="10867"/>
                  <a:pt x="11783" y="10973"/>
                  <a:pt x="11811" y="11112"/>
                </a:cubicBezTo>
                <a:cubicBezTo>
                  <a:pt x="11838" y="11244"/>
                  <a:pt x="11843" y="11357"/>
                  <a:pt x="11843" y="11494"/>
                </a:cubicBezTo>
                <a:cubicBezTo>
                  <a:pt x="11843" y="11589"/>
                  <a:pt x="11808" y="11691"/>
                  <a:pt x="11779" y="11779"/>
                </a:cubicBezTo>
                <a:cubicBezTo>
                  <a:pt x="11750" y="11867"/>
                  <a:pt x="11712" y="11898"/>
                  <a:pt x="11652" y="11938"/>
                </a:cubicBezTo>
                <a:cubicBezTo>
                  <a:pt x="11623" y="11967"/>
                  <a:pt x="11612" y="11982"/>
                  <a:pt x="11620" y="11938"/>
                </a:cubicBezTo>
              </a:path>
              <a:path w="9526" h="2033">
                <a:moveTo>
                  <a:pt x="12097" y="10573"/>
                </a:moveTo>
                <a:cubicBezTo>
                  <a:pt x="12139" y="10573"/>
                  <a:pt x="12182" y="10573"/>
                  <a:pt x="12224" y="10573"/>
                </a:cubicBezTo>
                <a:cubicBezTo>
                  <a:pt x="12224" y="10637"/>
                  <a:pt x="12209" y="10648"/>
                  <a:pt x="12192" y="10700"/>
                </a:cubicBezTo>
                <a:cubicBezTo>
                  <a:pt x="12177" y="10744"/>
                  <a:pt x="12152" y="10818"/>
                  <a:pt x="12128" y="10858"/>
                </a:cubicBezTo>
                <a:cubicBezTo>
                  <a:pt x="12092" y="10918"/>
                  <a:pt x="12065" y="10911"/>
                  <a:pt x="12065" y="10986"/>
                </a:cubicBezTo>
                <a:cubicBezTo>
                  <a:pt x="12137" y="10931"/>
                  <a:pt x="12121" y="10966"/>
                  <a:pt x="12160" y="10986"/>
                </a:cubicBezTo>
                <a:cubicBezTo>
                  <a:pt x="12186" y="10999"/>
                  <a:pt x="12257" y="10986"/>
                  <a:pt x="12287" y="10986"/>
                </a:cubicBezTo>
              </a:path>
              <a:path w="9526" h="2033">
                <a:moveTo>
                  <a:pt x="13208" y="11208"/>
                </a:moveTo>
                <a:cubicBezTo>
                  <a:pt x="13178" y="11257"/>
                  <a:pt x="13176" y="11273"/>
                  <a:pt x="13176" y="11335"/>
                </a:cubicBezTo>
                <a:cubicBezTo>
                  <a:pt x="13204" y="11314"/>
                  <a:pt x="13260" y="11279"/>
                  <a:pt x="13303" y="11303"/>
                </a:cubicBezTo>
                <a:cubicBezTo>
                  <a:pt x="13351" y="11330"/>
                  <a:pt x="13407" y="11360"/>
                  <a:pt x="13462" y="11366"/>
                </a:cubicBezTo>
                <a:cubicBezTo>
                  <a:pt x="13493" y="11369"/>
                  <a:pt x="13526" y="11366"/>
                  <a:pt x="13557" y="11366"/>
                </a:cubicBezTo>
              </a:path>
              <a:path w="9526" h="2033">
                <a:moveTo>
                  <a:pt x="13652" y="10732"/>
                </a:moveTo>
                <a:cubicBezTo>
                  <a:pt x="13652" y="10763"/>
                  <a:pt x="13652" y="10774"/>
                  <a:pt x="13652" y="10795"/>
                </a:cubicBezTo>
              </a:path>
              <a:path w="9526" h="2033">
                <a:moveTo>
                  <a:pt x="13526" y="11398"/>
                </a:moveTo>
                <a:cubicBezTo>
                  <a:pt x="13515" y="11498"/>
                  <a:pt x="13478" y="11589"/>
                  <a:pt x="13462" y="11684"/>
                </a:cubicBezTo>
                <a:cubicBezTo>
                  <a:pt x="13451" y="11753"/>
                  <a:pt x="13444" y="11810"/>
                  <a:pt x="13430" y="11843"/>
                </a:cubicBezTo>
                <a:cubicBezTo>
                  <a:pt x="13430" y="11853"/>
                  <a:pt x="13430" y="11864"/>
                  <a:pt x="13430" y="11874"/>
                </a:cubicBezTo>
              </a:path>
              <a:path w="9526" h="2033">
                <a:moveTo>
                  <a:pt x="12446" y="11366"/>
                </a:moveTo>
                <a:cubicBezTo>
                  <a:pt x="12498" y="11366"/>
                  <a:pt x="12720" y="11403"/>
                  <a:pt x="12732" y="11398"/>
                </a:cubicBezTo>
                <a:cubicBezTo>
                  <a:pt x="12732" y="11387"/>
                  <a:pt x="12732" y="11377"/>
                  <a:pt x="12732" y="11366"/>
                </a:cubicBezTo>
              </a:path>
              <a:path w="9526" h="2033">
                <a:moveTo>
                  <a:pt x="13240" y="10763"/>
                </a:moveTo>
                <a:cubicBezTo>
                  <a:pt x="13192" y="10779"/>
                  <a:pt x="13208" y="10801"/>
                  <a:pt x="13208" y="10858"/>
                </a:cubicBezTo>
                <a:cubicBezTo>
                  <a:pt x="13208" y="10944"/>
                  <a:pt x="13189" y="11001"/>
                  <a:pt x="13176" y="11081"/>
                </a:cubicBezTo>
                <a:cubicBezTo>
                  <a:pt x="13160" y="11175"/>
                  <a:pt x="13169" y="11252"/>
                  <a:pt x="13144" y="11335"/>
                </a:cubicBezTo>
                <a:cubicBezTo>
                  <a:pt x="13144" y="11366"/>
                  <a:pt x="13144" y="11377"/>
                  <a:pt x="13144" y="11398"/>
                </a:cubicBezTo>
                <a:cubicBezTo>
                  <a:pt x="13192" y="11382"/>
                  <a:pt x="13171" y="11366"/>
                  <a:pt x="13240" y="11366"/>
                </a:cubicBezTo>
                <a:cubicBezTo>
                  <a:pt x="13283" y="11366"/>
                  <a:pt x="13494" y="11398"/>
                  <a:pt x="13494" y="11398"/>
                </a:cubicBezTo>
                <a:cubicBezTo>
                  <a:pt x="13494" y="11362"/>
                  <a:pt x="13497" y="11354"/>
                  <a:pt x="13526" y="11398"/>
                </a:cubicBezTo>
                <a:cubicBezTo>
                  <a:pt x="13563" y="11361"/>
                  <a:pt x="13577" y="11349"/>
                  <a:pt x="13589" y="11303"/>
                </a:cubicBezTo>
              </a:path>
              <a:path w="9526" h="2033">
                <a:moveTo>
                  <a:pt x="13526" y="11303"/>
                </a:moveTo>
                <a:cubicBezTo>
                  <a:pt x="13516" y="11425"/>
                  <a:pt x="13479" y="11532"/>
                  <a:pt x="13462" y="11652"/>
                </a:cubicBezTo>
                <a:cubicBezTo>
                  <a:pt x="13462" y="11716"/>
                  <a:pt x="13462" y="11737"/>
                  <a:pt x="13462" y="11779"/>
                </a:cubicBezTo>
              </a:path>
              <a:path w="9526" h="2033">
                <a:moveTo>
                  <a:pt x="13621" y="10795"/>
                </a:moveTo>
                <a:cubicBezTo>
                  <a:pt x="13621" y="10960"/>
                  <a:pt x="13615" y="11115"/>
                  <a:pt x="13589" y="11271"/>
                </a:cubicBezTo>
                <a:cubicBezTo>
                  <a:pt x="13576" y="11346"/>
                  <a:pt x="13570" y="11422"/>
                  <a:pt x="13557" y="11494"/>
                </a:cubicBezTo>
                <a:cubicBezTo>
                  <a:pt x="13547" y="11553"/>
                  <a:pt x="13546" y="11628"/>
                  <a:pt x="13526" y="11684"/>
                </a:cubicBezTo>
                <a:cubicBezTo>
                  <a:pt x="13521" y="11697"/>
                  <a:pt x="13463" y="11818"/>
                  <a:pt x="13494" y="11843"/>
                </a:cubicBezTo>
                <a:cubicBezTo>
                  <a:pt x="13523" y="11866"/>
                  <a:pt x="13526" y="11879"/>
                  <a:pt x="13526" y="11843"/>
                </a:cubicBezTo>
              </a:path>
              <a:path w="9526" h="2033">
                <a:moveTo>
                  <a:pt x="14034" y="10573"/>
                </a:moveTo>
                <a:cubicBezTo>
                  <a:pt x="14022" y="10619"/>
                  <a:pt x="14000" y="10688"/>
                  <a:pt x="13970" y="10732"/>
                </a:cubicBezTo>
                <a:cubicBezTo>
                  <a:pt x="13917" y="10811"/>
                  <a:pt x="13851" y="10905"/>
                  <a:pt x="13811" y="10986"/>
                </a:cubicBezTo>
                <a:cubicBezTo>
                  <a:pt x="13770" y="11068"/>
                  <a:pt x="13730" y="11242"/>
                  <a:pt x="13716" y="11335"/>
                </a:cubicBezTo>
                <a:cubicBezTo>
                  <a:pt x="13690" y="11503"/>
                  <a:pt x="13723" y="11686"/>
                  <a:pt x="13748" y="11843"/>
                </a:cubicBezTo>
                <a:cubicBezTo>
                  <a:pt x="13759" y="11912"/>
                  <a:pt x="13767" y="11978"/>
                  <a:pt x="13811" y="12033"/>
                </a:cubicBezTo>
                <a:cubicBezTo>
                  <a:pt x="13847" y="12078"/>
                  <a:pt x="13886" y="12065"/>
                  <a:pt x="13938" y="12065"/>
                </a:cubicBezTo>
                <a:cubicBezTo>
                  <a:pt x="13974" y="12065"/>
                  <a:pt x="13988" y="12062"/>
                  <a:pt x="14002" y="12033"/>
                </a:cubicBezTo>
              </a:path>
              <a:path w="9526" h="2033">
                <a:moveTo>
                  <a:pt x="13970" y="11271"/>
                </a:moveTo>
                <a:cubicBezTo>
                  <a:pt x="13988" y="11248"/>
                  <a:pt x="14020" y="11153"/>
                  <a:pt x="14034" y="11144"/>
                </a:cubicBezTo>
                <a:cubicBezTo>
                  <a:pt x="14071" y="11119"/>
                  <a:pt x="14141" y="11086"/>
                  <a:pt x="14192" y="11081"/>
                </a:cubicBezTo>
                <a:cubicBezTo>
                  <a:pt x="14276" y="11073"/>
                  <a:pt x="14281" y="11097"/>
                  <a:pt x="14288" y="11176"/>
                </a:cubicBezTo>
                <a:cubicBezTo>
                  <a:pt x="14293" y="11231"/>
                  <a:pt x="14254" y="11350"/>
                  <a:pt x="14224" y="11398"/>
                </a:cubicBezTo>
                <a:cubicBezTo>
                  <a:pt x="14195" y="11445"/>
                  <a:pt x="14166" y="11502"/>
                  <a:pt x="14160" y="11557"/>
                </a:cubicBezTo>
                <a:cubicBezTo>
                  <a:pt x="14160" y="11568"/>
                  <a:pt x="14160" y="11578"/>
                  <a:pt x="14160" y="11589"/>
                </a:cubicBezTo>
                <a:cubicBezTo>
                  <a:pt x="14233" y="11589"/>
                  <a:pt x="14260" y="11577"/>
                  <a:pt x="14319" y="11557"/>
                </a:cubicBezTo>
                <a:cubicBezTo>
                  <a:pt x="14374" y="11539"/>
                  <a:pt x="14399" y="11584"/>
                  <a:pt x="14446" y="11589"/>
                </a:cubicBezTo>
                <a:cubicBezTo>
                  <a:pt x="14478" y="11589"/>
                  <a:pt x="14488" y="11589"/>
                  <a:pt x="14478" y="11620"/>
                </a:cubicBezTo>
              </a:path>
              <a:path w="9526" h="2033">
                <a:moveTo>
                  <a:pt x="14351" y="10763"/>
                </a:moveTo>
                <a:cubicBezTo>
                  <a:pt x="14421" y="10781"/>
                  <a:pt x="14429" y="10836"/>
                  <a:pt x="14478" y="10890"/>
                </a:cubicBezTo>
                <a:cubicBezTo>
                  <a:pt x="14544" y="10964"/>
                  <a:pt x="14607" y="11038"/>
                  <a:pt x="14668" y="11112"/>
                </a:cubicBezTo>
                <a:cubicBezTo>
                  <a:pt x="14762" y="11224"/>
                  <a:pt x="14766" y="11296"/>
                  <a:pt x="14796" y="11430"/>
                </a:cubicBezTo>
                <a:cubicBezTo>
                  <a:pt x="14823" y="11551"/>
                  <a:pt x="14830" y="11656"/>
                  <a:pt x="14796" y="11779"/>
                </a:cubicBezTo>
                <a:cubicBezTo>
                  <a:pt x="14779" y="11843"/>
                  <a:pt x="14737" y="11956"/>
                  <a:pt x="14700" y="12002"/>
                </a:cubicBezTo>
                <a:cubicBezTo>
                  <a:pt x="14668" y="12041"/>
                  <a:pt x="14667" y="12056"/>
                  <a:pt x="14637" y="12097"/>
                </a:cubicBezTo>
              </a:path>
              <a:path w="9526" h="2033">
                <a:moveTo>
                  <a:pt x="15208" y="10478"/>
                </a:moveTo>
                <a:cubicBezTo>
                  <a:pt x="15178" y="10488"/>
                  <a:pt x="15140" y="10531"/>
                  <a:pt x="15113" y="10573"/>
                </a:cubicBezTo>
                <a:cubicBezTo>
                  <a:pt x="15051" y="10668"/>
                  <a:pt x="15022" y="10784"/>
                  <a:pt x="14986" y="10890"/>
                </a:cubicBezTo>
                <a:cubicBezTo>
                  <a:pt x="14939" y="11030"/>
                  <a:pt x="14879" y="11189"/>
                  <a:pt x="14859" y="11335"/>
                </a:cubicBezTo>
                <a:cubicBezTo>
                  <a:pt x="14841" y="11468"/>
                  <a:pt x="14843" y="11559"/>
                  <a:pt x="14859" y="11684"/>
                </a:cubicBezTo>
                <a:cubicBezTo>
                  <a:pt x="14874" y="11802"/>
                  <a:pt x="14920" y="11859"/>
                  <a:pt x="14954" y="11970"/>
                </a:cubicBezTo>
                <a:cubicBezTo>
                  <a:pt x="14972" y="12027"/>
                  <a:pt x="15026" y="12043"/>
                  <a:pt x="15050" y="12097"/>
                </a:cubicBezTo>
                <a:cubicBezTo>
                  <a:pt x="15065" y="12130"/>
                  <a:pt x="15070" y="12155"/>
                  <a:pt x="15113" y="12160"/>
                </a:cubicBezTo>
                <a:cubicBezTo>
                  <a:pt x="15124" y="12160"/>
                  <a:pt x="15134" y="12160"/>
                  <a:pt x="15145" y="12160"/>
                </a:cubicBezTo>
              </a:path>
              <a:path w="9526" h="2033">
                <a:moveTo>
                  <a:pt x="15050" y="11303"/>
                </a:moveTo>
                <a:cubicBezTo>
                  <a:pt x="15147" y="11303"/>
                  <a:pt x="15221" y="11296"/>
                  <a:pt x="15304" y="11271"/>
                </a:cubicBezTo>
                <a:cubicBezTo>
                  <a:pt x="15344" y="11259"/>
                  <a:pt x="15392" y="11244"/>
                  <a:pt x="15430" y="11240"/>
                </a:cubicBezTo>
                <a:cubicBezTo>
                  <a:pt x="15441" y="11240"/>
                  <a:pt x="15451" y="11240"/>
                  <a:pt x="15462" y="11240"/>
                </a:cubicBezTo>
              </a:path>
              <a:path w="9526" h="2033">
                <a:moveTo>
                  <a:pt x="15621" y="10827"/>
                </a:moveTo>
                <a:cubicBezTo>
                  <a:pt x="15661" y="10840"/>
                  <a:pt x="15670" y="10896"/>
                  <a:pt x="15653" y="10954"/>
                </a:cubicBezTo>
                <a:cubicBezTo>
                  <a:pt x="15624" y="11052"/>
                  <a:pt x="15612" y="11140"/>
                  <a:pt x="15589" y="11240"/>
                </a:cubicBezTo>
                <a:cubicBezTo>
                  <a:pt x="15561" y="11362"/>
                  <a:pt x="15558" y="11461"/>
                  <a:pt x="15558" y="11589"/>
                </a:cubicBezTo>
                <a:cubicBezTo>
                  <a:pt x="15558" y="11657"/>
                  <a:pt x="15554" y="11727"/>
                  <a:pt x="15589" y="11779"/>
                </a:cubicBezTo>
                <a:cubicBezTo>
                  <a:pt x="15612" y="11814"/>
                  <a:pt x="15709" y="11833"/>
                  <a:pt x="15748" y="11811"/>
                </a:cubicBezTo>
                <a:cubicBezTo>
                  <a:pt x="15804" y="11780"/>
                  <a:pt x="15840" y="11743"/>
                  <a:pt x="15875" y="11684"/>
                </a:cubicBezTo>
                <a:cubicBezTo>
                  <a:pt x="15929" y="11594"/>
                  <a:pt x="15938" y="11532"/>
                  <a:pt x="15938" y="11430"/>
                </a:cubicBezTo>
                <a:cubicBezTo>
                  <a:pt x="15938" y="11393"/>
                  <a:pt x="15938" y="11292"/>
                  <a:pt x="15907" y="11271"/>
                </a:cubicBezTo>
                <a:cubicBezTo>
                  <a:pt x="15896" y="11271"/>
                  <a:pt x="15886" y="11271"/>
                  <a:pt x="15875" y="11271"/>
                </a:cubicBezTo>
                <a:cubicBezTo>
                  <a:pt x="15822" y="11324"/>
                  <a:pt x="15783" y="11363"/>
                  <a:pt x="15748" y="11430"/>
                </a:cubicBezTo>
                <a:cubicBezTo>
                  <a:pt x="15707" y="11507"/>
                  <a:pt x="15716" y="11565"/>
                  <a:pt x="15716" y="11652"/>
                </a:cubicBezTo>
                <a:cubicBezTo>
                  <a:pt x="15716" y="11724"/>
                  <a:pt x="15707" y="11757"/>
                  <a:pt x="15748" y="11811"/>
                </a:cubicBezTo>
              </a:path>
              <a:path w="9526" h="2033">
                <a:moveTo>
                  <a:pt x="16256" y="10890"/>
                </a:moveTo>
                <a:cubicBezTo>
                  <a:pt x="16256" y="10879"/>
                  <a:pt x="16256" y="10869"/>
                  <a:pt x="16256" y="10858"/>
                </a:cubicBezTo>
                <a:cubicBezTo>
                  <a:pt x="16219" y="10840"/>
                  <a:pt x="16182" y="10839"/>
                  <a:pt x="16129" y="10858"/>
                </a:cubicBezTo>
                <a:cubicBezTo>
                  <a:pt x="16038" y="10891"/>
                  <a:pt x="16023" y="10948"/>
                  <a:pt x="15970" y="11017"/>
                </a:cubicBezTo>
                <a:cubicBezTo>
                  <a:pt x="15944" y="11051"/>
                  <a:pt x="15877" y="11088"/>
                  <a:pt x="15907" y="11144"/>
                </a:cubicBezTo>
                <a:cubicBezTo>
                  <a:pt x="15914" y="11157"/>
                  <a:pt x="16020" y="11236"/>
                  <a:pt x="16034" y="11240"/>
                </a:cubicBezTo>
                <a:cubicBezTo>
                  <a:pt x="16112" y="11263"/>
                  <a:pt x="16144" y="11308"/>
                  <a:pt x="16224" y="11335"/>
                </a:cubicBezTo>
                <a:cubicBezTo>
                  <a:pt x="16291" y="11358"/>
                  <a:pt x="16316" y="11423"/>
                  <a:pt x="16320" y="11494"/>
                </a:cubicBezTo>
                <a:cubicBezTo>
                  <a:pt x="16325" y="11579"/>
                  <a:pt x="16310" y="11618"/>
                  <a:pt x="16288" y="11684"/>
                </a:cubicBezTo>
                <a:cubicBezTo>
                  <a:pt x="16270" y="11737"/>
                  <a:pt x="16236" y="11724"/>
                  <a:pt x="16192" y="11684"/>
                </a:cubicBezTo>
                <a:cubicBezTo>
                  <a:pt x="16137" y="11634"/>
                  <a:pt x="16150" y="11558"/>
                  <a:pt x="16129" y="11494"/>
                </a:cubicBezTo>
                <a:cubicBezTo>
                  <a:pt x="16094" y="11390"/>
                  <a:pt x="16118" y="11408"/>
                  <a:pt x="16129" y="11303"/>
                </a:cubicBezTo>
                <a:cubicBezTo>
                  <a:pt x="16134" y="11255"/>
                  <a:pt x="16191" y="11181"/>
                  <a:pt x="16224" y="11144"/>
                </a:cubicBezTo>
                <a:cubicBezTo>
                  <a:pt x="16256" y="11108"/>
                  <a:pt x="16282" y="11109"/>
                  <a:pt x="16320" y="11081"/>
                </a:cubicBezTo>
              </a:path>
              <a:path w="9526" h="2033">
                <a:moveTo>
                  <a:pt x="16383" y="10604"/>
                </a:moveTo>
                <a:cubicBezTo>
                  <a:pt x="16383" y="10573"/>
                  <a:pt x="16383" y="10562"/>
                  <a:pt x="16351" y="10573"/>
                </a:cubicBezTo>
                <a:cubicBezTo>
                  <a:pt x="16366" y="10633"/>
                  <a:pt x="16412" y="10647"/>
                  <a:pt x="16446" y="10700"/>
                </a:cubicBezTo>
                <a:cubicBezTo>
                  <a:pt x="16500" y="10783"/>
                  <a:pt x="16555" y="10867"/>
                  <a:pt x="16605" y="10954"/>
                </a:cubicBezTo>
                <a:cubicBezTo>
                  <a:pt x="16664" y="11057"/>
                  <a:pt x="16670" y="11134"/>
                  <a:pt x="16700" y="11240"/>
                </a:cubicBezTo>
                <a:cubicBezTo>
                  <a:pt x="16736" y="11367"/>
                  <a:pt x="16716" y="11434"/>
                  <a:pt x="16700" y="11557"/>
                </a:cubicBezTo>
                <a:cubicBezTo>
                  <a:pt x="16686" y="11668"/>
                  <a:pt x="16669" y="11774"/>
                  <a:pt x="16605" y="11874"/>
                </a:cubicBezTo>
                <a:cubicBezTo>
                  <a:pt x="16570" y="11929"/>
                  <a:pt x="16496" y="12007"/>
                  <a:pt x="16478" y="11970"/>
                </a:cubicBezTo>
              </a:path>
              <a:path w="9526" h="2033">
                <a:moveTo>
                  <a:pt x="15145" y="10382"/>
                </a:moveTo>
                <a:cubicBezTo>
                  <a:pt x="15145" y="10350"/>
                  <a:pt x="15145" y="10339"/>
                  <a:pt x="15113" y="10350"/>
                </a:cubicBezTo>
                <a:cubicBezTo>
                  <a:pt x="15162" y="10366"/>
                  <a:pt x="15139" y="10382"/>
                  <a:pt x="15208" y="10382"/>
                </a:cubicBezTo>
                <a:cubicBezTo>
                  <a:pt x="15322" y="10382"/>
                  <a:pt x="15418" y="10375"/>
                  <a:pt x="15526" y="10350"/>
                </a:cubicBezTo>
                <a:cubicBezTo>
                  <a:pt x="15604" y="10332"/>
                  <a:pt x="15704" y="10331"/>
                  <a:pt x="15780" y="10319"/>
                </a:cubicBezTo>
                <a:cubicBezTo>
                  <a:pt x="15883" y="10303"/>
                  <a:pt x="15963" y="10275"/>
                  <a:pt x="16066" y="10255"/>
                </a:cubicBezTo>
                <a:cubicBezTo>
                  <a:pt x="16156" y="10238"/>
                  <a:pt x="16264" y="10220"/>
                  <a:pt x="16351" y="10192"/>
                </a:cubicBezTo>
                <a:cubicBezTo>
                  <a:pt x="16452" y="10160"/>
                  <a:pt x="16494" y="10128"/>
                  <a:pt x="16605" y="10128"/>
                </a:cubicBezTo>
                <a:cubicBezTo>
                  <a:pt x="16655" y="10128"/>
                  <a:pt x="16694" y="10108"/>
                  <a:pt x="16700" y="10160"/>
                </a:cubicBezTo>
                <a:cubicBezTo>
                  <a:pt x="16700" y="10171"/>
                  <a:pt x="16700" y="10181"/>
                  <a:pt x="16700" y="10192"/>
                </a:cubicBezTo>
              </a:path>
              <a:path w="9526" h="2033">
                <a:moveTo>
                  <a:pt x="7271" y="11970"/>
                </a:moveTo>
                <a:cubicBezTo>
                  <a:pt x="7345" y="11970"/>
                  <a:pt x="7419" y="11970"/>
                  <a:pt x="7493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12"/>
          <p:cNvSpPr/>
          <p:nvPr/>
        </p:nvSpPr>
        <p:spPr>
          <a:xfrm>
            <a:off x="1954080" y="4389480"/>
            <a:ext cx="7018560" cy="1736640"/>
          </a:xfrm>
          <a:custGeom>
            <a:avLst/>
            <a:gdLst/>
            <a:ahLst/>
            <a:rect l="l" t="t" r="r" b="b"/>
            <a:pathLst>
              <a:path w="19496" h="4827">
                <a:moveTo>
                  <a:pt x="6382" y="13716"/>
                </a:moveTo>
                <a:cubicBezTo>
                  <a:pt x="6382" y="13787"/>
                  <a:pt x="6367" y="13806"/>
                  <a:pt x="6350" y="13875"/>
                </a:cubicBezTo>
                <a:cubicBezTo>
                  <a:pt x="6332" y="13945"/>
                  <a:pt x="6318" y="13990"/>
                  <a:pt x="6318" y="14065"/>
                </a:cubicBezTo>
                <a:cubicBezTo>
                  <a:pt x="6318" y="14134"/>
                  <a:pt x="6271" y="14199"/>
                  <a:pt x="6255" y="14256"/>
                </a:cubicBezTo>
                <a:cubicBezTo>
                  <a:pt x="6241" y="14304"/>
                  <a:pt x="6250" y="14370"/>
                  <a:pt x="6223" y="14414"/>
                </a:cubicBezTo>
                <a:cubicBezTo>
                  <a:pt x="6194" y="14443"/>
                  <a:pt x="6183" y="14449"/>
                  <a:pt x="6191" y="14478"/>
                </a:cubicBezTo>
                <a:cubicBezTo>
                  <a:pt x="6262" y="14478"/>
                  <a:pt x="6282" y="14493"/>
                  <a:pt x="6350" y="14510"/>
                </a:cubicBezTo>
                <a:cubicBezTo>
                  <a:pt x="6396" y="14522"/>
                  <a:pt x="6439" y="14517"/>
                  <a:pt x="6477" y="14542"/>
                </a:cubicBezTo>
                <a:cubicBezTo>
                  <a:pt x="6550" y="14589"/>
                  <a:pt x="6527" y="14550"/>
                  <a:pt x="6604" y="14542"/>
                </a:cubicBezTo>
                <a:cubicBezTo>
                  <a:pt x="6649" y="14537"/>
                  <a:pt x="6645" y="14500"/>
                  <a:pt x="6668" y="14446"/>
                </a:cubicBezTo>
              </a:path>
              <a:path w="19496" h="4827">
                <a:moveTo>
                  <a:pt x="6826" y="13716"/>
                </a:moveTo>
                <a:cubicBezTo>
                  <a:pt x="6826" y="13781"/>
                  <a:pt x="6810" y="13845"/>
                  <a:pt x="6794" y="13906"/>
                </a:cubicBezTo>
                <a:cubicBezTo>
                  <a:pt x="6765" y="14021"/>
                  <a:pt x="6719" y="14183"/>
                  <a:pt x="6668" y="14288"/>
                </a:cubicBezTo>
                <a:cubicBezTo>
                  <a:pt x="6608" y="14413"/>
                  <a:pt x="6585" y="14530"/>
                  <a:pt x="6540" y="14668"/>
                </a:cubicBezTo>
                <a:cubicBezTo>
                  <a:pt x="6503" y="14781"/>
                  <a:pt x="6517" y="14912"/>
                  <a:pt x="6477" y="15018"/>
                </a:cubicBezTo>
                <a:cubicBezTo>
                  <a:pt x="6460" y="15062"/>
                  <a:pt x="6439" y="15103"/>
                  <a:pt x="6414" y="15145"/>
                </a:cubicBezTo>
              </a:path>
              <a:path w="19496" h="4827">
                <a:moveTo>
                  <a:pt x="7430" y="13875"/>
                </a:moveTo>
                <a:cubicBezTo>
                  <a:pt x="7430" y="13936"/>
                  <a:pt x="7402" y="13976"/>
                  <a:pt x="7398" y="14034"/>
                </a:cubicBezTo>
                <a:cubicBezTo>
                  <a:pt x="7392" y="14125"/>
                  <a:pt x="7345" y="14201"/>
                  <a:pt x="7334" y="14288"/>
                </a:cubicBezTo>
                <a:cubicBezTo>
                  <a:pt x="7321" y="14386"/>
                  <a:pt x="7318" y="14480"/>
                  <a:pt x="7302" y="14573"/>
                </a:cubicBezTo>
                <a:cubicBezTo>
                  <a:pt x="7291" y="14640"/>
                  <a:pt x="7285" y="14673"/>
                  <a:pt x="7271" y="14732"/>
                </a:cubicBezTo>
              </a:path>
              <a:path w="19496" h="4827">
                <a:moveTo>
                  <a:pt x="7112" y="14192"/>
                </a:moveTo>
                <a:cubicBezTo>
                  <a:pt x="7161" y="14155"/>
                  <a:pt x="7235" y="14141"/>
                  <a:pt x="7302" y="14160"/>
                </a:cubicBezTo>
                <a:cubicBezTo>
                  <a:pt x="7379" y="14181"/>
                  <a:pt x="7409" y="14192"/>
                  <a:pt x="7493" y="14192"/>
                </a:cubicBezTo>
                <a:cubicBezTo>
                  <a:pt x="7550" y="14192"/>
                  <a:pt x="7567" y="14196"/>
                  <a:pt x="7588" y="14160"/>
                </a:cubicBezTo>
              </a:path>
              <a:path w="19496" h="4827">
                <a:moveTo>
                  <a:pt x="7842" y="13748"/>
                </a:moveTo>
                <a:cubicBezTo>
                  <a:pt x="7855" y="13695"/>
                  <a:pt x="7879" y="13659"/>
                  <a:pt x="7938" y="13652"/>
                </a:cubicBezTo>
                <a:cubicBezTo>
                  <a:pt x="8020" y="13643"/>
                  <a:pt x="7987" y="13627"/>
                  <a:pt x="8064" y="13652"/>
                </a:cubicBezTo>
                <a:cubicBezTo>
                  <a:pt x="8136" y="13676"/>
                  <a:pt x="8118" y="13653"/>
                  <a:pt x="8160" y="13716"/>
                </a:cubicBezTo>
                <a:cubicBezTo>
                  <a:pt x="8214" y="13797"/>
                  <a:pt x="8175" y="13814"/>
                  <a:pt x="8160" y="13906"/>
                </a:cubicBezTo>
                <a:cubicBezTo>
                  <a:pt x="8140" y="14026"/>
                  <a:pt x="8099" y="14061"/>
                  <a:pt x="8033" y="14160"/>
                </a:cubicBezTo>
                <a:cubicBezTo>
                  <a:pt x="7979" y="14240"/>
                  <a:pt x="7933" y="14338"/>
                  <a:pt x="7874" y="14414"/>
                </a:cubicBezTo>
                <a:cubicBezTo>
                  <a:pt x="7831" y="14469"/>
                  <a:pt x="7768" y="14511"/>
                  <a:pt x="7747" y="14573"/>
                </a:cubicBezTo>
                <a:cubicBezTo>
                  <a:pt x="7747" y="14584"/>
                  <a:pt x="7747" y="14594"/>
                  <a:pt x="7747" y="14605"/>
                </a:cubicBezTo>
                <a:cubicBezTo>
                  <a:pt x="7796" y="14642"/>
                  <a:pt x="7812" y="14637"/>
                  <a:pt x="7874" y="14637"/>
                </a:cubicBezTo>
                <a:cubicBezTo>
                  <a:pt x="7933" y="14637"/>
                  <a:pt x="7989" y="14638"/>
                  <a:pt x="8033" y="14668"/>
                </a:cubicBezTo>
                <a:cubicBezTo>
                  <a:pt x="8089" y="14706"/>
                  <a:pt x="8078" y="14686"/>
                  <a:pt x="8128" y="14637"/>
                </a:cubicBezTo>
              </a:path>
              <a:path w="19496" h="4827">
                <a:moveTo>
                  <a:pt x="8318" y="13843"/>
                </a:moveTo>
                <a:cubicBezTo>
                  <a:pt x="8327" y="13784"/>
                  <a:pt x="8346" y="13714"/>
                  <a:pt x="8414" y="13684"/>
                </a:cubicBezTo>
                <a:cubicBezTo>
                  <a:pt x="8464" y="13662"/>
                  <a:pt x="8537" y="13688"/>
                  <a:pt x="8572" y="13716"/>
                </a:cubicBezTo>
                <a:cubicBezTo>
                  <a:pt x="8619" y="13754"/>
                  <a:pt x="8696" y="13817"/>
                  <a:pt x="8700" y="13875"/>
                </a:cubicBezTo>
                <a:cubicBezTo>
                  <a:pt x="8704" y="13927"/>
                  <a:pt x="8713" y="14026"/>
                  <a:pt x="8668" y="14065"/>
                </a:cubicBezTo>
                <a:cubicBezTo>
                  <a:pt x="8641" y="14089"/>
                  <a:pt x="8583" y="14097"/>
                  <a:pt x="8541" y="14097"/>
                </a:cubicBezTo>
                <a:cubicBezTo>
                  <a:pt x="8509" y="14097"/>
                  <a:pt x="8498" y="14097"/>
                  <a:pt x="8477" y="14097"/>
                </a:cubicBezTo>
                <a:cubicBezTo>
                  <a:pt x="8486" y="14069"/>
                  <a:pt x="8527" y="14039"/>
                  <a:pt x="8572" y="14065"/>
                </a:cubicBezTo>
                <a:cubicBezTo>
                  <a:pt x="8611" y="14087"/>
                  <a:pt x="8689" y="14212"/>
                  <a:pt x="8700" y="14256"/>
                </a:cubicBezTo>
                <a:cubicBezTo>
                  <a:pt x="8720" y="14341"/>
                  <a:pt x="8731" y="14420"/>
                  <a:pt x="8731" y="14510"/>
                </a:cubicBezTo>
                <a:cubicBezTo>
                  <a:pt x="8731" y="14564"/>
                  <a:pt x="8690" y="14645"/>
                  <a:pt x="8636" y="14668"/>
                </a:cubicBezTo>
                <a:cubicBezTo>
                  <a:pt x="8593" y="14687"/>
                  <a:pt x="8562" y="14700"/>
                  <a:pt x="8509" y="14700"/>
                </a:cubicBezTo>
                <a:cubicBezTo>
                  <a:pt x="8453" y="14700"/>
                  <a:pt x="8339" y="14722"/>
                  <a:pt x="8350" y="14668"/>
                </a:cubicBezTo>
                <a:cubicBezTo>
                  <a:pt x="8382" y="14637"/>
                  <a:pt x="8393" y="14626"/>
                  <a:pt x="8414" y="14605"/>
                </a:cubicBezTo>
              </a:path>
              <a:path w="19496" h="4827">
                <a:moveTo>
                  <a:pt x="8858" y="14478"/>
                </a:moveTo>
                <a:cubicBezTo>
                  <a:pt x="8858" y="14514"/>
                  <a:pt x="8855" y="14528"/>
                  <a:pt x="8826" y="14542"/>
                </a:cubicBezTo>
              </a:path>
              <a:path w="19496" h="4827">
                <a:moveTo>
                  <a:pt x="9366" y="13748"/>
                </a:moveTo>
                <a:cubicBezTo>
                  <a:pt x="9366" y="13823"/>
                  <a:pt x="9337" y="13870"/>
                  <a:pt x="9303" y="13938"/>
                </a:cubicBezTo>
                <a:cubicBezTo>
                  <a:pt x="9252" y="14041"/>
                  <a:pt x="9220" y="14142"/>
                  <a:pt x="9208" y="14256"/>
                </a:cubicBezTo>
                <a:cubicBezTo>
                  <a:pt x="9196" y="14370"/>
                  <a:pt x="9226" y="14469"/>
                  <a:pt x="9239" y="14573"/>
                </a:cubicBezTo>
                <a:cubicBezTo>
                  <a:pt x="9244" y="14611"/>
                  <a:pt x="9289" y="14770"/>
                  <a:pt x="9366" y="14764"/>
                </a:cubicBezTo>
                <a:cubicBezTo>
                  <a:pt x="9434" y="14759"/>
                  <a:pt x="9520" y="14690"/>
                  <a:pt x="9557" y="14637"/>
                </a:cubicBezTo>
                <a:cubicBezTo>
                  <a:pt x="9590" y="14590"/>
                  <a:pt x="9646" y="14499"/>
                  <a:pt x="9652" y="14446"/>
                </a:cubicBezTo>
                <a:cubicBezTo>
                  <a:pt x="9655" y="14422"/>
                  <a:pt x="9615" y="14328"/>
                  <a:pt x="9588" y="14319"/>
                </a:cubicBezTo>
                <a:cubicBezTo>
                  <a:pt x="9498" y="14291"/>
                  <a:pt x="9491" y="14345"/>
                  <a:pt x="9430" y="14383"/>
                </a:cubicBezTo>
                <a:cubicBezTo>
                  <a:pt x="9324" y="14450"/>
                  <a:pt x="9351" y="14446"/>
                  <a:pt x="9303" y="14542"/>
                </a:cubicBezTo>
                <a:cubicBezTo>
                  <a:pt x="9276" y="14596"/>
                  <a:pt x="9223" y="14607"/>
                  <a:pt x="9208" y="14668"/>
                </a:cubicBezTo>
              </a:path>
              <a:path w="19496" h="4827">
                <a:moveTo>
                  <a:pt x="9747" y="15240"/>
                </a:moveTo>
                <a:cubicBezTo>
                  <a:pt x="9659" y="15152"/>
                  <a:pt x="9694" y="15182"/>
                  <a:pt x="9588" y="15145"/>
                </a:cubicBezTo>
                <a:cubicBezTo>
                  <a:pt x="9497" y="15113"/>
                  <a:pt x="9432" y="15116"/>
                  <a:pt x="9334" y="15113"/>
                </a:cubicBezTo>
                <a:cubicBezTo>
                  <a:pt x="8783" y="15095"/>
                  <a:pt x="8230" y="15121"/>
                  <a:pt x="7684" y="15081"/>
                </a:cubicBezTo>
                <a:cubicBezTo>
                  <a:pt x="7492" y="15067"/>
                  <a:pt x="7303" y="15031"/>
                  <a:pt x="7112" y="15018"/>
                </a:cubicBezTo>
                <a:cubicBezTo>
                  <a:pt x="6807" y="14997"/>
                  <a:pt x="6489" y="15018"/>
                  <a:pt x="6191" y="15050"/>
                </a:cubicBezTo>
                <a:cubicBezTo>
                  <a:pt x="6061" y="15064"/>
                  <a:pt x="5935" y="15052"/>
                  <a:pt x="5810" y="15081"/>
                </a:cubicBezTo>
                <a:cubicBezTo>
                  <a:pt x="5719" y="15102"/>
                  <a:pt x="5613" y="15134"/>
                  <a:pt x="5524" y="15145"/>
                </a:cubicBezTo>
                <a:cubicBezTo>
                  <a:pt x="5493" y="15149"/>
                  <a:pt x="5460" y="15142"/>
                  <a:pt x="5429" y="15145"/>
                </a:cubicBezTo>
              </a:path>
              <a:path w="19496" h="4827">
                <a:moveTo>
                  <a:pt x="7779" y="15304"/>
                </a:moveTo>
                <a:cubicBezTo>
                  <a:pt x="7779" y="15364"/>
                  <a:pt x="7757" y="15385"/>
                  <a:pt x="7747" y="15430"/>
                </a:cubicBezTo>
                <a:cubicBezTo>
                  <a:pt x="7730" y="15509"/>
                  <a:pt x="7711" y="15555"/>
                  <a:pt x="7652" y="15621"/>
                </a:cubicBezTo>
                <a:cubicBezTo>
                  <a:pt x="7605" y="15673"/>
                  <a:pt x="7575" y="15729"/>
                  <a:pt x="7525" y="15780"/>
                </a:cubicBezTo>
                <a:cubicBezTo>
                  <a:pt x="7514" y="15791"/>
                  <a:pt x="7504" y="15801"/>
                  <a:pt x="7493" y="15812"/>
                </a:cubicBezTo>
                <a:cubicBezTo>
                  <a:pt x="7561" y="15812"/>
                  <a:pt x="7572" y="15805"/>
                  <a:pt x="7620" y="15812"/>
                </a:cubicBezTo>
                <a:cubicBezTo>
                  <a:pt x="7717" y="15826"/>
                  <a:pt x="7717" y="15844"/>
                  <a:pt x="7810" y="15875"/>
                </a:cubicBezTo>
                <a:cubicBezTo>
                  <a:pt x="7858" y="15891"/>
                  <a:pt x="7882" y="15907"/>
                  <a:pt x="7938" y="15907"/>
                </a:cubicBezTo>
                <a:cubicBezTo>
                  <a:pt x="7977" y="15907"/>
                  <a:pt x="7974" y="15879"/>
                  <a:pt x="8001" y="15843"/>
                </a:cubicBezTo>
              </a:path>
              <a:path w="19496" h="4827">
                <a:moveTo>
                  <a:pt x="8128" y="15367"/>
                </a:moveTo>
                <a:cubicBezTo>
                  <a:pt x="8067" y="15443"/>
                  <a:pt x="8079" y="15508"/>
                  <a:pt x="8033" y="15589"/>
                </a:cubicBezTo>
                <a:cubicBezTo>
                  <a:pt x="7959" y="15719"/>
                  <a:pt x="7886" y="15888"/>
                  <a:pt x="7842" y="16034"/>
                </a:cubicBezTo>
                <a:cubicBezTo>
                  <a:pt x="7789" y="16207"/>
                  <a:pt x="7728" y="16363"/>
                  <a:pt x="7684" y="16542"/>
                </a:cubicBezTo>
              </a:path>
              <a:path w="19496" h="4827">
                <a:moveTo>
                  <a:pt x="14700" y="13526"/>
                </a:moveTo>
                <a:cubicBezTo>
                  <a:pt x="14687" y="13575"/>
                  <a:pt x="14668" y="13595"/>
                  <a:pt x="14668" y="13652"/>
                </a:cubicBezTo>
                <a:cubicBezTo>
                  <a:pt x="14668" y="13746"/>
                  <a:pt x="14642" y="13816"/>
                  <a:pt x="14637" y="13906"/>
                </a:cubicBezTo>
                <a:cubicBezTo>
                  <a:pt x="14632" y="13996"/>
                  <a:pt x="14594" y="14084"/>
                  <a:pt x="14573" y="14160"/>
                </a:cubicBezTo>
                <a:cubicBezTo>
                  <a:pt x="14573" y="14196"/>
                  <a:pt x="14570" y="14210"/>
                  <a:pt x="14542" y="14224"/>
                </a:cubicBezTo>
                <a:cubicBezTo>
                  <a:pt x="14581" y="14194"/>
                  <a:pt x="14619" y="14166"/>
                  <a:pt x="14668" y="14160"/>
                </a:cubicBezTo>
                <a:cubicBezTo>
                  <a:pt x="14740" y="14152"/>
                  <a:pt x="14766" y="14177"/>
                  <a:pt x="14796" y="14192"/>
                </a:cubicBezTo>
                <a:cubicBezTo>
                  <a:pt x="14822" y="14205"/>
                  <a:pt x="14895" y="14221"/>
                  <a:pt x="14922" y="14224"/>
                </a:cubicBezTo>
                <a:cubicBezTo>
                  <a:pt x="14933" y="14224"/>
                  <a:pt x="14943" y="14224"/>
                  <a:pt x="14954" y="14224"/>
                </a:cubicBezTo>
              </a:path>
              <a:path w="19496" h="4827">
                <a:moveTo>
                  <a:pt x="15018" y="13240"/>
                </a:moveTo>
                <a:cubicBezTo>
                  <a:pt x="15018" y="13476"/>
                  <a:pt x="15002" y="13705"/>
                  <a:pt x="14986" y="13938"/>
                </a:cubicBezTo>
                <a:cubicBezTo>
                  <a:pt x="14961" y="14315"/>
                  <a:pt x="14986" y="14703"/>
                  <a:pt x="14986" y="15081"/>
                </a:cubicBezTo>
              </a:path>
              <a:path w="19496" h="4827">
                <a:moveTo>
                  <a:pt x="15335" y="14224"/>
                </a:moveTo>
                <a:cubicBezTo>
                  <a:pt x="15354" y="14147"/>
                  <a:pt x="15400" y="14144"/>
                  <a:pt x="15462" y="14097"/>
                </a:cubicBezTo>
                <a:cubicBezTo>
                  <a:pt x="15507" y="14063"/>
                  <a:pt x="15592" y="14022"/>
                  <a:pt x="15653" y="14002"/>
                </a:cubicBezTo>
                <a:cubicBezTo>
                  <a:pt x="15695" y="14002"/>
                  <a:pt x="15716" y="14002"/>
                  <a:pt x="15748" y="14002"/>
                </a:cubicBezTo>
              </a:path>
              <a:path w="19496" h="4827">
                <a:moveTo>
                  <a:pt x="15938" y="13621"/>
                </a:moveTo>
                <a:cubicBezTo>
                  <a:pt x="15938" y="13631"/>
                  <a:pt x="15938" y="13642"/>
                  <a:pt x="15938" y="13652"/>
                </a:cubicBezTo>
                <a:cubicBezTo>
                  <a:pt x="15911" y="13612"/>
                  <a:pt x="15922" y="13610"/>
                  <a:pt x="15970" y="13557"/>
                </a:cubicBezTo>
                <a:cubicBezTo>
                  <a:pt x="16041" y="13478"/>
                  <a:pt x="16059" y="13384"/>
                  <a:pt x="16129" y="13303"/>
                </a:cubicBezTo>
                <a:cubicBezTo>
                  <a:pt x="16159" y="13269"/>
                  <a:pt x="16238" y="13212"/>
                  <a:pt x="16288" y="13240"/>
                </a:cubicBezTo>
                <a:cubicBezTo>
                  <a:pt x="16374" y="13288"/>
                  <a:pt x="16365" y="13412"/>
                  <a:pt x="16351" y="13494"/>
                </a:cubicBezTo>
                <a:cubicBezTo>
                  <a:pt x="16323" y="13661"/>
                  <a:pt x="16263" y="13836"/>
                  <a:pt x="16224" y="14002"/>
                </a:cubicBezTo>
                <a:cubicBezTo>
                  <a:pt x="16192" y="14138"/>
                  <a:pt x="16161" y="14281"/>
                  <a:pt x="16129" y="14414"/>
                </a:cubicBezTo>
                <a:cubicBezTo>
                  <a:pt x="16111" y="14489"/>
                  <a:pt x="16105" y="14521"/>
                  <a:pt x="16066" y="14573"/>
                </a:cubicBezTo>
                <a:cubicBezTo>
                  <a:pt x="16092" y="14538"/>
                  <a:pt x="16143" y="14487"/>
                  <a:pt x="16161" y="14446"/>
                </a:cubicBezTo>
                <a:cubicBezTo>
                  <a:pt x="16181" y="14400"/>
                  <a:pt x="16195" y="14414"/>
                  <a:pt x="16256" y="14414"/>
                </a:cubicBezTo>
                <a:cubicBezTo>
                  <a:pt x="16309" y="14414"/>
                  <a:pt x="16292" y="14464"/>
                  <a:pt x="16320" y="14478"/>
                </a:cubicBezTo>
                <a:cubicBezTo>
                  <a:pt x="16351" y="14478"/>
                  <a:pt x="16362" y="14478"/>
                  <a:pt x="16351" y="14446"/>
                </a:cubicBezTo>
              </a:path>
              <a:path w="19496" h="4827">
                <a:moveTo>
                  <a:pt x="16637" y="13367"/>
                </a:moveTo>
                <a:cubicBezTo>
                  <a:pt x="16649" y="13282"/>
                  <a:pt x="16670" y="13270"/>
                  <a:pt x="16732" y="13208"/>
                </a:cubicBezTo>
                <a:cubicBezTo>
                  <a:pt x="16764" y="13176"/>
                  <a:pt x="16815" y="13149"/>
                  <a:pt x="16859" y="13144"/>
                </a:cubicBezTo>
                <a:cubicBezTo>
                  <a:pt x="16927" y="13136"/>
                  <a:pt x="16923" y="13191"/>
                  <a:pt x="16923" y="13240"/>
                </a:cubicBezTo>
                <a:cubicBezTo>
                  <a:pt x="16923" y="13354"/>
                  <a:pt x="16863" y="13479"/>
                  <a:pt x="16828" y="13589"/>
                </a:cubicBezTo>
                <a:cubicBezTo>
                  <a:pt x="16803" y="13668"/>
                  <a:pt x="16750" y="13740"/>
                  <a:pt x="16732" y="13811"/>
                </a:cubicBezTo>
                <a:cubicBezTo>
                  <a:pt x="16768" y="13767"/>
                  <a:pt x="16803" y="13677"/>
                  <a:pt x="16859" y="13652"/>
                </a:cubicBezTo>
                <a:cubicBezTo>
                  <a:pt x="16894" y="13636"/>
                  <a:pt x="16969" y="13649"/>
                  <a:pt x="16986" y="13684"/>
                </a:cubicBezTo>
                <a:cubicBezTo>
                  <a:pt x="17019" y="13751"/>
                  <a:pt x="17034" y="13860"/>
                  <a:pt x="17018" y="13938"/>
                </a:cubicBezTo>
                <a:cubicBezTo>
                  <a:pt x="16995" y="14047"/>
                  <a:pt x="16967" y="14152"/>
                  <a:pt x="16923" y="14256"/>
                </a:cubicBezTo>
                <a:cubicBezTo>
                  <a:pt x="16902" y="14304"/>
                  <a:pt x="16842" y="14420"/>
                  <a:pt x="16796" y="14446"/>
                </a:cubicBezTo>
                <a:cubicBezTo>
                  <a:pt x="16754" y="14446"/>
                  <a:pt x="16743" y="14436"/>
                  <a:pt x="16764" y="14383"/>
                </a:cubicBezTo>
              </a:path>
              <a:path w="19496" h="4827">
                <a:moveTo>
                  <a:pt x="17177" y="14192"/>
                </a:moveTo>
                <a:cubicBezTo>
                  <a:pt x="17205" y="14221"/>
                  <a:pt x="17215" y="14227"/>
                  <a:pt x="17208" y="14256"/>
                </a:cubicBezTo>
              </a:path>
              <a:path w="19496" h="4827">
                <a:moveTo>
                  <a:pt x="17526" y="13081"/>
                </a:moveTo>
                <a:cubicBezTo>
                  <a:pt x="17484" y="13081"/>
                  <a:pt x="17520" y="13103"/>
                  <a:pt x="17494" y="13208"/>
                </a:cubicBezTo>
                <a:cubicBezTo>
                  <a:pt x="17454" y="13373"/>
                  <a:pt x="17386" y="13547"/>
                  <a:pt x="17367" y="13716"/>
                </a:cubicBezTo>
                <a:cubicBezTo>
                  <a:pt x="17352" y="13850"/>
                  <a:pt x="17344" y="14037"/>
                  <a:pt x="17399" y="14160"/>
                </a:cubicBezTo>
                <a:cubicBezTo>
                  <a:pt x="17426" y="14220"/>
                  <a:pt x="17483" y="14283"/>
                  <a:pt x="17558" y="14256"/>
                </a:cubicBezTo>
                <a:cubicBezTo>
                  <a:pt x="17645" y="14224"/>
                  <a:pt x="17694" y="14161"/>
                  <a:pt x="17748" y="14097"/>
                </a:cubicBezTo>
                <a:cubicBezTo>
                  <a:pt x="17800" y="14035"/>
                  <a:pt x="17831" y="13953"/>
                  <a:pt x="17844" y="13875"/>
                </a:cubicBezTo>
                <a:cubicBezTo>
                  <a:pt x="17857" y="13800"/>
                  <a:pt x="17827" y="13777"/>
                  <a:pt x="17812" y="13716"/>
                </a:cubicBezTo>
                <a:cubicBezTo>
                  <a:pt x="17742" y="13734"/>
                  <a:pt x="17720" y="13777"/>
                  <a:pt x="17685" y="13843"/>
                </a:cubicBezTo>
                <a:cubicBezTo>
                  <a:pt x="17641" y="13926"/>
                  <a:pt x="17626" y="14036"/>
                  <a:pt x="17621" y="14129"/>
                </a:cubicBezTo>
                <a:cubicBezTo>
                  <a:pt x="17617" y="14206"/>
                  <a:pt x="17637" y="14224"/>
                  <a:pt x="17653" y="14288"/>
                </a:cubicBezTo>
              </a:path>
              <a:path w="19496" h="4827">
                <a:moveTo>
                  <a:pt x="14605" y="15208"/>
                </a:moveTo>
                <a:cubicBezTo>
                  <a:pt x="14647" y="15208"/>
                  <a:pt x="14628" y="15195"/>
                  <a:pt x="14668" y="15208"/>
                </a:cubicBezTo>
                <a:cubicBezTo>
                  <a:pt x="14749" y="15233"/>
                  <a:pt x="14841" y="15248"/>
                  <a:pt x="14922" y="15208"/>
                </a:cubicBezTo>
                <a:cubicBezTo>
                  <a:pt x="15039" y="15150"/>
                  <a:pt x="15096" y="15097"/>
                  <a:pt x="15240" y="15081"/>
                </a:cubicBezTo>
                <a:cubicBezTo>
                  <a:pt x="15406" y="15062"/>
                  <a:pt x="15585" y="15064"/>
                  <a:pt x="15748" y="15050"/>
                </a:cubicBezTo>
                <a:cubicBezTo>
                  <a:pt x="15910" y="15036"/>
                  <a:pt x="16064" y="15022"/>
                  <a:pt x="16224" y="14986"/>
                </a:cubicBezTo>
                <a:cubicBezTo>
                  <a:pt x="16427" y="14940"/>
                  <a:pt x="16627" y="14881"/>
                  <a:pt x="16828" y="14827"/>
                </a:cubicBezTo>
                <a:cubicBezTo>
                  <a:pt x="16981" y="14786"/>
                  <a:pt x="17122" y="14745"/>
                  <a:pt x="17272" y="14700"/>
                </a:cubicBezTo>
                <a:cubicBezTo>
                  <a:pt x="17379" y="14668"/>
                  <a:pt x="17454" y="14665"/>
                  <a:pt x="17558" y="14700"/>
                </a:cubicBezTo>
                <a:cubicBezTo>
                  <a:pt x="17591" y="14711"/>
                  <a:pt x="17621" y="14750"/>
                  <a:pt x="17653" y="14764"/>
                </a:cubicBezTo>
              </a:path>
              <a:path w="19496" h="4827">
                <a:moveTo>
                  <a:pt x="15843" y="15430"/>
                </a:moveTo>
                <a:cubicBezTo>
                  <a:pt x="15802" y="15444"/>
                  <a:pt x="15788" y="15563"/>
                  <a:pt x="15780" y="15621"/>
                </a:cubicBezTo>
                <a:cubicBezTo>
                  <a:pt x="15770" y="15693"/>
                  <a:pt x="15753" y="15774"/>
                  <a:pt x="15748" y="15843"/>
                </a:cubicBezTo>
                <a:cubicBezTo>
                  <a:pt x="15743" y="15914"/>
                  <a:pt x="15716" y="15963"/>
                  <a:pt x="15716" y="16034"/>
                </a:cubicBezTo>
                <a:cubicBezTo>
                  <a:pt x="15716" y="16075"/>
                  <a:pt x="15694" y="16091"/>
                  <a:pt x="15684" y="16129"/>
                </a:cubicBezTo>
                <a:cubicBezTo>
                  <a:pt x="15728" y="16071"/>
                  <a:pt x="15727" y="16082"/>
                  <a:pt x="15780" y="16034"/>
                </a:cubicBezTo>
                <a:cubicBezTo>
                  <a:pt x="15811" y="16007"/>
                  <a:pt x="15894" y="15977"/>
                  <a:pt x="15938" y="16002"/>
                </a:cubicBezTo>
                <a:cubicBezTo>
                  <a:pt x="15991" y="16032"/>
                  <a:pt x="16001" y="16034"/>
                  <a:pt x="16066" y="16034"/>
                </a:cubicBezTo>
                <a:cubicBezTo>
                  <a:pt x="16102" y="16034"/>
                  <a:pt x="16115" y="16031"/>
                  <a:pt x="16129" y="16002"/>
                </a:cubicBezTo>
              </a:path>
              <a:path w="19496" h="4827">
                <a:moveTo>
                  <a:pt x="16129" y="15272"/>
                </a:moveTo>
                <a:cubicBezTo>
                  <a:pt x="16129" y="15656"/>
                  <a:pt x="16137" y="16034"/>
                  <a:pt x="16161" y="16415"/>
                </a:cubicBezTo>
                <a:cubicBezTo>
                  <a:pt x="16172" y="16581"/>
                  <a:pt x="16188" y="16728"/>
                  <a:pt x="16224" y="16891"/>
                </a:cubicBezTo>
              </a:path>
              <a:path w="19496" h="4827">
                <a:moveTo>
                  <a:pt x="9747" y="15081"/>
                </a:moveTo>
                <a:cubicBezTo>
                  <a:pt x="9758" y="15081"/>
                  <a:pt x="9768" y="15081"/>
                  <a:pt x="9779" y="15081"/>
                </a:cubicBezTo>
                <a:cubicBezTo>
                  <a:pt x="9791" y="15045"/>
                  <a:pt x="9823" y="15024"/>
                  <a:pt x="9874" y="15018"/>
                </a:cubicBezTo>
                <a:cubicBezTo>
                  <a:pt x="9937" y="15011"/>
                  <a:pt x="9979" y="14992"/>
                  <a:pt x="10033" y="14986"/>
                </a:cubicBezTo>
                <a:cubicBezTo>
                  <a:pt x="10105" y="14978"/>
                  <a:pt x="10135" y="14999"/>
                  <a:pt x="10192" y="15018"/>
                </a:cubicBezTo>
                <a:cubicBezTo>
                  <a:pt x="10224" y="15018"/>
                  <a:pt x="10235" y="15018"/>
                  <a:pt x="10224" y="15050"/>
                </a:cubicBezTo>
              </a:path>
              <a:path w="19496" h="4827">
                <a:moveTo>
                  <a:pt x="9874" y="15684"/>
                </a:moveTo>
                <a:cubicBezTo>
                  <a:pt x="9874" y="15674"/>
                  <a:pt x="9874" y="15663"/>
                  <a:pt x="9874" y="15653"/>
                </a:cubicBezTo>
                <a:cubicBezTo>
                  <a:pt x="9990" y="15653"/>
                  <a:pt x="10092" y="15652"/>
                  <a:pt x="10192" y="15684"/>
                </a:cubicBezTo>
                <a:cubicBezTo>
                  <a:pt x="10235" y="15698"/>
                  <a:pt x="10221" y="15701"/>
                  <a:pt x="10255" y="15748"/>
                </a:cubicBezTo>
              </a:path>
              <a:path w="19496" h="4827">
                <a:moveTo>
                  <a:pt x="10795" y="14319"/>
                </a:moveTo>
                <a:cubicBezTo>
                  <a:pt x="10740" y="14319"/>
                  <a:pt x="10809" y="14309"/>
                  <a:pt x="10827" y="14256"/>
                </a:cubicBezTo>
                <a:cubicBezTo>
                  <a:pt x="10849" y="14190"/>
                  <a:pt x="10872" y="14193"/>
                  <a:pt x="10922" y="14160"/>
                </a:cubicBezTo>
                <a:cubicBezTo>
                  <a:pt x="10952" y="14141"/>
                  <a:pt x="11005" y="14105"/>
                  <a:pt x="11049" y="14129"/>
                </a:cubicBezTo>
                <a:cubicBezTo>
                  <a:pt x="11096" y="14155"/>
                  <a:pt x="11092" y="14243"/>
                  <a:pt x="11081" y="14288"/>
                </a:cubicBezTo>
                <a:cubicBezTo>
                  <a:pt x="11052" y="14405"/>
                  <a:pt x="11033" y="14523"/>
                  <a:pt x="10986" y="14637"/>
                </a:cubicBezTo>
                <a:cubicBezTo>
                  <a:pt x="10959" y="14703"/>
                  <a:pt x="10907" y="14797"/>
                  <a:pt x="10890" y="14859"/>
                </a:cubicBezTo>
                <a:cubicBezTo>
                  <a:pt x="10880" y="14896"/>
                  <a:pt x="10862" y="15026"/>
                  <a:pt x="10827" y="14954"/>
                </a:cubicBezTo>
                <a:cubicBezTo>
                  <a:pt x="10900" y="14954"/>
                  <a:pt x="10927" y="14942"/>
                  <a:pt x="10986" y="14922"/>
                </a:cubicBezTo>
                <a:cubicBezTo>
                  <a:pt x="11015" y="14912"/>
                  <a:pt x="11026" y="14954"/>
                  <a:pt x="11081" y="14954"/>
                </a:cubicBezTo>
                <a:cubicBezTo>
                  <a:pt x="11112" y="14954"/>
                  <a:pt x="11123" y="14954"/>
                  <a:pt x="11144" y="14954"/>
                </a:cubicBezTo>
              </a:path>
              <a:path w="19496" h="4827">
                <a:moveTo>
                  <a:pt x="11208" y="14256"/>
                </a:moveTo>
                <a:cubicBezTo>
                  <a:pt x="11298" y="14256"/>
                  <a:pt x="11355" y="14249"/>
                  <a:pt x="11430" y="14224"/>
                </a:cubicBezTo>
                <a:cubicBezTo>
                  <a:pt x="11496" y="14202"/>
                  <a:pt x="11536" y="14245"/>
                  <a:pt x="11557" y="14256"/>
                </a:cubicBezTo>
                <a:cubicBezTo>
                  <a:pt x="11625" y="14290"/>
                  <a:pt x="11570" y="14321"/>
                  <a:pt x="11557" y="14383"/>
                </a:cubicBezTo>
                <a:cubicBezTo>
                  <a:pt x="11539" y="14471"/>
                  <a:pt x="11513" y="14550"/>
                  <a:pt x="11494" y="14637"/>
                </a:cubicBezTo>
                <a:cubicBezTo>
                  <a:pt x="11477" y="14715"/>
                  <a:pt x="11451" y="14790"/>
                  <a:pt x="11430" y="14859"/>
                </a:cubicBezTo>
                <a:cubicBezTo>
                  <a:pt x="11416" y="14904"/>
                  <a:pt x="11430" y="14970"/>
                  <a:pt x="11430" y="15018"/>
                </a:cubicBezTo>
              </a:path>
              <a:path w="19496" h="4827">
                <a:moveTo>
                  <a:pt x="11652" y="14700"/>
                </a:moveTo>
                <a:cubicBezTo>
                  <a:pt x="11652" y="14757"/>
                  <a:pt x="11636" y="14780"/>
                  <a:pt x="11684" y="14796"/>
                </a:cubicBezTo>
              </a:path>
              <a:path w="19496" h="4827">
                <a:moveTo>
                  <a:pt x="11843" y="14256"/>
                </a:moveTo>
                <a:cubicBezTo>
                  <a:pt x="11871" y="14227"/>
                  <a:pt x="11881" y="14221"/>
                  <a:pt x="11874" y="14192"/>
                </a:cubicBezTo>
                <a:cubicBezTo>
                  <a:pt x="11874" y="14269"/>
                  <a:pt x="11862" y="14342"/>
                  <a:pt x="11843" y="14414"/>
                </a:cubicBezTo>
                <a:cubicBezTo>
                  <a:pt x="11811" y="14535"/>
                  <a:pt x="11811" y="14638"/>
                  <a:pt x="11811" y="14764"/>
                </a:cubicBezTo>
                <a:cubicBezTo>
                  <a:pt x="11811" y="14829"/>
                  <a:pt x="11833" y="14876"/>
                  <a:pt x="11874" y="14922"/>
                </a:cubicBezTo>
                <a:cubicBezTo>
                  <a:pt x="11934" y="14990"/>
                  <a:pt x="11942" y="14936"/>
                  <a:pt x="11970" y="14922"/>
                </a:cubicBezTo>
                <a:cubicBezTo>
                  <a:pt x="12037" y="14888"/>
                  <a:pt x="12035" y="14871"/>
                  <a:pt x="12065" y="14796"/>
                </a:cubicBezTo>
                <a:cubicBezTo>
                  <a:pt x="12098" y="14713"/>
                  <a:pt x="12097" y="14665"/>
                  <a:pt x="12097" y="14573"/>
                </a:cubicBezTo>
                <a:cubicBezTo>
                  <a:pt x="12097" y="14541"/>
                  <a:pt x="12097" y="14510"/>
                  <a:pt x="12097" y="14478"/>
                </a:cubicBezTo>
                <a:cubicBezTo>
                  <a:pt x="12025" y="14478"/>
                  <a:pt x="12028" y="14483"/>
                  <a:pt x="12002" y="14542"/>
                </a:cubicBezTo>
                <a:cubicBezTo>
                  <a:pt x="11971" y="14613"/>
                  <a:pt x="11919" y="14689"/>
                  <a:pt x="11906" y="14764"/>
                </a:cubicBezTo>
                <a:cubicBezTo>
                  <a:pt x="11890" y="14856"/>
                  <a:pt x="11884" y="14849"/>
                  <a:pt x="11906" y="14891"/>
                </a:cubicBezTo>
                <a:cubicBezTo>
                  <a:pt x="11906" y="14927"/>
                  <a:pt x="11909" y="14934"/>
                  <a:pt x="11938" y="14891"/>
                </a:cubicBezTo>
              </a:path>
              <a:path w="19496" h="4827">
                <a:moveTo>
                  <a:pt x="10636" y="15494"/>
                </a:moveTo>
                <a:cubicBezTo>
                  <a:pt x="10550" y="15494"/>
                  <a:pt x="10685" y="15494"/>
                  <a:pt x="10700" y="15494"/>
                </a:cubicBezTo>
                <a:cubicBezTo>
                  <a:pt x="10761" y="15494"/>
                  <a:pt x="10824" y="15441"/>
                  <a:pt x="10890" y="15430"/>
                </a:cubicBezTo>
                <a:cubicBezTo>
                  <a:pt x="10986" y="15414"/>
                  <a:pt x="11081" y="15421"/>
                  <a:pt x="11176" y="15399"/>
                </a:cubicBezTo>
                <a:cubicBezTo>
                  <a:pt x="11291" y="15372"/>
                  <a:pt x="11409" y="15351"/>
                  <a:pt x="11525" y="15335"/>
                </a:cubicBezTo>
                <a:cubicBezTo>
                  <a:pt x="11628" y="15321"/>
                  <a:pt x="11757" y="15340"/>
                  <a:pt x="11811" y="15367"/>
                </a:cubicBezTo>
                <a:cubicBezTo>
                  <a:pt x="11822" y="15367"/>
                  <a:pt x="11832" y="15367"/>
                  <a:pt x="11843" y="15367"/>
                </a:cubicBezTo>
              </a:path>
              <a:path w="19496" h="4827">
                <a:moveTo>
                  <a:pt x="10890" y="15907"/>
                </a:moveTo>
                <a:cubicBezTo>
                  <a:pt x="10879" y="15907"/>
                  <a:pt x="10869" y="15907"/>
                  <a:pt x="10858" y="15907"/>
                </a:cubicBezTo>
                <a:cubicBezTo>
                  <a:pt x="10858" y="15974"/>
                  <a:pt x="10833" y="15998"/>
                  <a:pt x="10827" y="16066"/>
                </a:cubicBezTo>
                <a:cubicBezTo>
                  <a:pt x="10819" y="16163"/>
                  <a:pt x="10818" y="16229"/>
                  <a:pt x="10795" y="16320"/>
                </a:cubicBezTo>
                <a:cubicBezTo>
                  <a:pt x="10783" y="16366"/>
                  <a:pt x="10793" y="16331"/>
                  <a:pt x="10827" y="16320"/>
                </a:cubicBezTo>
                <a:cubicBezTo>
                  <a:pt x="10843" y="16272"/>
                  <a:pt x="10865" y="16288"/>
                  <a:pt x="10922" y="16288"/>
                </a:cubicBezTo>
                <a:cubicBezTo>
                  <a:pt x="10995" y="16288"/>
                  <a:pt x="11157" y="16314"/>
                  <a:pt x="11176" y="16256"/>
                </a:cubicBezTo>
              </a:path>
              <a:path w="19496" h="4827">
                <a:moveTo>
                  <a:pt x="11144" y="15684"/>
                </a:moveTo>
                <a:cubicBezTo>
                  <a:pt x="11089" y="15702"/>
                  <a:pt x="11112" y="15772"/>
                  <a:pt x="11112" y="15843"/>
                </a:cubicBezTo>
                <a:cubicBezTo>
                  <a:pt x="11112" y="16070"/>
                  <a:pt x="11125" y="16288"/>
                  <a:pt x="11144" y="16510"/>
                </a:cubicBezTo>
                <a:cubicBezTo>
                  <a:pt x="11156" y="16648"/>
                  <a:pt x="11134" y="16791"/>
                  <a:pt x="11176" y="16923"/>
                </a:cubicBezTo>
                <a:cubicBezTo>
                  <a:pt x="11187" y="16944"/>
                  <a:pt x="11197" y="16965"/>
                  <a:pt x="11208" y="16986"/>
                </a:cubicBezTo>
              </a:path>
              <a:path w="19496" h="4827">
                <a:moveTo>
                  <a:pt x="12002" y="15462"/>
                </a:moveTo>
                <a:cubicBezTo>
                  <a:pt x="12041" y="15432"/>
                  <a:pt x="12079" y="15404"/>
                  <a:pt x="12128" y="15399"/>
                </a:cubicBezTo>
                <a:cubicBezTo>
                  <a:pt x="12180" y="15393"/>
                  <a:pt x="12197" y="15367"/>
                  <a:pt x="12256" y="15367"/>
                </a:cubicBezTo>
                <a:cubicBezTo>
                  <a:pt x="12287" y="15367"/>
                  <a:pt x="12298" y="15367"/>
                  <a:pt x="12319" y="15367"/>
                </a:cubicBezTo>
              </a:path>
              <a:path w="19496" h="4827">
                <a:moveTo>
                  <a:pt x="12097" y="15748"/>
                </a:moveTo>
                <a:cubicBezTo>
                  <a:pt x="12135" y="15777"/>
                  <a:pt x="12201" y="15803"/>
                  <a:pt x="12256" y="15780"/>
                </a:cubicBezTo>
                <a:cubicBezTo>
                  <a:pt x="12323" y="15752"/>
                  <a:pt x="12364" y="15748"/>
                  <a:pt x="12446" y="15748"/>
                </a:cubicBezTo>
              </a:path>
              <a:path w="19496" h="4827">
                <a:moveTo>
                  <a:pt x="12605" y="14891"/>
                </a:moveTo>
                <a:cubicBezTo>
                  <a:pt x="12605" y="14968"/>
                  <a:pt x="12586" y="15009"/>
                  <a:pt x="12573" y="15081"/>
                </a:cubicBezTo>
                <a:cubicBezTo>
                  <a:pt x="12553" y="15194"/>
                  <a:pt x="12571" y="15319"/>
                  <a:pt x="12541" y="15430"/>
                </a:cubicBezTo>
                <a:cubicBezTo>
                  <a:pt x="12511" y="15541"/>
                  <a:pt x="12494" y="15664"/>
                  <a:pt x="12478" y="15780"/>
                </a:cubicBezTo>
                <a:cubicBezTo>
                  <a:pt x="12460" y="15909"/>
                  <a:pt x="12471" y="16114"/>
                  <a:pt x="12510" y="16192"/>
                </a:cubicBezTo>
                <a:cubicBezTo>
                  <a:pt x="12510" y="16203"/>
                  <a:pt x="12510" y="16213"/>
                  <a:pt x="12510" y="16224"/>
                </a:cubicBezTo>
                <a:cubicBezTo>
                  <a:pt x="12540" y="16214"/>
                  <a:pt x="12568" y="16212"/>
                  <a:pt x="12605" y="16192"/>
                </a:cubicBezTo>
                <a:cubicBezTo>
                  <a:pt x="12668" y="16157"/>
                  <a:pt x="12678" y="16089"/>
                  <a:pt x="12700" y="16034"/>
                </a:cubicBezTo>
                <a:cubicBezTo>
                  <a:pt x="12734" y="15948"/>
                  <a:pt x="12780" y="15870"/>
                  <a:pt x="12795" y="15780"/>
                </a:cubicBezTo>
                <a:cubicBezTo>
                  <a:pt x="12810" y="15690"/>
                  <a:pt x="12795" y="15586"/>
                  <a:pt x="12795" y="15494"/>
                </a:cubicBezTo>
                <a:cubicBezTo>
                  <a:pt x="12693" y="15494"/>
                  <a:pt x="12737" y="15516"/>
                  <a:pt x="12700" y="15589"/>
                </a:cubicBezTo>
                <a:cubicBezTo>
                  <a:pt x="12663" y="15662"/>
                  <a:pt x="12616" y="15726"/>
                  <a:pt x="12605" y="15812"/>
                </a:cubicBezTo>
                <a:cubicBezTo>
                  <a:pt x="12594" y="15901"/>
                  <a:pt x="12573" y="15976"/>
                  <a:pt x="12573" y="16066"/>
                </a:cubicBezTo>
                <a:cubicBezTo>
                  <a:pt x="12573" y="16119"/>
                  <a:pt x="12573" y="16129"/>
                  <a:pt x="12573" y="16161"/>
                </a:cubicBezTo>
              </a:path>
              <a:path w="19496" h="4827">
                <a:moveTo>
                  <a:pt x="12986" y="15907"/>
                </a:moveTo>
                <a:cubicBezTo>
                  <a:pt x="12933" y="15907"/>
                  <a:pt x="12954" y="15957"/>
                  <a:pt x="12954" y="16002"/>
                </a:cubicBezTo>
              </a:path>
              <a:path w="19496" h="4827">
                <a:moveTo>
                  <a:pt x="13367" y="14827"/>
                </a:moveTo>
                <a:cubicBezTo>
                  <a:pt x="13348" y="14809"/>
                  <a:pt x="13264" y="14727"/>
                  <a:pt x="13240" y="14732"/>
                </a:cubicBezTo>
                <a:cubicBezTo>
                  <a:pt x="13198" y="14741"/>
                  <a:pt x="13146" y="14794"/>
                  <a:pt x="13113" y="14827"/>
                </a:cubicBezTo>
                <a:cubicBezTo>
                  <a:pt x="13073" y="14867"/>
                  <a:pt x="13036" y="14989"/>
                  <a:pt x="13018" y="15050"/>
                </a:cubicBezTo>
                <a:cubicBezTo>
                  <a:pt x="13000" y="15108"/>
                  <a:pt x="13046" y="15199"/>
                  <a:pt x="13049" y="15208"/>
                </a:cubicBezTo>
                <a:cubicBezTo>
                  <a:pt x="13049" y="15219"/>
                  <a:pt x="13049" y="15229"/>
                  <a:pt x="13049" y="15240"/>
                </a:cubicBezTo>
                <a:cubicBezTo>
                  <a:pt x="13132" y="15219"/>
                  <a:pt x="13096" y="15174"/>
                  <a:pt x="13144" y="15113"/>
                </a:cubicBezTo>
                <a:cubicBezTo>
                  <a:pt x="13195" y="15049"/>
                  <a:pt x="13196" y="14986"/>
                  <a:pt x="13240" y="14922"/>
                </a:cubicBezTo>
                <a:cubicBezTo>
                  <a:pt x="13271" y="14876"/>
                  <a:pt x="13262" y="14841"/>
                  <a:pt x="13303" y="14827"/>
                </a:cubicBezTo>
                <a:cubicBezTo>
                  <a:pt x="13360" y="14846"/>
                  <a:pt x="13335" y="14918"/>
                  <a:pt x="13335" y="14986"/>
                </a:cubicBezTo>
                <a:cubicBezTo>
                  <a:pt x="13335" y="15192"/>
                  <a:pt x="13263" y="15576"/>
                  <a:pt x="13367" y="15748"/>
                </a:cubicBezTo>
              </a:path>
              <a:path w="19496" h="4827">
                <a:moveTo>
                  <a:pt x="12287" y="16700"/>
                </a:moveTo>
                <a:cubicBezTo>
                  <a:pt x="12277" y="16700"/>
                  <a:pt x="12266" y="16700"/>
                  <a:pt x="12256" y="16700"/>
                </a:cubicBezTo>
                <a:cubicBezTo>
                  <a:pt x="12314" y="16776"/>
                  <a:pt x="12239" y="16777"/>
                  <a:pt x="12351" y="16796"/>
                </a:cubicBezTo>
                <a:cubicBezTo>
                  <a:pt x="12423" y="16809"/>
                  <a:pt x="12534" y="16821"/>
                  <a:pt x="12605" y="16828"/>
                </a:cubicBezTo>
                <a:cubicBezTo>
                  <a:pt x="12739" y="16841"/>
                  <a:pt x="12858" y="16809"/>
                  <a:pt x="12986" y="16796"/>
                </a:cubicBezTo>
                <a:cubicBezTo>
                  <a:pt x="13146" y="16779"/>
                  <a:pt x="13207" y="16736"/>
                  <a:pt x="13335" y="16637"/>
                </a:cubicBezTo>
                <a:cubicBezTo>
                  <a:pt x="13441" y="16555"/>
                  <a:pt x="13558" y="16478"/>
                  <a:pt x="13621" y="16351"/>
                </a:cubicBezTo>
                <a:cubicBezTo>
                  <a:pt x="13689" y="16214"/>
                  <a:pt x="13736" y="16086"/>
                  <a:pt x="13780" y="15938"/>
                </a:cubicBezTo>
                <a:cubicBezTo>
                  <a:pt x="13828" y="15775"/>
                  <a:pt x="13851" y="15627"/>
                  <a:pt x="13875" y="15462"/>
                </a:cubicBezTo>
                <a:cubicBezTo>
                  <a:pt x="13903" y="15265"/>
                  <a:pt x="13880" y="15115"/>
                  <a:pt x="13875" y="14922"/>
                </a:cubicBezTo>
                <a:cubicBezTo>
                  <a:pt x="13871" y="14770"/>
                  <a:pt x="13828" y="14654"/>
                  <a:pt x="13780" y="14510"/>
                </a:cubicBezTo>
                <a:cubicBezTo>
                  <a:pt x="13739" y="14386"/>
                  <a:pt x="13671" y="14339"/>
                  <a:pt x="13589" y="14256"/>
                </a:cubicBezTo>
                <a:cubicBezTo>
                  <a:pt x="13522" y="14188"/>
                  <a:pt x="13433" y="14160"/>
                  <a:pt x="13335" y="14160"/>
                </a:cubicBezTo>
                <a:cubicBezTo>
                  <a:pt x="13224" y="14160"/>
                  <a:pt x="13072" y="14222"/>
                  <a:pt x="12986" y="14288"/>
                </a:cubicBezTo>
                <a:cubicBezTo>
                  <a:pt x="12830" y="14408"/>
                  <a:pt x="12702" y="14521"/>
                  <a:pt x="12573" y="14668"/>
                </a:cubicBezTo>
                <a:cubicBezTo>
                  <a:pt x="12407" y="14855"/>
                  <a:pt x="12329" y="15046"/>
                  <a:pt x="12224" y="15272"/>
                </a:cubicBezTo>
                <a:cubicBezTo>
                  <a:pt x="12145" y="15443"/>
                  <a:pt x="12054" y="15621"/>
                  <a:pt x="12033" y="15812"/>
                </a:cubicBezTo>
                <a:cubicBezTo>
                  <a:pt x="12012" y="15999"/>
                  <a:pt x="12013" y="16236"/>
                  <a:pt x="12065" y="16415"/>
                </a:cubicBezTo>
                <a:cubicBezTo>
                  <a:pt x="12101" y="16540"/>
                  <a:pt x="12141" y="16661"/>
                  <a:pt x="12224" y="16764"/>
                </a:cubicBezTo>
                <a:cubicBezTo>
                  <a:pt x="12300" y="16859"/>
                  <a:pt x="12342" y="16894"/>
                  <a:pt x="12446" y="16954"/>
                </a:cubicBezTo>
                <a:cubicBezTo>
                  <a:pt x="12543" y="17009"/>
                  <a:pt x="12596" y="17005"/>
                  <a:pt x="12700" y="17018"/>
                </a:cubicBezTo>
              </a:path>
              <a:path w="19496" h="4827">
                <a:moveTo>
                  <a:pt x="18161" y="14542"/>
                </a:moveTo>
                <a:cubicBezTo>
                  <a:pt x="18150" y="14542"/>
                  <a:pt x="18140" y="14542"/>
                  <a:pt x="18129" y="14542"/>
                </a:cubicBezTo>
              </a:path>
              <a:path w="19496" h="4827">
                <a:moveTo>
                  <a:pt x="18161" y="14542"/>
                </a:moveTo>
                <a:cubicBezTo>
                  <a:pt x="18172" y="14542"/>
                  <a:pt x="18182" y="14542"/>
                  <a:pt x="18193" y="14542"/>
                </a:cubicBezTo>
              </a:path>
              <a:path w="19496" h="4827">
                <a:moveTo>
                  <a:pt x="18193" y="14542"/>
                </a:moveTo>
                <a:cubicBezTo>
                  <a:pt x="18261" y="14490"/>
                  <a:pt x="18269" y="14534"/>
                  <a:pt x="18352" y="14542"/>
                </a:cubicBezTo>
                <a:cubicBezTo>
                  <a:pt x="18438" y="14551"/>
                  <a:pt x="18501" y="14549"/>
                  <a:pt x="18574" y="14573"/>
                </a:cubicBezTo>
                <a:cubicBezTo>
                  <a:pt x="18633" y="14592"/>
                  <a:pt x="18732" y="14573"/>
                  <a:pt x="18796" y="14573"/>
                </a:cubicBezTo>
                <a:cubicBezTo>
                  <a:pt x="18796" y="14605"/>
                  <a:pt x="18796" y="14616"/>
                  <a:pt x="18764" y="14605"/>
                </a:cubicBezTo>
              </a:path>
              <a:path w="19496" h="4827">
                <a:moveTo>
                  <a:pt x="18224" y="15145"/>
                </a:moveTo>
                <a:cubicBezTo>
                  <a:pt x="18283" y="15145"/>
                  <a:pt x="18300" y="15117"/>
                  <a:pt x="18352" y="15113"/>
                </a:cubicBezTo>
                <a:cubicBezTo>
                  <a:pt x="18467" y="15105"/>
                  <a:pt x="18573" y="15124"/>
                  <a:pt x="18669" y="15145"/>
                </a:cubicBezTo>
                <a:cubicBezTo>
                  <a:pt x="18748" y="15162"/>
                  <a:pt x="18764" y="15192"/>
                  <a:pt x="18828" y="15240"/>
                </a:cubicBezTo>
              </a:path>
              <a:path w="19496" h="4827">
                <a:moveTo>
                  <a:pt x="19177" y="13494"/>
                </a:moveTo>
                <a:cubicBezTo>
                  <a:pt x="19166" y="13494"/>
                  <a:pt x="19156" y="13494"/>
                  <a:pt x="19145" y="13494"/>
                </a:cubicBezTo>
                <a:cubicBezTo>
                  <a:pt x="19145" y="13561"/>
                  <a:pt x="19142" y="13557"/>
                  <a:pt x="19209" y="13557"/>
                </a:cubicBezTo>
                <a:cubicBezTo>
                  <a:pt x="19336" y="13557"/>
                  <a:pt x="19463" y="13557"/>
                  <a:pt x="19590" y="13557"/>
                </a:cubicBezTo>
              </a:path>
              <a:path w="19496" h="4827">
                <a:moveTo>
                  <a:pt x="19939" y="12764"/>
                </a:moveTo>
                <a:cubicBezTo>
                  <a:pt x="19999" y="12842"/>
                  <a:pt x="19951" y="12865"/>
                  <a:pt x="19939" y="12954"/>
                </a:cubicBezTo>
                <a:cubicBezTo>
                  <a:pt x="19894" y="13299"/>
                  <a:pt x="19957" y="13659"/>
                  <a:pt x="19907" y="14002"/>
                </a:cubicBezTo>
                <a:cubicBezTo>
                  <a:pt x="19895" y="14083"/>
                  <a:pt x="19907" y="14174"/>
                  <a:pt x="19907" y="14256"/>
                </a:cubicBezTo>
              </a:path>
              <a:path w="19496" h="4827">
                <a:moveTo>
                  <a:pt x="20415" y="13176"/>
                </a:moveTo>
                <a:cubicBezTo>
                  <a:pt x="20415" y="13087"/>
                  <a:pt x="20408" y="13027"/>
                  <a:pt x="20384" y="12954"/>
                </a:cubicBezTo>
                <a:cubicBezTo>
                  <a:pt x="20366" y="12898"/>
                  <a:pt x="20350" y="12853"/>
                  <a:pt x="20320" y="12827"/>
                </a:cubicBezTo>
                <a:cubicBezTo>
                  <a:pt x="20278" y="12790"/>
                  <a:pt x="20214" y="12785"/>
                  <a:pt x="20193" y="12859"/>
                </a:cubicBezTo>
                <a:cubicBezTo>
                  <a:pt x="20164" y="12960"/>
                  <a:pt x="20135" y="13067"/>
                  <a:pt x="20130" y="13176"/>
                </a:cubicBezTo>
                <a:cubicBezTo>
                  <a:pt x="20126" y="13275"/>
                  <a:pt x="20105" y="13416"/>
                  <a:pt x="20161" y="13494"/>
                </a:cubicBezTo>
                <a:cubicBezTo>
                  <a:pt x="20270" y="13494"/>
                  <a:pt x="20232" y="13460"/>
                  <a:pt x="20288" y="13367"/>
                </a:cubicBezTo>
                <a:cubicBezTo>
                  <a:pt x="20333" y="13292"/>
                  <a:pt x="20351" y="13217"/>
                  <a:pt x="20384" y="13144"/>
                </a:cubicBezTo>
                <a:cubicBezTo>
                  <a:pt x="20415" y="13113"/>
                  <a:pt x="20426" y="13102"/>
                  <a:pt x="20447" y="13081"/>
                </a:cubicBezTo>
                <a:cubicBezTo>
                  <a:pt x="20447" y="13142"/>
                  <a:pt x="20422" y="13195"/>
                  <a:pt x="20415" y="13240"/>
                </a:cubicBezTo>
                <a:cubicBezTo>
                  <a:pt x="20392" y="13393"/>
                  <a:pt x="20401" y="13564"/>
                  <a:pt x="20384" y="13716"/>
                </a:cubicBezTo>
                <a:cubicBezTo>
                  <a:pt x="20373" y="13815"/>
                  <a:pt x="20351" y="14117"/>
                  <a:pt x="20415" y="14160"/>
                </a:cubicBezTo>
              </a:path>
              <a:path w="19496" h="4827">
                <a:moveTo>
                  <a:pt x="20669" y="13780"/>
                </a:moveTo>
                <a:cubicBezTo>
                  <a:pt x="20656" y="13832"/>
                  <a:pt x="20646" y="13846"/>
                  <a:pt x="20638" y="13906"/>
                </a:cubicBezTo>
              </a:path>
              <a:path w="19496" h="4827">
                <a:moveTo>
                  <a:pt x="20955" y="12890"/>
                </a:moveTo>
                <a:cubicBezTo>
                  <a:pt x="20955" y="12837"/>
                  <a:pt x="20955" y="12827"/>
                  <a:pt x="20955" y="12795"/>
                </a:cubicBezTo>
                <a:cubicBezTo>
                  <a:pt x="21005" y="12747"/>
                  <a:pt x="20973" y="12857"/>
                  <a:pt x="20955" y="12922"/>
                </a:cubicBezTo>
                <a:cubicBezTo>
                  <a:pt x="20920" y="13049"/>
                  <a:pt x="20902" y="13200"/>
                  <a:pt x="20892" y="13335"/>
                </a:cubicBezTo>
                <a:cubicBezTo>
                  <a:pt x="20880" y="13501"/>
                  <a:pt x="20906" y="13652"/>
                  <a:pt x="20923" y="13811"/>
                </a:cubicBezTo>
                <a:cubicBezTo>
                  <a:pt x="20930" y="13874"/>
                  <a:pt x="20933" y="14035"/>
                  <a:pt x="21018" y="14065"/>
                </a:cubicBezTo>
                <a:cubicBezTo>
                  <a:pt x="21093" y="14092"/>
                  <a:pt x="21131" y="14048"/>
                  <a:pt x="21177" y="14002"/>
                </a:cubicBezTo>
                <a:cubicBezTo>
                  <a:pt x="21234" y="13944"/>
                  <a:pt x="21274" y="13888"/>
                  <a:pt x="21304" y="13811"/>
                </a:cubicBezTo>
                <a:cubicBezTo>
                  <a:pt x="21346" y="13705"/>
                  <a:pt x="21336" y="13605"/>
                  <a:pt x="21336" y="13494"/>
                </a:cubicBezTo>
                <a:cubicBezTo>
                  <a:pt x="21336" y="13428"/>
                  <a:pt x="21335" y="13404"/>
                  <a:pt x="21304" y="13367"/>
                </a:cubicBezTo>
                <a:cubicBezTo>
                  <a:pt x="21224" y="13367"/>
                  <a:pt x="21202" y="13414"/>
                  <a:pt x="21177" y="13494"/>
                </a:cubicBezTo>
                <a:cubicBezTo>
                  <a:pt x="21151" y="13577"/>
                  <a:pt x="21137" y="13667"/>
                  <a:pt x="21114" y="13748"/>
                </a:cubicBezTo>
                <a:cubicBezTo>
                  <a:pt x="21084" y="13853"/>
                  <a:pt x="21086" y="13875"/>
                  <a:pt x="21114" y="13970"/>
                </a:cubicBezTo>
                <a:cubicBezTo>
                  <a:pt x="21114" y="13981"/>
                  <a:pt x="21114" y="13991"/>
                  <a:pt x="21114" y="14002"/>
                </a:cubicBezTo>
              </a:path>
              <a:path w="19496" h="4827">
                <a:moveTo>
                  <a:pt x="19494" y="14510"/>
                </a:moveTo>
                <a:cubicBezTo>
                  <a:pt x="19589" y="14510"/>
                  <a:pt x="19659" y="14509"/>
                  <a:pt x="19748" y="14478"/>
                </a:cubicBezTo>
                <a:cubicBezTo>
                  <a:pt x="19849" y="14443"/>
                  <a:pt x="19992" y="14396"/>
                  <a:pt x="20098" y="14383"/>
                </a:cubicBezTo>
                <a:cubicBezTo>
                  <a:pt x="20245" y="14365"/>
                  <a:pt x="20397" y="14332"/>
                  <a:pt x="20542" y="14319"/>
                </a:cubicBezTo>
                <a:cubicBezTo>
                  <a:pt x="20762" y="14299"/>
                  <a:pt x="21000" y="14316"/>
                  <a:pt x="21209" y="14351"/>
                </a:cubicBezTo>
                <a:cubicBezTo>
                  <a:pt x="21286" y="14364"/>
                  <a:pt x="21280" y="14359"/>
                  <a:pt x="21336" y="14414"/>
                </a:cubicBezTo>
              </a:path>
              <a:path w="19496" h="4827">
                <a:moveTo>
                  <a:pt x="20130" y="14764"/>
                </a:moveTo>
                <a:cubicBezTo>
                  <a:pt x="20130" y="14860"/>
                  <a:pt x="20120" y="14929"/>
                  <a:pt x="20098" y="15018"/>
                </a:cubicBezTo>
                <a:cubicBezTo>
                  <a:pt x="20088" y="15058"/>
                  <a:pt x="20081" y="15211"/>
                  <a:pt x="20066" y="15240"/>
                </a:cubicBezTo>
                <a:cubicBezTo>
                  <a:pt x="20062" y="15248"/>
                  <a:pt x="20017" y="15267"/>
                  <a:pt x="20002" y="15272"/>
                </a:cubicBezTo>
                <a:cubicBezTo>
                  <a:pt x="20035" y="15239"/>
                  <a:pt x="20115" y="15224"/>
                  <a:pt x="20130" y="15208"/>
                </a:cubicBezTo>
                <a:cubicBezTo>
                  <a:pt x="20140" y="15187"/>
                  <a:pt x="20151" y="15166"/>
                  <a:pt x="20161" y="15145"/>
                </a:cubicBezTo>
                <a:cubicBezTo>
                  <a:pt x="20237" y="15257"/>
                  <a:pt x="20202" y="15160"/>
                  <a:pt x="20288" y="15208"/>
                </a:cubicBezTo>
                <a:cubicBezTo>
                  <a:pt x="20303" y="15217"/>
                  <a:pt x="20388" y="15274"/>
                  <a:pt x="20415" y="15240"/>
                </a:cubicBezTo>
                <a:cubicBezTo>
                  <a:pt x="20415" y="15229"/>
                  <a:pt x="20415" y="15219"/>
                  <a:pt x="20415" y="15208"/>
                </a:cubicBezTo>
              </a:path>
              <a:path w="19496" h="4827">
                <a:moveTo>
                  <a:pt x="20415" y="14700"/>
                </a:moveTo>
                <a:cubicBezTo>
                  <a:pt x="20362" y="14773"/>
                  <a:pt x="20399" y="14831"/>
                  <a:pt x="20384" y="14922"/>
                </a:cubicBezTo>
                <a:cubicBezTo>
                  <a:pt x="20356" y="15095"/>
                  <a:pt x="20352" y="15253"/>
                  <a:pt x="20352" y="15430"/>
                </a:cubicBezTo>
                <a:cubicBezTo>
                  <a:pt x="20352" y="15596"/>
                  <a:pt x="20366" y="15747"/>
                  <a:pt x="20384" y="15907"/>
                </a:cubicBezTo>
                <a:cubicBezTo>
                  <a:pt x="20384" y="15992"/>
                  <a:pt x="20384" y="16013"/>
                  <a:pt x="20384" y="16066"/>
                </a:cubicBezTo>
              </a:path>
              <a:path w="19496" h="4827">
                <a:moveTo>
                  <a:pt x="21654" y="14192"/>
                </a:moveTo>
                <a:cubicBezTo>
                  <a:pt x="21775" y="14192"/>
                  <a:pt x="21972" y="14153"/>
                  <a:pt x="22066" y="14224"/>
                </a:cubicBezTo>
              </a:path>
              <a:path w="19496" h="4827">
                <a:moveTo>
                  <a:pt x="21717" y="14764"/>
                </a:moveTo>
                <a:cubicBezTo>
                  <a:pt x="21781" y="14764"/>
                  <a:pt x="21844" y="14764"/>
                  <a:pt x="21908" y="14764"/>
                </a:cubicBezTo>
              </a:path>
              <a:path w="19496" h="4827">
                <a:moveTo>
                  <a:pt x="22288" y="13843"/>
                </a:moveTo>
                <a:cubicBezTo>
                  <a:pt x="22407" y="13843"/>
                  <a:pt x="22496" y="13847"/>
                  <a:pt x="22606" y="13875"/>
                </a:cubicBezTo>
                <a:cubicBezTo>
                  <a:pt x="22658" y="13888"/>
                  <a:pt x="22687" y="13896"/>
                  <a:pt x="22701" y="13938"/>
                </a:cubicBezTo>
              </a:path>
              <a:path w="19496" h="4827">
                <a:moveTo>
                  <a:pt x="22924" y="13462"/>
                </a:moveTo>
                <a:cubicBezTo>
                  <a:pt x="22943" y="13520"/>
                  <a:pt x="22955" y="13494"/>
                  <a:pt x="22955" y="13589"/>
                </a:cubicBezTo>
                <a:cubicBezTo>
                  <a:pt x="22955" y="13686"/>
                  <a:pt x="22924" y="13772"/>
                  <a:pt x="22924" y="13875"/>
                </a:cubicBezTo>
                <a:cubicBezTo>
                  <a:pt x="22924" y="13998"/>
                  <a:pt x="22875" y="14109"/>
                  <a:pt x="22860" y="14224"/>
                </a:cubicBezTo>
                <a:cubicBezTo>
                  <a:pt x="22847" y="14325"/>
                  <a:pt x="22820" y="14384"/>
                  <a:pt x="22796" y="14478"/>
                </a:cubicBezTo>
                <a:cubicBezTo>
                  <a:pt x="22781" y="14537"/>
                  <a:pt x="22819" y="14460"/>
                  <a:pt x="22860" y="14446"/>
                </a:cubicBezTo>
                <a:cubicBezTo>
                  <a:pt x="22907" y="14430"/>
                  <a:pt x="22932" y="14414"/>
                  <a:pt x="22987" y="14414"/>
                </a:cubicBezTo>
                <a:cubicBezTo>
                  <a:pt x="23045" y="14414"/>
                  <a:pt x="23062" y="14440"/>
                  <a:pt x="23114" y="14446"/>
                </a:cubicBezTo>
                <a:cubicBezTo>
                  <a:pt x="23165" y="14452"/>
                  <a:pt x="23153" y="14395"/>
                  <a:pt x="23178" y="14383"/>
                </a:cubicBezTo>
                <a:cubicBezTo>
                  <a:pt x="23188" y="14383"/>
                  <a:pt x="23199" y="14383"/>
                  <a:pt x="23209" y="14383"/>
                </a:cubicBezTo>
              </a:path>
              <a:path w="19496" h="4827">
                <a:moveTo>
                  <a:pt x="23368" y="13335"/>
                </a:moveTo>
                <a:cubicBezTo>
                  <a:pt x="23252" y="13352"/>
                  <a:pt x="23309" y="13343"/>
                  <a:pt x="23273" y="13462"/>
                </a:cubicBezTo>
                <a:cubicBezTo>
                  <a:pt x="23235" y="13589"/>
                  <a:pt x="23241" y="13706"/>
                  <a:pt x="23241" y="13843"/>
                </a:cubicBezTo>
                <a:cubicBezTo>
                  <a:pt x="23241" y="14348"/>
                  <a:pt x="23272" y="14871"/>
                  <a:pt x="23209" y="15367"/>
                </a:cubicBezTo>
                <a:cubicBezTo>
                  <a:pt x="23209" y="15399"/>
                  <a:pt x="23209" y="15409"/>
                  <a:pt x="23209" y="15430"/>
                </a:cubicBezTo>
              </a:path>
              <a:path w="19496" h="4827">
                <a:moveTo>
                  <a:pt x="23432" y="15018"/>
                </a:moveTo>
                <a:cubicBezTo>
                  <a:pt x="23386" y="15125"/>
                  <a:pt x="23409" y="15076"/>
                  <a:pt x="23432" y="15145"/>
                </a:cubicBezTo>
              </a:path>
              <a:path w="19496" h="4827">
                <a:moveTo>
                  <a:pt x="24162" y="13684"/>
                </a:moveTo>
                <a:cubicBezTo>
                  <a:pt x="24162" y="13575"/>
                  <a:pt x="24216" y="13478"/>
                  <a:pt x="24194" y="13367"/>
                </a:cubicBezTo>
                <a:cubicBezTo>
                  <a:pt x="24184" y="13318"/>
                  <a:pt x="24103" y="13246"/>
                  <a:pt x="24066" y="13208"/>
                </a:cubicBezTo>
                <a:cubicBezTo>
                  <a:pt x="24037" y="13179"/>
                  <a:pt x="23951" y="13152"/>
                  <a:pt x="23908" y="13176"/>
                </a:cubicBezTo>
                <a:cubicBezTo>
                  <a:pt x="23840" y="13214"/>
                  <a:pt x="23761" y="13282"/>
                  <a:pt x="23749" y="13367"/>
                </a:cubicBezTo>
                <a:cubicBezTo>
                  <a:pt x="23725" y="13539"/>
                  <a:pt x="23740" y="13745"/>
                  <a:pt x="23781" y="13906"/>
                </a:cubicBezTo>
                <a:cubicBezTo>
                  <a:pt x="23794" y="13958"/>
                  <a:pt x="23792" y="13957"/>
                  <a:pt x="23844" y="13970"/>
                </a:cubicBezTo>
                <a:cubicBezTo>
                  <a:pt x="23899" y="13897"/>
                  <a:pt x="23887" y="13838"/>
                  <a:pt x="23908" y="13748"/>
                </a:cubicBezTo>
                <a:cubicBezTo>
                  <a:pt x="23937" y="13624"/>
                  <a:pt x="23941" y="13483"/>
                  <a:pt x="24003" y="13367"/>
                </a:cubicBezTo>
                <a:cubicBezTo>
                  <a:pt x="24025" y="13326"/>
                  <a:pt x="24071" y="13281"/>
                  <a:pt x="24098" y="13272"/>
                </a:cubicBezTo>
                <a:cubicBezTo>
                  <a:pt x="24146" y="13334"/>
                  <a:pt x="24159" y="13410"/>
                  <a:pt x="24162" y="13494"/>
                </a:cubicBezTo>
                <a:cubicBezTo>
                  <a:pt x="24168" y="13659"/>
                  <a:pt x="24135" y="13807"/>
                  <a:pt x="24130" y="13970"/>
                </a:cubicBezTo>
                <a:cubicBezTo>
                  <a:pt x="24125" y="14163"/>
                  <a:pt x="24103" y="14350"/>
                  <a:pt x="24098" y="14542"/>
                </a:cubicBezTo>
                <a:cubicBezTo>
                  <a:pt x="24098" y="14658"/>
                  <a:pt x="24098" y="14690"/>
                  <a:pt x="24098" y="14764"/>
                </a:cubicBezTo>
              </a:path>
              <a:path w="19496" h="4827">
                <a:moveTo>
                  <a:pt x="22733" y="15716"/>
                </a:moveTo>
                <a:cubicBezTo>
                  <a:pt x="22753" y="15734"/>
                  <a:pt x="22786" y="15782"/>
                  <a:pt x="22828" y="15812"/>
                </a:cubicBezTo>
                <a:cubicBezTo>
                  <a:pt x="22902" y="15864"/>
                  <a:pt x="22962" y="15896"/>
                  <a:pt x="23050" y="15907"/>
                </a:cubicBezTo>
                <a:cubicBezTo>
                  <a:pt x="23201" y="15926"/>
                  <a:pt x="23350" y="15895"/>
                  <a:pt x="23495" y="15875"/>
                </a:cubicBezTo>
                <a:cubicBezTo>
                  <a:pt x="23649" y="15854"/>
                  <a:pt x="23769" y="15823"/>
                  <a:pt x="23908" y="15748"/>
                </a:cubicBezTo>
                <a:cubicBezTo>
                  <a:pt x="24108" y="15640"/>
                  <a:pt x="24298" y="15497"/>
                  <a:pt x="24448" y="15335"/>
                </a:cubicBezTo>
                <a:cubicBezTo>
                  <a:pt x="24571" y="15202"/>
                  <a:pt x="24670" y="15032"/>
                  <a:pt x="24733" y="14859"/>
                </a:cubicBezTo>
                <a:cubicBezTo>
                  <a:pt x="24798" y="14680"/>
                  <a:pt x="24872" y="14480"/>
                  <a:pt x="24892" y="14288"/>
                </a:cubicBezTo>
                <a:cubicBezTo>
                  <a:pt x="24913" y="14086"/>
                  <a:pt x="24924" y="13889"/>
                  <a:pt x="24924" y="13684"/>
                </a:cubicBezTo>
                <a:cubicBezTo>
                  <a:pt x="24924" y="13479"/>
                  <a:pt x="24914" y="13311"/>
                  <a:pt x="24860" y="13113"/>
                </a:cubicBezTo>
                <a:cubicBezTo>
                  <a:pt x="24808" y="12923"/>
                  <a:pt x="24753" y="12737"/>
                  <a:pt x="24638" y="12573"/>
                </a:cubicBezTo>
                <a:cubicBezTo>
                  <a:pt x="24562" y="12464"/>
                  <a:pt x="24449" y="12336"/>
                  <a:pt x="24320" y="12287"/>
                </a:cubicBezTo>
                <a:cubicBezTo>
                  <a:pt x="24182" y="12234"/>
                  <a:pt x="24021" y="12207"/>
                  <a:pt x="23876" y="12192"/>
                </a:cubicBezTo>
                <a:cubicBezTo>
                  <a:pt x="23722" y="12176"/>
                  <a:pt x="23511" y="12231"/>
                  <a:pt x="23368" y="12287"/>
                </a:cubicBezTo>
                <a:cubicBezTo>
                  <a:pt x="23197" y="12354"/>
                  <a:pt x="22999" y="12453"/>
                  <a:pt x="22860" y="12573"/>
                </a:cubicBezTo>
                <a:cubicBezTo>
                  <a:pt x="22688" y="12721"/>
                  <a:pt x="22552" y="12868"/>
                  <a:pt x="22416" y="13049"/>
                </a:cubicBezTo>
                <a:cubicBezTo>
                  <a:pt x="22271" y="13242"/>
                  <a:pt x="22165" y="13416"/>
                  <a:pt x="22098" y="13652"/>
                </a:cubicBezTo>
                <a:cubicBezTo>
                  <a:pt x="22034" y="13876"/>
                  <a:pt x="22003" y="14054"/>
                  <a:pt x="22003" y="14288"/>
                </a:cubicBezTo>
                <a:cubicBezTo>
                  <a:pt x="22003" y="14502"/>
                  <a:pt x="22018" y="14683"/>
                  <a:pt x="22066" y="14891"/>
                </a:cubicBezTo>
                <a:cubicBezTo>
                  <a:pt x="22110" y="15080"/>
                  <a:pt x="22161" y="15259"/>
                  <a:pt x="22257" y="15430"/>
                </a:cubicBezTo>
                <a:cubicBezTo>
                  <a:pt x="22329" y="15558"/>
                  <a:pt x="22437" y="15713"/>
                  <a:pt x="22542" y="15812"/>
                </a:cubicBezTo>
                <a:cubicBezTo>
                  <a:pt x="22639" y="15903"/>
                  <a:pt x="22747" y="15966"/>
                  <a:pt x="22860" y="16034"/>
                </a:cubicBezTo>
                <a:cubicBezTo>
                  <a:pt x="22967" y="16099"/>
                  <a:pt x="23060" y="16129"/>
                  <a:pt x="23178" y="16161"/>
                </a:cubicBezTo>
                <a:cubicBezTo>
                  <a:pt x="23285" y="16190"/>
                  <a:pt x="23323" y="16174"/>
                  <a:pt x="23432" y="16161"/>
                </a:cubicBezTo>
              </a:path>
            </a:pathLst>
          </a:custGeom>
          <a:noFill/>
          <a:ln cap="rnd" w="19080">
            <a:solidFill>
              <a:srgbClr val="82ac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13"/>
          <p:cNvSpPr/>
          <p:nvPr/>
        </p:nvSpPr>
        <p:spPr>
          <a:xfrm>
            <a:off x="2754360" y="4297320"/>
            <a:ext cx="3314520" cy="652680"/>
          </a:xfrm>
          <a:custGeom>
            <a:avLst/>
            <a:gdLst/>
            <a:ahLst/>
            <a:rect l="l" t="t" r="r" b="b"/>
            <a:pathLst>
              <a:path w="9208" h="1811">
                <a:moveTo>
                  <a:pt x="7652" y="11970"/>
                </a:moveTo>
                <a:cubicBezTo>
                  <a:pt x="8024" y="11970"/>
                  <a:pt x="8396" y="11986"/>
                  <a:pt x="8763" y="12002"/>
                </a:cubicBezTo>
                <a:cubicBezTo>
                  <a:pt x="8945" y="12010"/>
                  <a:pt x="9122" y="12026"/>
                  <a:pt x="9303" y="12033"/>
                </a:cubicBezTo>
                <a:cubicBezTo>
                  <a:pt x="9496" y="12040"/>
                  <a:pt x="9682" y="12062"/>
                  <a:pt x="9874" y="12065"/>
                </a:cubicBezTo>
                <a:cubicBezTo>
                  <a:pt x="10226" y="12070"/>
                  <a:pt x="10574" y="12076"/>
                  <a:pt x="10922" y="12097"/>
                </a:cubicBezTo>
                <a:cubicBezTo>
                  <a:pt x="11779" y="12150"/>
                  <a:pt x="12675" y="12110"/>
                  <a:pt x="13526" y="12065"/>
                </a:cubicBezTo>
                <a:cubicBezTo>
                  <a:pt x="13730" y="12054"/>
                  <a:pt x="13928" y="12057"/>
                  <a:pt x="14129" y="12033"/>
                </a:cubicBezTo>
                <a:cubicBezTo>
                  <a:pt x="14383" y="12003"/>
                  <a:pt x="14637" y="11994"/>
                  <a:pt x="14891" y="11970"/>
                </a:cubicBezTo>
                <a:cubicBezTo>
                  <a:pt x="15083" y="11952"/>
                  <a:pt x="15266" y="11938"/>
                  <a:pt x="15462" y="11938"/>
                </a:cubicBezTo>
                <a:cubicBezTo>
                  <a:pt x="15635" y="11938"/>
                  <a:pt x="15802" y="11962"/>
                  <a:pt x="15970" y="11970"/>
                </a:cubicBezTo>
                <a:cubicBezTo>
                  <a:pt x="16113" y="11976"/>
                  <a:pt x="16243" y="11994"/>
                  <a:pt x="16383" y="12002"/>
                </a:cubicBezTo>
                <a:cubicBezTo>
                  <a:pt x="16497" y="12008"/>
                  <a:pt x="16592" y="12016"/>
                  <a:pt x="16700" y="12033"/>
                </a:cubicBezTo>
                <a:cubicBezTo>
                  <a:pt x="16756" y="12042"/>
                  <a:pt x="16815" y="12057"/>
                  <a:pt x="16859" y="12065"/>
                </a:cubicBezTo>
              </a:path>
              <a:path w="9208" h="1811">
                <a:moveTo>
                  <a:pt x="10604" y="12732"/>
                </a:moveTo>
                <a:lnTo>
                  <a:pt x="10604" y="12732"/>
                </a:lnTo>
              </a:path>
              <a:path w="9208" h="1811">
                <a:moveTo>
                  <a:pt x="10700" y="12541"/>
                </a:moveTo>
                <a:cubicBezTo>
                  <a:pt x="10749" y="12493"/>
                  <a:pt x="10790" y="12437"/>
                  <a:pt x="10858" y="12414"/>
                </a:cubicBezTo>
                <a:cubicBezTo>
                  <a:pt x="10888" y="12404"/>
                  <a:pt x="10947" y="12360"/>
                  <a:pt x="10986" y="12382"/>
                </a:cubicBezTo>
                <a:cubicBezTo>
                  <a:pt x="11027" y="12405"/>
                  <a:pt x="11067" y="12460"/>
                  <a:pt x="11049" y="12510"/>
                </a:cubicBezTo>
                <a:cubicBezTo>
                  <a:pt x="11019" y="12594"/>
                  <a:pt x="11013" y="12682"/>
                  <a:pt x="10986" y="12764"/>
                </a:cubicBezTo>
                <a:cubicBezTo>
                  <a:pt x="10964" y="12831"/>
                  <a:pt x="10898" y="12928"/>
                  <a:pt x="10858" y="12986"/>
                </a:cubicBezTo>
                <a:cubicBezTo>
                  <a:pt x="10819" y="13043"/>
                  <a:pt x="10781" y="13095"/>
                  <a:pt x="10732" y="13144"/>
                </a:cubicBezTo>
                <a:cubicBezTo>
                  <a:pt x="10690" y="13186"/>
                  <a:pt x="10697" y="13220"/>
                  <a:pt x="10636" y="13240"/>
                </a:cubicBezTo>
                <a:cubicBezTo>
                  <a:pt x="10572" y="13261"/>
                  <a:pt x="10574" y="13223"/>
                  <a:pt x="10604" y="13208"/>
                </a:cubicBezTo>
                <a:cubicBezTo>
                  <a:pt x="10636" y="13192"/>
                  <a:pt x="10676" y="13179"/>
                  <a:pt x="10700" y="13176"/>
                </a:cubicBezTo>
                <a:cubicBezTo>
                  <a:pt x="10787" y="13165"/>
                  <a:pt x="10852" y="13185"/>
                  <a:pt x="10922" y="13208"/>
                </a:cubicBezTo>
                <a:cubicBezTo>
                  <a:pt x="10962" y="13221"/>
                  <a:pt x="11028" y="13255"/>
                  <a:pt x="11049" y="13303"/>
                </a:cubicBezTo>
                <a:cubicBezTo>
                  <a:pt x="11059" y="13326"/>
                  <a:pt x="11110" y="13361"/>
                  <a:pt x="11112" y="13367"/>
                </a:cubicBezTo>
                <a:cubicBezTo>
                  <a:pt x="11127" y="13424"/>
                  <a:pt x="11117" y="13455"/>
                  <a:pt x="11176" y="13462"/>
                </a:cubicBezTo>
                <a:cubicBezTo>
                  <a:pt x="11187" y="13462"/>
                  <a:pt x="11197" y="13462"/>
                  <a:pt x="11208" y="13462"/>
                </a:cubicBezTo>
              </a:path>
              <a:path w="9208" h="1811">
                <a:moveTo>
                  <a:pt x="11716" y="12224"/>
                </a:moveTo>
                <a:lnTo>
                  <a:pt x="11716" y="12224"/>
                </a:lnTo>
              </a:path>
              <a:path w="9208" h="1811">
                <a:moveTo>
                  <a:pt x="11716" y="12224"/>
                </a:moveTo>
                <a:cubicBezTo>
                  <a:pt x="11705" y="12235"/>
                  <a:pt x="11695" y="12245"/>
                  <a:pt x="11684" y="12256"/>
                </a:cubicBezTo>
              </a:path>
              <a:path w="9208" h="1811">
                <a:moveTo>
                  <a:pt x="11684" y="12256"/>
                </a:moveTo>
                <a:cubicBezTo>
                  <a:pt x="11646" y="12268"/>
                  <a:pt x="11631" y="12282"/>
                  <a:pt x="11589" y="12319"/>
                </a:cubicBezTo>
                <a:cubicBezTo>
                  <a:pt x="11540" y="12363"/>
                  <a:pt x="11533" y="12401"/>
                  <a:pt x="11494" y="12446"/>
                </a:cubicBezTo>
                <a:cubicBezTo>
                  <a:pt x="11443" y="12504"/>
                  <a:pt x="11454" y="12568"/>
                  <a:pt x="11430" y="12636"/>
                </a:cubicBezTo>
                <a:cubicBezTo>
                  <a:pt x="11395" y="12734"/>
                  <a:pt x="11371" y="12816"/>
                  <a:pt x="11366" y="12922"/>
                </a:cubicBezTo>
                <a:cubicBezTo>
                  <a:pt x="11359" y="13066"/>
                  <a:pt x="11380" y="13201"/>
                  <a:pt x="11398" y="13335"/>
                </a:cubicBezTo>
                <a:cubicBezTo>
                  <a:pt x="11411" y="13432"/>
                  <a:pt x="11437" y="13474"/>
                  <a:pt x="11462" y="13557"/>
                </a:cubicBezTo>
                <a:cubicBezTo>
                  <a:pt x="11474" y="13597"/>
                  <a:pt x="11509" y="13663"/>
                  <a:pt x="11557" y="13684"/>
                </a:cubicBezTo>
                <a:cubicBezTo>
                  <a:pt x="11602" y="13704"/>
                  <a:pt x="11573" y="13700"/>
                  <a:pt x="11620" y="13716"/>
                </a:cubicBezTo>
              </a:path>
              <a:path w="9208" h="1811">
                <a:moveTo>
                  <a:pt x="11779" y="12922"/>
                </a:moveTo>
                <a:cubicBezTo>
                  <a:pt x="11779" y="12911"/>
                  <a:pt x="11779" y="12901"/>
                  <a:pt x="11779" y="12890"/>
                </a:cubicBezTo>
              </a:path>
              <a:path w="9208" h="1811">
                <a:moveTo>
                  <a:pt x="11779" y="12922"/>
                </a:moveTo>
                <a:cubicBezTo>
                  <a:pt x="11779" y="12880"/>
                  <a:pt x="11779" y="12837"/>
                  <a:pt x="11779" y="12795"/>
                </a:cubicBezTo>
              </a:path>
              <a:path w="9208" h="1811">
                <a:moveTo>
                  <a:pt x="11779" y="12795"/>
                </a:moveTo>
                <a:cubicBezTo>
                  <a:pt x="11794" y="12753"/>
                  <a:pt x="11824" y="12756"/>
                  <a:pt x="11843" y="12700"/>
                </a:cubicBezTo>
                <a:cubicBezTo>
                  <a:pt x="11855" y="12663"/>
                  <a:pt x="11886" y="12642"/>
                  <a:pt x="11938" y="12636"/>
                </a:cubicBezTo>
                <a:cubicBezTo>
                  <a:pt x="11970" y="12636"/>
                  <a:pt x="11981" y="12636"/>
                  <a:pt x="12002" y="12636"/>
                </a:cubicBezTo>
                <a:cubicBezTo>
                  <a:pt x="12002" y="12730"/>
                  <a:pt x="11984" y="12804"/>
                  <a:pt x="11970" y="12890"/>
                </a:cubicBezTo>
                <a:cubicBezTo>
                  <a:pt x="11958" y="12960"/>
                  <a:pt x="11936" y="13054"/>
                  <a:pt x="11906" y="13113"/>
                </a:cubicBezTo>
                <a:cubicBezTo>
                  <a:pt x="11879" y="13166"/>
                  <a:pt x="11757" y="13213"/>
                  <a:pt x="11811" y="13240"/>
                </a:cubicBezTo>
                <a:cubicBezTo>
                  <a:pt x="11841" y="13255"/>
                  <a:pt x="11868" y="13189"/>
                  <a:pt x="11906" y="13176"/>
                </a:cubicBezTo>
                <a:cubicBezTo>
                  <a:pt x="11976" y="13153"/>
                  <a:pt x="12044" y="13190"/>
                  <a:pt x="12097" y="13208"/>
                </a:cubicBezTo>
                <a:cubicBezTo>
                  <a:pt x="12139" y="13222"/>
                  <a:pt x="12139" y="13270"/>
                  <a:pt x="12160" y="13208"/>
                </a:cubicBezTo>
              </a:path>
              <a:path w="9208" h="1811">
                <a:moveTo>
                  <a:pt x="12097" y="12446"/>
                </a:moveTo>
                <a:lnTo>
                  <a:pt x="12097" y="12446"/>
                </a:lnTo>
              </a:path>
              <a:path w="9208" h="1811">
                <a:moveTo>
                  <a:pt x="12097" y="12446"/>
                </a:moveTo>
                <a:cubicBezTo>
                  <a:pt x="12107" y="12446"/>
                  <a:pt x="12118" y="12446"/>
                  <a:pt x="12128" y="12446"/>
                </a:cubicBezTo>
              </a:path>
              <a:path w="9208" h="1811">
                <a:moveTo>
                  <a:pt x="12128" y="12446"/>
                </a:moveTo>
                <a:cubicBezTo>
                  <a:pt x="12203" y="12446"/>
                  <a:pt x="12196" y="12472"/>
                  <a:pt x="12256" y="12510"/>
                </a:cubicBezTo>
                <a:cubicBezTo>
                  <a:pt x="12336" y="12561"/>
                  <a:pt x="12368" y="12581"/>
                  <a:pt x="12414" y="12668"/>
                </a:cubicBezTo>
                <a:cubicBezTo>
                  <a:pt x="12468" y="12770"/>
                  <a:pt x="12504" y="12839"/>
                  <a:pt x="12510" y="12954"/>
                </a:cubicBezTo>
                <a:cubicBezTo>
                  <a:pt x="12516" y="13079"/>
                  <a:pt x="12494" y="13184"/>
                  <a:pt x="12478" y="13303"/>
                </a:cubicBezTo>
                <a:cubicBezTo>
                  <a:pt x="12463" y="13410"/>
                  <a:pt x="12405" y="13489"/>
                  <a:pt x="12382" y="13589"/>
                </a:cubicBezTo>
                <a:cubicBezTo>
                  <a:pt x="12363" y="13673"/>
                  <a:pt x="12351" y="13684"/>
                  <a:pt x="12287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14"/>
          <p:cNvSpPr/>
          <p:nvPr/>
        </p:nvSpPr>
        <p:spPr>
          <a:xfrm>
            <a:off x="2593800" y="2617920"/>
            <a:ext cx="3338640" cy="102960"/>
          </a:xfrm>
          <a:custGeom>
            <a:avLst/>
            <a:gdLst/>
            <a:ahLst/>
            <a:rect l="l" t="t" r="r" b="b"/>
            <a:pathLst>
              <a:path w="9272" h="286">
                <a:moveTo>
                  <a:pt x="16478" y="7366"/>
                </a:moveTo>
                <a:cubicBezTo>
                  <a:pt x="16395" y="7354"/>
                  <a:pt x="16333" y="7347"/>
                  <a:pt x="16256" y="7334"/>
                </a:cubicBezTo>
                <a:cubicBezTo>
                  <a:pt x="16161" y="7318"/>
                  <a:pt x="16065" y="7308"/>
                  <a:pt x="15970" y="7302"/>
                </a:cubicBezTo>
                <a:cubicBezTo>
                  <a:pt x="15861" y="7295"/>
                  <a:pt x="15760" y="7277"/>
                  <a:pt x="15653" y="7271"/>
                </a:cubicBezTo>
                <a:cubicBezTo>
                  <a:pt x="15167" y="7243"/>
                  <a:pt x="14672" y="7280"/>
                  <a:pt x="14192" y="7302"/>
                </a:cubicBezTo>
                <a:cubicBezTo>
                  <a:pt x="13855" y="7318"/>
                  <a:pt x="13507" y="7319"/>
                  <a:pt x="13176" y="7334"/>
                </a:cubicBezTo>
                <a:cubicBezTo>
                  <a:pt x="12891" y="7347"/>
                  <a:pt x="12600" y="7353"/>
                  <a:pt x="12319" y="7366"/>
                </a:cubicBezTo>
                <a:cubicBezTo>
                  <a:pt x="11958" y="7382"/>
                  <a:pt x="11596" y="7350"/>
                  <a:pt x="11240" y="7334"/>
                </a:cubicBezTo>
                <a:cubicBezTo>
                  <a:pt x="10923" y="7320"/>
                  <a:pt x="10600" y="7316"/>
                  <a:pt x="10287" y="7302"/>
                </a:cubicBezTo>
                <a:cubicBezTo>
                  <a:pt x="9977" y="7288"/>
                  <a:pt x="9670" y="7319"/>
                  <a:pt x="9366" y="7334"/>
                </a:cubicBezTo>
                <a:cubicBezTo>
                  <a:pt x="9039" y="7350"/>
                  <a:pt x="8703" y="7348"/>
                  <a:pt x="8382" y="7366"/>
                </a:cubicBezTo>
                <a:cubicBezTo>
                  <a:pt x="8259" y="7373"/>
                  <a:pt x="8148" y="7380"/>
                  <a:pt x="8033" y="7398"/>
                </a:cubicBezTo>
                <a:cubicBezTo>
                  <a:pt x="7872" y="7423"/>
                  <a:pt x="7716" y="7460"/>
                  <a:pt x="7556" y="7493"/>
                </a:cubicBezTo>
                <a:cubicBezTo>
                  <a:pt x="7486" y="7507"/>
                  <a:pt x="7363" y="7556"/>
                  <a:pt x="7302" y="7556"/>
                </a:cubicBezTo>
                <a:cubicBezTo>
                  <a:pt x="7245" y="7556"/>
                  <a:pt x="7229" y="7560"/>
                  <a:pt x="7207" y="7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15"/>
          <p:cNvSpPr/>
          <p:nvPr/>
        </p:nvSpPr>
        <p:spPr>
          <a:xfrm>
            <a:off x="3211560" y="3451320"/>
            <a:ext cx="3224160" cy="903240"/>
          </a:xfrm>
          <a:custGeom>
            <a:avLst/>
            <a:gdLst/>
            <a:ahLst/>
            <a:rect l="l" t="t" r="r" b="b"/>
            <a:pathLst>
              <a:path w="8954" h="2510">
                <a:moveTo>
                  <a:pt x="10224" y="9874"/>
                </a:moveTo>
                <a:cubicBezTo>
                  <a:pt x="10153" y="9889"/>
                  <a:pt x="10100" y="9887"/>
                  <a:pt x="10033" y="9906"/>
                </a:cubicBezTo>
                <a:cubicBezTo>
                  <a:pt x="9945" y="9931"/>
                  <a:pt x="9931" y="9925"/>
                  <a:pt x="9842" y="9970"/>
                </a:cubicBezTo>
                <a:cubicBezTo>
                  <a:pt x="9782" y="10000"/>
                  <a:pt x="9708" y="10056"/>
                  <a:pt x="9652" y="10096"/>
                </a:cubicBezTo>
                <a:cubicBezTo>
                  <a:pt x="9595" y="10136"/>
                  <a:pt x="9546" y="10178"/>
                  <a:pt x="9493" y="10224"/>
                </a:cubicBezTo>
                <a:cubicBezTo>
                  <a:pt x="9404" y="10302"/>
                  <a:pt x="9350" y="10393"/>
                  <a:pt x="9271" y="10478"/>
                </a:cubicBezTo>
                <a:cubicBezTo>
                  <a:pt x="9211" y="10543"/>
                  <a:pt x="9160" y="10597"/>
                  <a:pt x="9112" y="10668"/>
                </a:cubicBezTo>
                <a:cubicBezTo>
                  <a:pt x="9052" y="10755"/>
                  <a:pt x="9016" y="10831"/>
                  <a:pt x="8985" y="10922"/>
                </a:cubicBezTo>
                <a:cubicBezTo>
                  <a:pt x="8959" y="10998"/>
                  <a:pt x="8922" y="11098"/>
                  <a:pt x="8922" y="11176"/>
                </a:cubicBezTo>
                <a:cubicBezTo>
                  <a:pt x="8922" y="11274"/>
                  <a:pt x="8932" y="11339"/>
                  <a:pt x="8954" y="11430"/>
                </a:cubicBezTo>
                <a:cubicBezTo>
                  <a:pt x="8966" y="11481"/>
                  <a:pt x="8991" y="11549"/>
                  <a:pt x="9017" y="11589"/>
                </a:cubicBezTo>
                <a:cubicBezTo>
                  <a:pt x="9050" y="11639"/>
                  <a:pt x="9151" y="11731"/>
                  <a:pt x="9176" y="11748"/>
                </a:cubicBezTo>
                <a:cubicBezTo>
                  <a:pt x="9211" y="11771"/>
                  <a:pt x="9268" y="11761"/>
                  <a:pt x="9303" y="11779"/>
                </a:cubicBezTo>
                <a:cubicBezTo>
                  <a:pt x="9331" y="11793"/>
                  <a:pt x="9393" y="11841"/>
                  <a:pt x="9398" y="11843"/>
                </a:cubicBezTo>
                <a:cubicBezTo>
                  <a:pt x="9436" y="11859"/>
                  <a:pt x="9486" y="11863"/>
                  <a:pt x="9525" y="11874"/>
                </a:cubicBezTo>
                <a:cubicBezTo>
                  <a:pt x="9572" y="11887"/>
                  <a:pt x="9602" y="11895"/>
                  <a:pt x="9652" y="11906"/>
                </a:cubicBezTo>
                <a:cubicBezTo>
                  <a:pt x="9702" y="11917"/>
                  <a:pt x="9733" y="11928"/>
                  <a:pt x="9779" y="11938"/>
                </a:cubicBezTo>
                <a:cubicBezTo>
                  <a:pt x="9857" y="11955"/>
                  <a:pt x="9926" y="11957"/>
                  <a:pt x="10001" y="11970"/>
                </a:cubicBezTo>
                <a:cubicBezTo>
                  <a:pt x="10056" y="11980"/>
                  <a:pt x="10106" y="11993"/>
                  <a:pt x="10160" y="12002"/>
                </a:cubicBezTo>
                <a:cubicBezTo>
                  <a:pt x="10215" y="12011"/>
                  <a:pt x="10265" y="12024"/>
                  <a:pt x="10319" y="12033"/>
                </a:cubicBezTo>
                <a:cubicBezTo>
                  <a:pt x="10372" y="12042"/>
                  <a:pt x="10427" y="12065"/>
                  <a:pt x="10478" y="12065"/>
                </a:cubicBezTo>
                <a:cubicBezTo>
                  <a:pt x="10533" y="12065"/>
                  <a:pt x="10601" y="12034"/>
                  <a:pt x="10636" y="12033"/>
                </a:cubicBezTo>
                <a:cubicBezTo>
                  <a:pt x="10886" y="12028"/>
                  <a:pt x="11133" y="12035"/>
                  <a:pt x="11366" y="12065"/>
                </a:cubicBezTo>
                <a:cubicBezTo>
                  <a:pt x="11460" y="12077"/>
                  <a:pt x="11561" y="12093"/>
                  <a:pt x="11652" y="12097"/>
                </a:cubicBezTo>
                <a:cubicBezTo>
                  <a:pt x="11871" y="12108"/>
                  <a:pt x="12077" y="12076"/>
                  <a:pt x="12287" y="12065"/>
                </a:cubicBezTo>
                <a:cubicBezTo>
                  <a:pt x="12391" y="12060"/>
                  <a:pt x="12521" y="12038"/>
                  <a:pt x="12605" y="12033"/>
                </a:cubicBezTo>
                <a:cubicBezTo>
                  <a:pt x="12823" y="12020"/>
                  <a:pt x="13072" y="12012"/>
                  <a:pt x="13272" y="12002"/>
                </a:cubicBezTo>
                <a:cubicBezTo>
                  <a:pt x="13419" y="11994"/>
                  <a:pt x="13579" y="11977"/>
                  <a:pt x="13716" y="11970"/>
                </a:cubicBezTo>
                <a:cubicBezTo>
                  <a:pt x="13881" y="11962"/>
                  <a:pt x="14032" y="11947"/>
                  <a:pt x="14192" y="11938"/>
                </a:cubicBezTo>
                <a:cubicBezTo>
                  <a:pt x="14312" y="11931"/>
                  <a:pt x="14425" y="11912"/>
                  <a:pt x="14542" y="11906"/>
                </a:cubicBezTo>
                <a:cubicBezTo>
                  <a:pt x="14902" y="11887"/>
                  <a:pt x="15296" y="11922"/>
                  <a:pt x="15621" y="11938"/>
                </a:cubicBezTo>
                <a:cubicBezTo>
                  <a:pt x="15950" y="11955"/>
                  <a:pt x="16288" y="11921"/>
                  <a:pt x="16605" y="11906"/>
                </a:cubicBezTo>
                <a:cubicBezTo>
                  <a:pt x="16709" y="11901"/>
                  <a:pt x="16796" y="11889"/>
                  <a:pt x="16891" y="11874"/>
                </a:cubicBezTo>
                <a:cubicBezTo>
                  <a:pt x="16982" y="11860"/>
                  <a:pt x="17058" y="11841"/>
                  <a:pt x="17145" y="11811"/>
                </a:cubicBezTo>
                <a:cubicBezTo>
                  <a:pt x="17220" y="11785"/>
                  <a:pt x="17285" y="11752"/>
                  <a:pt x="17367" y="11716"/>
                </a:cubicBezTo>
                <a:cubicBezTo>
                  <a:pt x="17456" y="11677"/>
                  <a:pt x="17503" y="11661"/>
                  <a:pt x="17590" y="11589"/>
                </a:cubicBezTo>
                <a:cubicBezTo>
                  <a:pt x="17724" y="11477"/>
                  <a:pt x="17806" y="11338"/>
                  <a:pt x="17844" y="11176"/>
                </a:cubicBezTo>
                <a:cubicBezTo>
                  <a:pt x="17884" y="11006"/>
                  <a:pt x="17876" y="10869"/>
                  <a:pt x="17844" y="10700"/>
                </a:cubicBezTo>
                <a:cubicBezTo>
                  <a:pt x="17826" y="10602"/>
                  <a:pt x="17800" y="10506"/>
                  <a:pt x="17748" y="10414"/>
                </a:cubicBezTo>
                <a:cubicBezTo>
                  <a:pt x="17696" y="10323"/>
                  <a:pt x="17653" y="10268"/>
                  <a:pt x="17590" y="10192"/>
                </a:cubicBezTo>
                <a:cubicBezTo>
                  <a:pt x="17528" y="10117"/>
                  <a:pt x="17481" y="10090"/>
                  <a:pt x="17399" y="10033"/>
                </a:cubicBezTo>
                <a:cubicBezTo>
                  <a:pt x="17278" y="9949"/>
                  <a:pt x="17207" y="9920"/>
                  <a:pt x="17082" y="9874"/>
                </a:cubicBezTo>
                <a:cubicBezTo>
                  <a:pt x="16994" y="9841"/>
                  <a:pt x="16918" y="9801"/>
                  <a:pt x="16828" y="9779"/>
                </a:cubicBezTo>
                <a:cubicBezTo>
                  <a:pt x="16743" y="9758"/>
                  <a:pt x="16662" y="9760"/>
                  <a:pt x="16574" y="9747"/>
                </a:cubicBezTo>
                <a:cubicBezTo>
                  <a:pt x="16394" y="9720"/>
                  <a:pt x="16218" y="9731"/>
                  <a:pt x="16034" y="9716"/>
                </a:cubicBezTo>
                <a:cubicBezTo>
                  <a:pt x="15936" y="9708"/>
                  <a:pt x="15848" y="9688"/>
                  <a:pt x="15748" y="9684"/>
                </a:cubicBezTo>
                <a:cubicBezTo>
                  <a:pt x="15584" y="9677"/>
                  <a:pt x="15432" y="9674"/>
                  <a:pt x="15272" y="9652"/>
                </a:cubicBezTo>
                <a:cubicBezTo>
                  <a:pt x="15153" y="9636"/>
                  <a:pt x="15043" y="9628"/>
                  <a:pt x="14922" y="9620"/>
                </a:cubicBezTo>
                <a:cubicBezTo>
                  <a:pt x="14792" y="9612"/>
                  <a:pt x="14670" y="9594"/>
                  <a:pt x="14542" y="9588"/>
                </a:cubicBezTo>
                <a:cubicBezTo>
                  <a:pt x="13855" y="9555"/>
                  <a:pt x="13158" y="9607"/>
                  <a:pt x="12478" y="9620"/>
                </a:cubicBezTo>
                <a:cubicBezTo>
                  <a:pt x="12336" y="9623"/>
                  <a:pt x="12205" y="9645"/>
                  <a:pt x="12065" y="9652"/>
                </a:cubicBezTo>
                <a:cubicBezTo>
                  <a:pt x="11933" y="9659"/>
                  <a:pt x="11813" y="9668"/>
                  <a:pt x="11684" y="9684"/>
                </a:cubicBezTo>
                <a:cubicBezTo>
                  <a:pt x="11565" y="9699"/>
                  <a:pt x="11458" y="9705"/>
                  <a:pt x="11335" y="9716"/>
                </a:cubicBezTo>
                <a:cubicBezTo>
                  <a:pt x="11199" y="9728"/>
                  <a:pt x="11058" y="9761"/>
                  <a:pt x="10922" y="9779"/>
                </a:cubicBezTo>
                <a:cubicBezTo>
                  <a:pt x="10804" y="9795"/>
                  <a:pt x="10659" y="9814"/>
                  <a:pt x="10541" y="9842"/>
                </a:cubicBezTo>
                <a:cubicBezTo>
                  <a:pt x="10459" y="9862"/>
                  <a:pt x="10367" y="9882"/>
                  <a:pt x="10287" y="9906"/>
                </a:cubicBezTo>
                <a:cubicBezTo>
                  <a:pt x="10209" y="9929"/>
                  <a:pt x="10142" y="9971"/>
                  <a:pt x="10065" y="10001"/>
                </a:cubicBezTo>
                <a:cubicBezTo>
                  <a:pt x="10007" y="10024"/>
                  <a:pt x="9937" y="10043"/>
                  <a:pt x="9874" y="10065"/>
                </a:cubicBezTo>
              </a:path>
            </a:pathLst>
          </a:custGeom>
          <a:noFill/>
          <a:ln cap="rnd" w="19080">
            <a:solidFill>
              <a:srgbClr val="82ac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2(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4) = 32 b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tho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3"/>
          <p:cNvSpPr/>
          <p:nvPr/>
        </p:nvSpPr>
        <p:spPr>
          <a:xfrm>
            <a:off x="2674800" y="411120"/>
            <a:ext cx="2022480" cy="503280"/>
          </a:xfrm>
          <a:custGeom>
            <a:avLst/>
            <a:gdLst/>
            <a:ahLst/>
            <a:rect l="l" t="t" r="r" b="b"/>
            <a:pathLst>
              <a:path w="5620" h="1398">
                <a:moveTo>
                  <a:pt x="7461" y="2413"/>
                </a:moveTo>
                <a:cubicBezTo>
                  <a:pt x="7471" y="2344"/>
                  <a:pt x="7462" y="2317"/>
                  <a:pt x="7493" y="2254"/>
                </a:cubicBezTo>
                <a:cubicBezTo>
                  <a:pt x="7540" y="2160"/>
                  <a:pt x="7609" y="2075"/>
                  <a:pt x="7684" y="2000"/>
                </a:cubicBezTo>
                <a:cubicBezTo>
                  <a:pt x="7812" y="1872"/>
                  <a:pt x="7928" y="1716"/>
                  <a:pt x="8096" y="1651"/>
                </a:cubicBezTo>
                <a:cubicBezTo>
                  <a:pt x="8224" y="1602"/>
                  <a:pt x="8308" y="1588"/>
                  <a:pt x="8446" y="1588"/>
                </a:cubicBezTo>
                <a:cubicBezTo>
                  <a:pt x="8584" y="1588"/>
                  <a:pt x="8667" y="1603"/>
                  <a:pt x="8795" y="1651"/>
                </a:cubicBezTo>
                <a:cubicBezTo>
                  <a:pt x="8907" y="1693"/>
                  <a:pt x="9008" y="1772"/>
                  <a:pt x="9080" y="1873"/>
                </a:cubicBezTo>
                <a:cubicBezTo>
                  <a:pt x="9114" y="1920"/>
                  <a:pt x="9194" y="2045"/>
                  <a:pt x="9208" y="2096"/>
                </a:cubicBezTo>
                <a:cubicBezTo>
                  <a:pt x="9226" y="2164"/>
                  <a:pt x="9195" y="2257"/>
                  <a:pt x="9239" y="2318"/>
                </a:cubicBezTo>
                <a:cubicBezTo>
                  <a:pt x="9250" y="2318"/>
                  <a:pt x="9260" y="2318"/>
                  <a:pt x="9271" y="2318"/>
                </a:cubicBezTo>
              </a:path>
              <a:path w="5620" h="1398">
                <a:moveTo>
                  <a:pt x="12986" y="2350"/>
                </a:moveTo>
                <a:cubicBezTo>
                  <a:pt x="13007" y="2371"/>
                  <a:pt x="13028" y="2392"/>
                  <a:pt x="13049" y="2413"/>
                </a:cubicBezTo>
              </a:path>
              <a:path w="5620" h="1398">
                <a:moveTo>
                  <a:pt x="7493" y="2096"/>
                </a:moveTo>
                <a:cubicBezTo>
                  <a:pt x="7553" y="2048"/>
                  <a:pt x="7599" y="1981"/>
                  <a:pt x="7652" y="1937"/>
                </a:cubicBezTo>
                <a:cubicBezTo>
                  <a:pt x="7739" y="1864"/>
                  <a:pt x="7845" y="1814"/>
                  <a:pt x="7938" y="1746"/>
                </a:cubicBezTo>
                <a:cubicBezTo>
                  <a:pt x="8041" y="1671"/>
                  <a:pt x="8146" y="1619"/>
                  <a:pt x="8255" y="1556"/>
                </a:cubicBezTo>
                <a:cubicBezTo>
                  <a:pt x="8370" y="1490"/>
                  <a:pt x="8485" y="1420"/>
                  <a:pt x="8604" y="1365"/>
                </a:cubicBezTo>
                <a:cubicBezTo>
                  <a:pt x="8796" y="1276"/>
                  <a:pt x="9009" y="1255"/>
                  <a:pt x="9208" y="1206"/>
                </a:cubicBezTo>
                <a:cubicBezTo>
                  <a:pt x="9381" y="1163"/>
                  <a:pt x="9571" y="1156"/>
                  <a:pt x="9747" y="1143"/>
                </a:cubicBezTo>
                <a:cubicBezTo>
                  <a:pt x="9923" y="1130"/>
                  <a:pt x="10087" y="1163"/>
                  <a:pt x="10255" y="1175"/>
                </a:cubicBezTo>
                <a:cubicBezTo>
                  <a:pt x="10406" y="1185"/>
                  <a:pt x="10551" y="1185"/>
                  <a:pt x="10700" y="1206"/>
                </a:cubicBezTo>
                <a:cubicBezTo>
                  <a:pt x="10831" y="1224"/>
                  <a:pt x="10952" y="1267"/>
                  <a:pt x="11081" y="1302"/>
                </a:cubicBezTo>
                <a:cubicBezTo>
                  <a:pt x="11264" y="1352"/>
                  <a:pt x="11423" y="1405"/>
                  <a:pt x="11589" y="1492"/>
                </a:cubicBezTo>
                <a:cubicBezTo>
                  <a:pt x="11707" y="1554"/>
                  <a:pt x="11829" y="1602"/>
                  <a:pt x="11938" y="1683"/>
                </a:cubicBezTo>
                <a:cubicBezTo>
                  <a:pt x="12038" y="1758"/>
                  <a:pt x="12165" y="1832"/>
                  <a:pt x="12256" y="1905"/>
                </a:cubicBezTo>
                <a:cubicBezTo>
                  <a:pt x="12337" y="1969"/>
                  <a:pt x="12411" y="2060"/>
                  <a:pt x="12478" y="2127"/>
                </a:cubicBezTo>
                <a:cubicBezTo>
                  <a:pt x="12539" y="2188"/>
                  <a:pt x="12619" y="2259"/>
                  <a:pt x="12668" y="2318"/>
                </a:cubicBezTo>
                <a:cubicBezTo>
                  <a:pt x="12721" y="2384"/>
                  <a:pt x="12730" y="2449"/>
                  <a:pt x="12764" y="2508"/>
                </a:cubicBezTo>
                <a:cubicBezTo>
                  <a:pt x="12795" y="2508"/>
                  <a:pt x="12806" y="2508"/>
                  <a:pt x="12795" y="25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4"/>
          <p:cNvSpPr/>
          <p:nvPr/>
        </p:nvSpPr>
        <p:spPr>
          <a:xfrm>
            <a:off x="2114640" y="2378160"/>
            <a:ext cx="3063960" cy="696960"/>
          </a:xfrm>
          <a:custGeom>
            <a:avLst/>
            <a:gdLst/>
            <a:ahLst/>
            <a:rect l="l" t="t" r="r" b="b"/>
            <a:pathLst>
              <a:path w="8510" h="1938">
                <a:moveTo>
                  <a:pt x="6001" y="6922"/>
                </a:moveTo>
                <a:cubicBezTo>
                  <a:pt x="5990" y="6943"/>
                  <a:pt x="5980" y="6964"/>
                  <a:pt x="5969" y="6985"/>
                </a:cubicBezTo>
              </a:path>
              <a:path w="8510" h="1938">
                <a:moveTo>
                  <a:pt x="6001" y="6922"/>
                </a:moveTo>
                <a:lnTo>
                  <a:pt x="6001" y="6922"/>
                </a:lnTo>
              </a:path>
              <a:path w="8510" h="1938">
                <a:moveTo>
                  <a:pt x="5969" y="7112"/>
                </a:moveTo>
                <a:cubicBezTo>
                  <a:pt x="5940" y="7216"/>
                  <a:pt x="5922" y="7328"/>
                  <a:pt x="5906" y="7430"/>
                </a:cubicBezTo>
                <a:cubicBezTo>
                  <a:pt x="5893" y="7513"/>
                  <a:pt x="5895" y="7580"/>
                  <a:pt x="5874" y="7652"/>
                </a:cubicBezTo>
                <a:cubicBezTo>
                  <a:pt x="5855" y="7716"/>
                  <a:pt x="5890" y="7715"/>
                  <a:pt x="5906" y="7684"/>
                </a:cubicBezTo>
                <a:cubicBezTo>
                  <a:pt x="5943" y="7609"/>
                  <a:pt x="5940" y="7654"/>
                  <a:pt x="6001" y="7620"/>
                </a:cubicBezTo>
                <a:cubicBezTo>
                  <a:pt x="6077" y="7577"/>
                  <a:pt x="6067" y="7612"/>
                  <a:pt x="6160" y="7620"/>
                </a:cubicBezTo>
                <a:cubicBezTo>
                  <a:pt x="6193" y="7623"/>
                  <a:pt x="6289" y="7637"/>
                  <a:pt x="6318" y="7652"/>
                </a:cubicBezTo>
                <a:cubicBezTo>
                  <a:pt x="6353" y="7670"/>
                  <a:pt x="6428" y="7711"/>
                  <a:pt x="6477" y="7684"/>
                </a:cubicBezTo>
                <a:cubicBezTo>
                  <a:pt x="6506" y="7655"/>
                  <a:pt x="6512" y="7645"/>
                  <a:pt x="6540" y="7652"/>
                </a:cubicBezTo>
              </a:path>
              <a:path w="8510" h="1938">
                <a:moveTo>
                  <a:pt x="6636" y="6826"/>
                </a:moveTo>
                <a:cubicBezTo>
                  <a:pt x="6619" y="6909"/>
                  <a:pt x="6582" y="6994"/>
                  <a:pt x="6572" y="7080"/>
                </a:cubicBezTo>
                <a:cubicBezTo>
                  <a:pt x="6554" y="7239"/>
                  <a:pt x="6549" y="7400"/>
                  <a:pt x="6509" y="7556"/>
                </a:cubicBezTo>
                <a:cubicBezTo>
                  <a:pt x="6471" y="7702"/>
                  <a:pt x="6476" y="7854"/>
                  <a:pt x="6445" y="8001"/>
                </a:cubicBezTo>
                <a:cubicBezTo>
                  <a:pt x="6424" y="8099"/>
                  <a:pt x="6404" y="8192"/>
                  <a:pt x="6382" y="8287"/>
                </a:cubicBezTo>
                <a:cubicBezTo>
                  <a:pt x="6382" y="8297"/>
                  <a:pt x="6382" y="8308"/>
                  <a:pt x="6382" y="8318"/>
                </a:cubicBezTo>
              </a:path>
              <a:path w="8510" h="1938">
                <a:moveTo>
                  <a:pt x="6826" y="7398"/>
                </a:moveTo>
                <a:cubicBezTo>
                  <a:pt x="6901" y="7435"/>
                  <a:pt x="6916" y="7505"/>
                  <a:pt x="6953" y="7588"/>
                </a:cubicBezTo>
                <a:cubicBezTo>
                  <a:pt x="7007" y="7709"/>
                  <a:pt x="7041" y="7825"/>
                  <a:pt x="7112" y="7938"/>
                </a:cubicBezTo>
                <a:cubicBezTo>
                  <a:pt x="7189" y="8060"/>
                  <a:pt x="7231" y="8152"/>
                  <a:pt x="7334" y="8255"/>
                </a:cubicBezTo>
                <a:cubicBezTo>
                  <a:pt x="7373" y="8294"/>
                  <a:pt x="7379" y="8287"/>
                  <a:pt x="7430" y="8287"/>
                </a:cubicBezTo>
              </a:path>
              <a:path w="8510" h="1938">
                <a:moveTo>
                  <a:pt x="7461" y="7334"/>
                </a:moveTo>
                <a:cubicBezTo>
                  <a:pt x="7445" y="7415"/>
                  <a:pt x="7401" y="7511"/>
                  <a:pt x="7366" y="7588"/>
                </a:cubicBezTo>
                <a:cubicBezTo>
                  <a:pt x="7290" y="7755"/>
                  <a:pt x="7187" y="7890"/>
                  <a:pt x="7080" y="8033"/>
                </a:cubicBezTo>
                <a:cubicBezTo>
                  <a:pt x="6996" y="8145"/>
                  <a:pt x="6929" y="8269"/>
                  <a:pt x="6858" y="8382"/>
                </a:cubicBezTo>
                <a:cubicBezTo>
                  <a:pt x="6824" y="8436"/>
                  <a:pt x="6807" y="8464"/>
                  <a:pt x="6763" y="8509"/>
                </a:cubicBezTo>
              </a:path>
              <a:path w="8510" h="1938">
                <a:moveTo>
                  <a:pt x="7842" y="6794"/>
                </a:moveTo>
                <a:cubicBezTo>
                  <a:pt x="7842" y="6735"/>
                  <a:pt x="7834" y="6713"/>
                  <a:pt x="7874" y="6668"/>
                </a:cubicBezTo>
                <a:cubicBezTo>
                  <a:pt x="7909" y="6629"/>
                  <a:pt x="7980" y="6608"/>
                  <a:pt x="8033" y="6604"/>
                </a:cubicBezTo>
                <a:cubicBezTo>
                  <a:pt x="8120" y="6598"/>
                  <a:pt x="8128" y="6625"/>
                  <a:pt x="8128" y="6699"/>
                </a:cubicBezTo>
                <a:cubicBezTo>
                  <a:pt x="8128" y="6787"/>
                  <a:pt x="8057" y="6862"/>
                  <a:pt x="8001" y="6922"/>
                </a:cubicBezTo>
                <a:cubicBezTo>
                  <a:pt x="7948" y="6980"/>
                  <a:pt x="7921" y="7050"/>
                  <a:pt x="7874" y="7112"/>
                </a:cubicBezTo>
                <a:cubicBezTo>
                  <a:pt x="7841" y="7156"/>
                  <a:pt x="7730" y="7265"/>
                  <a:pt x="7779" y="7239"/>
                </a:cubicBezTo>
                <a:cubicBezTo>
                  <a:pt x="7811" y="7222"/>
                  <a:pt x="7864" y="7181"/>
                  <a:pt x="7874" y="7176"/>
                </a:cubicBezTo>
                <a:cubicBezTo>
                  <a:pt x="7922" y="7153"/>
                  <a:pt x="7959" y="7203"/>
                  <a:pt x="8001" y="7207"/>
                </a:cubicBezTo>
                <a:cubicBezTo>
                  <a:pt x="8051" y="7212"/>
                  <a:pt x="8037" y="7251"/>
                  <a:pt x="8096" y="7271"/>
                </a:cubicBezTo>
                <a:cubicBezTo>
                  <a:pt x="8145" y="7287"/>
                  <a:pt x="8217" y="7265"/>
                  <a:pt x="8255" y="7239"/>
                </a:cubicBezTo>
                <a:cubicBezTo>
                  <a:pt x="8289" y="7216"/>
                  <a:pt x="8321" y="7173"/>
                  <a:pt x="8350" y="7144"/>
                </a:cubicBezTo>
              </a:path>
              <a:path w="8510" h="1938">
                <a:moveTo>
                  <a:pt x="8541" y="7652"/>
                </a:moveTo>
                <a:cubicBezTo>
                  <a:pt x="8530" y="7641"/>
                  <a:pt x="8520" y="7631"/>
                  <a:pt x="8509" y="7620"/>
                </a:cubicBezTo>
                <a:cubicBezTo>
                  <a:pt x="8583" y="7620"/>
                  <a:pt x="8641" y="7640"/>
                  <a:pt x="8700" y="7652"/>
                </a:cubicBezTo>
                <a:cubicBezTo>
                  <a:pt x="8800" y="7672"/>
                  <a:pt x="8919" y="7667"/>
                  <a:pt x="9017" y="7684"/>
                </a:cubicBezTo>
                <a:cubicBezTo>
                  <a:pt x="9095" y="7697"/>
                  <a:pt x="9113" y="7669"/>
                  <a:pt x="9176" y="7715"/>
                </a:cubicBezTo>
              </a:path>
              <a:path w="8510" h="1938">
                <a:moveTo>
                  <a:pt x="10414" y="7271"/>
                </a:moveTo>
                <a:cubicBezTo>
                  <a:pt x="10424" y="7191"/>
                  <a:pt x="10469" y="7101"/>
                  <a:pt x="10446" y="7017"/>
                </a:cubicBezTo>
                <a:cubicBezTo>
                  <a:pt x="10429" y="6956"/>
                  <a:pt x="10372" y="6831"/>
                  <a:pt x="10319" y="6794"/>
                </a:cubicBezTo>
                <a:cubicBezTo>
                  <a:pt x="10241" y="6739"/>
                  <a:pt x="10128" y="6708"/>
                  <a:pt x="10033" y="6731"/>
                </a:cubicBezTo>
                <a:cubicBezTo>
                  <a:pt x="9949" y="6751"/>
                  <a:pt x="9837" y="6790"/>
                  <a:pt x="9779" y="6858"/>
                </a:cubicBezTo>
                <a:cubicBezTo>
                  <a:pt x="9742" y="6901"/>
                  <a:pt x="9679" y="7059"/>
                  <a:pt x="9684" y="7112"/>
                </a:cubicBezTo>
                <a:cubicBezTo>
                  <a:pt x="9694" y="7229"/>
                  <a:pt x="9750" y="7332"/>
                  <a:pt x="9811" y="7430"/>
                </a:cubicBezTo>
                <a:cubicBezTo>
                  <a:pt x="9881" y="7542"/>
                  <a:pt x="9955" y="7642"/>
                  <a:pt x="10033" y="7747"/>
                </a:cubicBezTo>
                <a:cubicBezTo>
                  <a:pt x="10087" y="7820"/>
                  <a:pt x="10176" y="7970"/>
                  <a:pt x="10192" y="8064"/>
                </a:cubicBezTo>
                <a:cubicBezTo>
                  <a:pt x="10206" y="8147"/>
                  <a:pt x="10205" y="8278"/>
                  <a:pt x="10160" y="8350"/>
                </a:cubicBezTo>
                <a:cubicBezTo>
                  <a:pt x="10138" y="8386"/>
                  <a:pt x="10012" y="8448"/>
                  <a:pt x="9970" y="8446"/>
                </a:cubicBezTo>
                <a:cubicBezTo>
                  <a:pt x="9920" y="8444"/>
                  <a:pt x="9810" y="8422"/>
                  <a:pt x="9779" y="8382"/>
                </a:cubicBezTo>
                <a:cubicBezTo>
                  <a:pt x="9732" y="8321"/>
                  <a:pt x="9696" y="8234"/>
                  <a:pt x="9684" y="8160"/>
                </a:cubicBezTo>
                <a:cubicBezTo>
                  <a:pt x="9670" y="8077"/>
                  <a:pt x="9747" y="7948"/>
                  <a:pt x="9779" y="7874"/>
                </a:cubicBezTo>
                <a:cubicBezTo>
                  <a:pt x="9820" y="7778"/>
                  <a:pt x="9920" y="7655"/>
                  <a:pt x="10001" y="7588"/>
                </a:cubicBezTo>
                <a:cubicBezTo>
                  <a:pt x="10103" y="7504"/>
                  <a:pt x="10191" y="7425"/>
                  <a:pt x="10287" y="7334"/>
                </a:cubicBezTo>
                <a:cubicBezTo>
                  <a:pt x="10350" y="7274"/>
                  <a:pt x="10417" y="7237"/>
                  <a:pt x="10478" y="7176"/>
                </a:cubicBezTo>
                <a:cubicBezTo>
                  <a:pt x="10488" y="7165"/>
                  <a:pt x="10499" y="7155"/>
                  <a:pt x="10509" y="7144"/>
                </a:cubicBezTo>
              </a:path>
              <a:path w="8510" h="1938">
                <a:moveTo>
                  <a:pt x="10954" y="7493"/>
                </a:moveTo>
                <a:cubicBezTo>
                  <a:pt x="10977" y="7563"/>
                  <a:pt x="10999" y="7510"/>
                  <a:pt x="11049" y="7493"/>
                </a:cubicBezTo>
                <a:cubicBezTo>
                  <a:pt x="11193" y="7445"/>
                  <a:pt x="11417" y="7505"/>
                  <a:pt x="11557" y="7525"/>
                </a:cubicBezTo>
                <a:cubicBezTo>
                  <a:pt x="11617" y="7534"/>
                  <a:pt x="11687" y="7525"/>
                  <a:pt x="11748" y="7525"/>
                </a:cubicBezTo>
              </a:path>
              <a:path w="8510" h="1938">
                <a:moveTo>
                  <a:pt x="11017" y="8001"/>
                </a:moveTo>
                <a:cubicBezTo>
                  <a:pt x="11082" y="7985"/>
                  <a:pt x="11098" y="7969"/>
                  <a:pt x="11176" y="7969"/>
                </a:cubicBezTo>
                <a:cubicBezTo>
                  <a:pt x="11331" y="7969"/>
                  <a:pt x="11474" y="7978"/>
                  <a:pt x="11620" y="8001"/>
                </a:cubicBezTo>
                <a:cubicBezTo>
                  <a:pt x="11646" y="8005"/>
                  <a:pt x="11795" y="8014"/>
                  <a:pt x="11811" y="8033"/>
                </a:cubicBezTo>
                <a:cubicBezTo>
                  <a:pt x="11811" y="8064"/>
                  <a:pt x="11811" y="8075"/>
                  <a:pt x="11843" y="8064"/>
                </a:cubicBezTo>
              </a:path>
              <a:path w="8510" h="1938">
                <a:moveTo>
                  <a:pt x="12382" y="7176"/>
                </a:moveTo>
                <a:cubicBezTo>
                  <a:pt x="12353" y="7102"/>
                  <a:pt x="12346" y="7115"/>
                  <a:pt x="12414" y="7048"/>
                </a:cubicBezTo>
                <a:cubicBezTo>
                  <a:pt x="12465" y="6998"/>
                  <a:pt x="12531" y="6935"/>
                  <a:pt x="12605" y="6922"/>
                </a:cubicBezTo>
                <a:cubicBezTo>
                  <a:pt x="12673" y="6910"/>
                  <a:pt x="12801" y="6917"/>
                  <a:pt x="12859" y="6953"/>
                </a:cubicBezTo>
                <a:cubicBezTo>
                  <a:pt x="12919" y="6991"/>
                  <a:pt x="12994" y="7106"/>
                  <a:pt x="12986" y="7176"/>
                </a:cubicBezTo>
                <a:cubicBezTo>
                  <a:pt x="12981" y="7221"/>
                  <a:pt x="12894" y="7368"/>
                  <a:pt x="12859" y="7398"/>
                </a:cubicBezTo>
                <a:cubicBezTo>
                  <a:pt x="12775" y="7470"/>
                  <a:pt x="12730" y="7482"/>
                  <a:pt x="12636" y="7525"/>
                </a:cubicBezTo>
                <a:cubicBezTo>
                  <a:pt x="12600" y="7561"/>
                  <a:pt x="12583" y="7571"/>
                  <a:pt x="12541" y="7556"/>
                </a:cubicBezTo>
                <a:cubicBezTo>
                  <a:pt x="12581" y="7498"/>
                  <a:pt x="12599" y="7485"/>
                  <a:pt x="12668" y="7493"/>
                </a:cubicBezTo>
                <a:cubicBezTo>
                  <a:pt x="12755" y="7503"/>
                  <a:pt x="12876" y="7534"/>
                  <a:pt x="12954" y="7588"/>
                </a:cubicBezTo>
                <a:cubicBezTo>
                  <a:pt x="13041" y="7648"/>
                  <a:pt x="13069" y="7746"/>
                  <a:pt x="13081" y="7842"/>
                </a:cubicBezTo>
                <a:cubicBezTo>
                  <a:pt x="13094" y="7947"/>
                  <a:pt x="13075" y="8094"/>
                  <a:pt x="13049" y="8192"/>
                </a:cubicBezTo>
                <a:cubicBezTo>
                  <a:pt x="13022" y="8293"/>
                  <a:pt x="12922" y="8457"/>
                  <a:pt x="12827" y="8509"/>
                </a:cubicBezTo>
                <a:cubicBezTo>
                  <a:pt x="12743" y="8555"/>
                  <a:pt x="12569" y="8562"/>
                  <a:pt x="12478" y="8541"/>
                </a:cubicBezTo>
                <a:cubicBezTo>
                  <a:pt x="12388" y="8521"/>
                  <a:pt x="12295" y="8508"/>
                  <a:pt x="12256" y="8414"/>
                </a:cubicBezTo>
                <a:cubicBezTo>
                  <a:pt x="12256" y="8403"/>
                  <a:pt x="12256" y="8393"/>
                  <a:pt x="12256" y="8382"/>
                </a:cubicBezTo>
              </a:path>
              <a:path w="8510" h="1938">
                <a:moveTo>
                  <a:pt x="13272" y="7430"/>
                </a:moveTo>
                <a:cubicBezTo>
                  <a:pt x="13244" y="7359"/>
                  <a:pt x="13275" y="7280"/>
                  <a:pt x="13335" y="7207"/>
                </a:cubicBezTo>
                <a:cubicBezTo>
                  <a:pt x="13392" y="7138"/>
                  <a:pt x="13457" y="7137"/>
                  <a:pt x="13526" y="7112"/>
                </a:cubicBezTo>
                <a:cubicBezTo>
                  <a:pt x="13598" y="7086"/>
                  <a:pt x="13660" y="7098"/>
                  <a:pt x="13716" y="7176"/>
                </a:cubicBezTo>
                <a:cubicBezTo>
                  <a:pt x="13790" y="7278"/>
                  <a:pt x="13728" y="7386"/>
                  <a:pt x="13716" y="7493"/>
                </a:cubicBezTo>
                <a:cubicBezTo>
                  <a:pt x="13698" y="7653"/>
                  <a:pt x="13651" y="7760"/>
                  <a:pt x="13589" y="7906"/>
                </a:cubicBezTo>
                <a:cubicBezTo>
                  <a:pt x="13539" y="8024"/>
                  <a:pt x="13479" y="8153"/>
                  <a:pt x="13398" y="8255"/>
                </a:cubicBezTo>
                <a:cubicBezTo>
                  <a:pt x="13333" y="8337"/>
                  <a:pt x="13256" y="8387"/>
                  <a:pt x="13176" y="8446"/>
                </a:cubicBezTo>
                <a:cubicBezTo>
                  <a:pt x="13148" y="8466"/>
                  <a:pt x="13126" y="8496"/>
                  <a:pt x="13113" y="8509"/>
                </a:cubicBezTo>
                <a:cubicBezTo>
                  <a:pt x="13160" y="8491"/>
                  <a:pt x="13186" y="8480"/>
                  <a:pt x="13240" y="8477"/>
                </a:cubicBezTo>
                <a:cubicBezTo>
                  <a:pt x="13356" y="8470"/>
                  <a:pt x="13451" y="8491"/>
                  <a:pt x="13557" y="8509"/>
                </a:cubicBezTo>
                <a:cubicBezTo>
                  <a:pt x="13645" y="8524"/>
                  <a:pt x="13718" y="8541"/>
                  <a:pt x="13811" y="8541"/>
                </a:cubicBezTo>
                <a:cubicBezTo>
                  <a:pt x="13946" y="8541"/>
                  <a:pt x="14067" y="8525"/>
                  <a:pt x="14192" y="8509"/>
                </a:cubicBezTo>
                <a:cubicBezTo>
                  <a:pt x="14289" y="8509"/>
                  <a:pt x="14323" y="8509"/>
                  <a:pt x="14383" y="8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5"/>
          <p:cNvSpPr/>
          <p:nvPr/>
        </p:nvSpPr>
        <p:spPr>
          <a:xfrm>
            <a:off x="2778120" y="3108240"/>
            <a:ext cx="2033640" cy="1474920"/>
          </a:xfrm>
          <a:custGeom>
            <a:avLst/>
            <a:gdLst/>
            <a:ahLst/>
            <a:rect l="l" t="t" r="r" b="b"/>
            <a:pathLst>
              <a:path w="5653" h="4097">
                <a:moveTo>
                  <a:pt x="8795" y="8668"/>
                </a:moveTo>
                <a:cubicBezTo>
                  <a:pt x="8841" y="8684"/>
                  <a:pt x="8815" y="8739"/>
                  <a:pt x="8795" y="8795"/>
                </a:cubicBezTo>
                <a:cubicBezTo>
                  <a:pt x="8761" y="8890"/>
                  <a:pt x="8751" y="8982"/>
                  <a:pt x="8731" y="9080"/>
                </a:cubicBezTo>
                <a:cubicBezTo>
                  <a:pt x="8708" y="9191"/>
                  <a:pt x="8673" y="9345"/>
                  <a:pt x="8700" y="9462"/>
                </a:cubicBezTo>
                <a:cubicBezTo>
                  <a:pt x="8701" y="9466"/>
                  <a:pt x="8731" y="9610"/>
                  <a:pt x="8731" y="9525"/>
                </a:cubicBezTo>
              </a:path>
              <a:path w="5653" h="4097">
                <a:moveTo>
                  <a:pt x="8541" y="9017"/>
                </a:moveTo>
                <a:cubicBezTo>
                  <a:pt x="8453" y="9017"/>
                  <a:pt x="8652" y="9013"/>
                  <a:pt x="8668" y="9017"/>
                </a:cubicBezTo>
                <a:cubicBezTo>
                  <a:pt x="8763" y="9044"/>
                  <a:pt x="8860" y="9025"/>
                  <a:pt x="8954" y="9049"/>
                </a:cubicBezTo>
                <a:cubicBezTo>
                  <a:pt x="8975" y="9059"/>
                  <a:pt x="8996" y="9070"/>
                  <a:pt x="9017" y="9080"/>
                </a:cubicBezTo>
              </a:path>
              <a:path w="5653" h="4097">
                <a:moveTo>
                  <a:pt x="9842" y="8954"/>
                </a:moveTo>
                <a:cubicBezTo>
                  <a:pt x="9884" y="8923"/>
                  <a:pt x="9958" y="8900"/>
                  <a:pt x="9938" y="8826"/>
                </a:cubicBezTo>
                <a:cubicBezTo>
                  <a:pt x="9917" y="8749"/>
                  <a:pt x="9841" y="8705"/>
                  <a:pt x="9779" y="8668"/>
                </a:cubicBezTo>
                <a:cubicBezTo>
                  <a:pt x="9711" y="8627"/>
                  <a:pt x="9647" y="8628"/>
                  <a:pt x="9588" y="8668"/>
                </a:cubicBezTo>
                <a:cubicBezTo>
                  <a:pt x="9551" y="8693"/>
                  <a:pt x="9541" y="8786"/>
                  <a:pt x="9557" y="8826"/>
                </a:cubicBezTo>
                <a:cubicBezTo>
                  <a:pt x="9576" y="8873"/>
                  <a:pt x="9646" y="9014"/>
                  <a:pt x="9684" y="9049"/>
                </a:cubicBezTo>
                <a:cubicBezTo>
                  <a:pt x="9746" y="9107"/>
                  <a:pt x="9847" y="9207"/>
                  <a:pt x="9874" y="9303"/>
                </a:cubicBezTo>
                <a:cubicBezTo>
                  <a:pt x="9890" y="9359"/>
                  <a:pt x="9914" y="9472"/>
                  <a:pt x="9874" y="9525"/>
                </a:cubicBezTo>
                <a:cubicBezTo>
                  <a:pt x="9854" y="9551"/>
                  <a:pt x="9754" y="9570"/>
                  <a:pt x="9716" y="9557"/>
                </a:cubicBezTo>
                <a:cubicBezTo>
                  <a:pt x="9609" y="9521"/>
                  <a:pt x="9564" y="9515"/>
                  <a:pt x="9525" y="9398"/>
                </a:cubicBezTo>
                <a:cubicBezTo>
                  <a:pt x="9502" y="9330"/>
                  <a:pt x="9525" y="9235"/>
                  <a:pt x="9557" y="9176"/>
                </a:cubicBezTo>
                <a:cubicBezTo>
                  <a:pt x="9617" y="9065"/>
                  <a:pt x="9672" y="9039"/>
                  <a:pt x="9779" y="8985"/>
                </a:cubicBezTo>
                <a:cubicBezTo>
                  <a:pt x="9872" y="8939"/>
                  <a:pt x="9893" y="8922"/>
                  <a:pt x="10001" y="8922"/>
                </a:cubicBezTo>
              </a:path>
              <a:path w="5653" h="4097">
                <a:moveTo>
                  <a:pt x="11874" y="8763"/>
                </a:moveTo>
                <a:cubicBezTo>
                  <a:pt x="11874" y="8958"/>
                  <a:pt x="11872" y="9148"/>
                  <a:pt x="11843" y="9334"/>
                </a:cubicBezTo>
                <a:cubicBezTo>
                  <a:pt x="11832" y="9403"/>
                  <a:pt x="11819" y="9538"/>
                  <a:pt x="11874" y="9557"/>
                </a:cubicBezTo>
              </a:path>
              <a:path w="5653" h="4097">
                <a:moveTo>
                  <a:pt x="11684" y="9080"/>
                </a:moveTo>
                <a:cubicBezTo>
                  <a:pt x="11598" y="9080"/>
                  <a:pt x="11792" y="9080"/>
                  <a:pt x="11811" y="9080"/>
                </a:cubicBezTo>
                <a:cubicBezTo>
                  <a:pt x="11949" y="9080"/>
                  <a:pt x="12021" y="9117"/>
                  <a:pt x="12128" y="9144"/>
                </a:cubicBezTo>
                <a:cubicBezTo>
                  <a:pt x="12160" y="9144"/>
                  <a:pt x="12192" y="9144"/>
                  <a:pt x="12224" y="9144"/>
                </a:cubicBezTo>
              </a:path>
              <a:path w="5653" h="4097">
                <a:moveTo>
                  <a:pt x="13176" y="9080"/>
                </a:moveTo>
                <a:cubicBezTo>
                  <a:pt x="13225" y="9032"/>
                  <a:pt x="13281" y="8990"/>
                  <a:pt x="13303" y="8922"/>
                </a:cubicBezTo>
                <a:cubicBezTo>
                  <a:pt x="13329" y="8843"/>
                  <a:pt x="13228" y="8761"/>
                  <a:pt x="13176" y="8731"/>
                </a:cubicBezTo>
                <a:cubicBezTo>
                  <a:pt x="13098" y="8685"/>
                  <a:pt x="12993" y="8680"/>
                  <a:pt x="12922" y="8731"/>
                </a:cubicBezTo>
                <a:cubicBezTo>
                  <a:pt x="12863" y="8773"/>
                  <a:pt x="12832" y="8850"/>
                  <a:pt x="12859" y="8922"/>
                </a:cubicBezTo>
                <a:cubicBezTo>
                  <a:pt x="12887" y="8996"/>
                  <a:pt x="12964" y="9086"/>
                  <a:pt x="13018" y="9144"/>
                </a:cubicBezTo>
                <a:cubicBezTo>
                  <a:pt x="13110" y="9242"/>
                  <a:pt x="13244" y="9323"/>
                  <a:pt x="13272" y="9462"/>
                </a:cubicBezTo>
                <a:cubicBezTo>
                  <a:pt x="13282" y="9513"/>
                  <a:pt x="13286" y="9620"/>
                  <a:pt x="13240" y="9652"/>
                </a:cubicBezTo>
                <a:cubicBezTo>
                  <a:pt x="13175" y="9697"/>
                  <a:pt x="13114" y="9696"/>
                  <a:pt x="13049" y="9652"/>
                </a:cubicBezTo>
                <a:cubicBezTo>
                  <a:pt x="13012" y="9627"/>
                  <a:pt x="12950" y="9538"/>
                  <a:pt x="12954" y="9493"/>
                </a:cubicBezTo>
                <a:cubicBezTo>
                  <a:pt x="12963" y="9389"/>
                  <a:pt x="13013" y="9312"/>
                  <a:pt x="13081" y="9239"/>
                </a:cubicBezTo>
                <a:cubicBezTo>
                  <a:pt x="13140" y="9176"/>
                  <a:pt x="13201" y="9113"/>
                  <a:pt x="13272" y="9080"/>
                </a:cubicBezTo>
                <a:cubicBezTo>
                  <a:pt x="13328" y="9053"/>
                  <a:pt x="13343" y="9048"/>
                  <a:pt x="13367" y="9017"/>
                </a:cubicBezTo>
              </a:path>
              <a:path w="5653" h="4097">
                <a:moveTo>
                  <a:pt x="7810" y="10160"/>
                </a:moveTo>
                <a:cubicBezTo>
                  <a:pt x="7810" y="10246"/>
                  <a:pt x="7793" y="10311"/>
                  <a:pt x="7779" y="10382"/>
                </a:cubicBezTo>
                <a:cubicBezTo>
                  <a:pt x="7763" y="10466"/>
                  <a:pt x="7752" y="10557"/>
                  <a:pt x="7747" y="10636"/>
                </a:cubicBezTo>
                <a:cubicBezTo>
                  <a:pt x="7742" y="10715"/>
                  <a:pt x="7759" y="10706"/>
                  <a:pt x="7715" y="10763"/>
                </a:cubicBezTo>
                <a:cubicBezTo>
                  <a:pt x="7764" y="10751"/>
                  <a:pt x="7813" y="10707"/>
                  <a:pt x="7874" y="10732"/>
                </a:cubicBezTo>
                <a:cubicBezTo>
                  <a:pt x="7926" y="10753"/>
                  <a:pt x="8002" y="10784"/>
                  <a:pt x="8064" y="10795"/>
                </a:cubicBezTo>
                <a:cubicBezTo>
                  <a:pt x="8105" y="10802"/>
                  <a:pt x="8213" y="10850"/>
                  <a:pt x="8255" y="10827"/>
                </a:cubicBezTo>
                <a:cubicBezTo>
                  <a:pt x="8320" y="10791"/>
                  <a:pt x="8306" y="10804"/>
                  <a:pt x="8318" y="10732"/>
                </a:cubicBezTo>
              </a:path>
              <a:path w="5653" h="4097">
                <a:moveTo>
                  <a:pt x="8350" y="10192"/>
                </a:moveTo>
                <a:cubicBezTo>
                  <a:pt x="8350" y="10258"/>
                  <a:pt x="8326" y="10289"/>
                  <a:pt x="8318" y="10350"/>
                </a:cubicBezTo>
                <a:cubicBezTo>
                  <a:pt x="8299" y="10491"/>
                  <a:pt x="8242" y="10622"/>
                  <a:pt x="8223" y="10763"/>
                </a:cubicBezTo>
                <a:cubicBezTo>
                  <a:pt x="8204" y="10908"/>
                  <a:pt x="8190" y="11066"/>
                  <a:pt x="8160" y="11208"/>
                </a:cubicBezTo>
                <a:cubicBezTo>
                  <a:pt x="8139" y="11306"/>
                  <a:pt x="8128" y="11306"/>
                  <a:pt x="8128" y="11398"/>
                </a:cubicBezTo>
              </a:path>
              <a:path w="5653" h="4097">
                <a:moveTo>
                  <a:pt x="8572" y="10636"/>
                </a:moveTo>
                <a:cubicBezTo>
                  <a:pt x="8587" y="10695"/>
                  <a:pt x="8637" y="10736"/>
                  <a:pt x="8668" y="10795"/>
                </a:cubicBezTo>
                <a:cubicBezTo>
                  <a:pt x="8733" y="10917"/>
                  <a:pt x="8800" y="11051"/>
                  <a:pt x="8858" y="11176"/>
                </a:cubicBezTo>
                <a:cubicBezTo>
                  <a:pt x="8914" y="11295"/>
                  <a:pt x="8959" y="11396"/>
                  <a:pt x="9049" y="11494"/>
                </a:cubicBezTo>
                <a:cubicBezTo>
                  <a:pt x="9090" y="11539"/>
                  <a:pt x="9097" y="11538"/>
                  <a:pt x="9112" y="11494"/>
                </a:cubicBezTo>
              </a:path>
              <a:path w="5653" h="4097">
                <a:moveTo>
                  <a:pt x="9049" y="10732"/>
                </a:moveTo>
                <a:cubicBezTo>
                  <a:pt x="9010" y="10751"/>
                  <a:pt x="8924" y="10842"/>
                  <a:pt x="8890" y="10890"/>
                </a:cubicBezTo>
                <a:cubicBezTo>
                  <a:pt x="8814" y="10997"/>
                  <a:pt x="8771" y="11137"/>
                  <a:pt x="8700" y="11240"/>
                </a:cubicBezTo>
                <a:cubicBezTo>
                  <a:pt x="8635" y="11336"/>
                  <a:pt x="8555" y="11440"/>
                  <a:pt x="8477" y="11525"/>
                </a:cubicBezTo>
                <a:cubicBezTo>
                  <a:pt x="8449" y="11554"/>
                  <a:pt x="8439" y="11560"/>
                  <a:pt x="8446" y="11589"/>
                </a:cubicBezTo>
              </a:path>
              <a:path w="5653" h="4097">
                <a:moveTo>
                  <a:pt x="9430" y="10287"/>
                </a:moveTo>
                <a:cubicBezTo>
                  <a:pt x="9437" y="10267"/>
                  <a:pt x="9460" y="10209"/>
                  <a:pt x="9493" y="10192"/>
                </a:cubicBezTo>
                <a:cubicBezTo>
                  <a:pt x="9547" y="10165"/>
                  <a:pt x="9584" y="10160"/>
                  <a:pt x="9652" y="10160"/>
                </a:cubicBezTo>
                <a:cubicBezTo>
                  <a:pt x="9708" y="10160"/>
                  <a:pt x="9728" y="10166"/>
                  <a:pt x="9747" y="10224"/>
                </a:cubicBezTo>
                <a:cubicBezTo>
                  <a:pt x="9758" y="10258"/>
                  <a:pt x="9673" y="10384"/>
                  <a:pt x="9652" y="10414"/>
                </a:cubicBezTo>
                <a:cubicBezTo>
                  <a:pt x="9614" y="10468"/>
                  <a:pt x="9561" y="10518"/>
                  <a:pt x="9525" y="10573"/>
                </a:cubicBezTo>
                <a:cubicBezTo>
                  <a:pt x="9499" y="10625"/>
                  <a:pt x="9488" y="10633"/>
                  <a:pt x="9493" y="10668"/>
                </a:cubicBezTo>
                <a:cubicBezTo>
                  <a:pt x="9554" y="10668"/>
                  <a:pt x="9594" y="10642"/>
                  <a:pt x="9652" y="10636"/>
                </a:cubicBezTo>
                <a:cubicBezTo>
                  <a:pt x="9709" y="10630"/>
                  <a:pt x="9742" y="10604"/>
                  <a:pt x="9811" y="10604"/>
                </a:cubicBezTo>
                <a:cubicBezTo>
                  <a:pt x="9851" y="10604"/>
                  <a:pt x="9868" y="10582"/>
                  <a:pt x="9906" y="10573"/>
                </a:cubicBezTo>
              </a:path>
              <a:path w="5653" h="4097">
                <a:moveTo>
                  <a:pt x="10033" y="10858"/>
                </a:moveTo>
                <a:cubicBezTo>
                  <a:pt x="10102" y="10868"/>
                  <a:pt x="10184" y="10870"/>
                  <a:pt x="10255" y="10890"/>
                </a:cubicBezTo>
                <a:cubicBezTo>
                  <a:pt x="10338" y="10913"/>
                  <a:pt x="10389" y="10922"/>
                  <a:pt x="10478" y="10922"/>
                </a:cubicBezTo>
                <a:cubicBezTo>
                  <a:pt x="10488" y="10922"/>
                  <a:pt x="10499" y="10922"/>
                  <a:pt x="10509" y="10922"/>
                </a:cubicBezTo>
              </a:path>
              <a:path w="5653" h="4097">
                <a:moveTo>
                  <a:pt x="10096" y="11271"/>
                </a:moveTo>
                <a:cubicBezTo>
                  <a:pt x="10154" y="11271"/>
                  <a:pt x="10173" y="11244"/>
                  <a:pt x="10224" y="11240"/>
                </a:cubicBezTo>
                <a:cubicBezTo>
                  <a:pt x="10318" y="11233"/>
                  <a:pt x="10415" y="11240"/>
                  <a:pt x="10509" y="11240"/>
                </a:cubicBezTo>
              </a:path>
              <a:path w="5653" h="4097">
                <a:moveTo>
                  <a:pt x="10986" y="10414"/>
                </a:moveTo>
                <a:cubicBezTo>
                  <a:pt x="11028" y="10472"/>
                  <a:pt x="11014" y="10504"/>
                  <a:pt x="10986" y="10573"/>
                </a:cubicBezTo>
                <a:cubicBezTo>
                  <a:pt x="10954" y="10653"/>
                  <a:pt x="10905" y="10754"/>
                  <a:pt x="10890" y="10827"/>
                </a:cubicBezTo>
                <a:cubicBezTo>
                  <a:pt x="10881" y="10874"/>
                  <a:pt x="10890" y="10937"/>
                  <a:pt x="10890" y="10986"/>
                </a:cubicBezTo>
                <a:cubicBezTo>
                  <a:pt x="10984" y="10986"/>
                  <a:pt x="11064" y="11001"/>
                  <a:pt x="11144" y="11017"/>
                </a:cubicBezTo>
                <a:cubicBezTo>
                  <a:pt x="11221" y="11032"/>
                  <a:pt x="11285" y="11049"/>
                  <a:pt x="11366" y="11049"/>
                </a:cubicBezTo>
                <a:cubicBezTo>
                  <a:pt x="11414" y="11049"/>
                  <a:pt x="11429" y="11018"/>
                  <a:pt x="11462" y="10986"/>
                </a:cubicBezTo>
              </a:path>
              <a:path w="5653" h="4097">
                <a:moveTo>
                  <a:pt x="11494" y="10414"/>
                </a:moveTo>
                <a:cubicBezTo>
                  <a:pt x="11481" y="10519"/>
                  <a:pt x="11459" y="10626"/>
                  <a:pt x="11430" y="10732"/>
                </a:cubicBezTo>
                <a:cubicBezTo>
                  <a:pt x="11386" y="10890"/>
                  <a:pt x="11349" y="11051"/>
                  <a:pt x="11303" y="11208"/>
                </a:cubicBezTo>
                <a:cubicBezTo>
                  <a:pt x="11270" y="11321"/>
                  <a:pt x="11248" y="11440"/>
                  <a:pt x="11240" y="11557"/>
                </a:cubicBezTo>
                <a:cubicBezTo>
                  <a:pt x="11240" y="11589"/>
                  <a:pt x="11240" y="11599"/>
                  <a:pt x="11240" y="11620"/>
                </a:cubicBezTo>
              </a:path>
              <a:path w="5653" h="4097">
                <a:moveTo>
                  <a:pt x="11874" y="10604"/>
                </a:moveTo>
                <a:cubicBezTo>
                  <a:pt x="11815" y="10560"/>
                  <a:pt x="11755" y="10603"/>
                  <a:pt x="11716" y="10668"/>
                </a:cubicBezTo>
                <a:cubicBezTo>
                  <a:pt x="11657" y="10767"/>
                  <a:pt x="11600" y="10968"/>
                  <a:pt x="11589" y="11081"/>
                </a:cubicBezTo>
                <a:cubicBezTo>
                  <a:pt x="11571" y="11263"/>
                  <a:pt x="11590" y="11403"/>
                  <a:pt x="11684" y="11557"/>
                </a:cubicBezTo>
                <a:cubicBezTo>
                  <a:pt x="11733" y="11637"/>
                  <a:pt x="11827" y="11741"/>
                  <a:pt x="11938" y="11716"/>
                </a:cubicBezTo>
                <a:cubicBezTo>
                  <a:pt x="12071" y="11686"/>
                  <a:pt x="12141" y="11513"/>
                  <a:pt x="12160" y="11398"/>
                </a:cubicBezTo>
                <a:cubicBezTo>
                  <a:pt x="12185" y="11246"/>
                  <a:pt x="12161" y="11032"/>
                  <a:pt x="12097" y="10890"/>
                </a:cubicBezTo>
                <a:cubicBezTo>
                  <a:pt x="12052" y="10791"/>
                  <a:pt x="11992" y="10637"/>
                  <a:pt x="11874" y="10604"/>
                </a:cubicBezTo>
                <a:cubicBezTo>
                  <a:pt x="11817" y="10588"/>
                  <a:pt x="11677" y="10598"/>
                  <a:pt x="11652" y="10668"/>
                </a:cubicBezTo>
                <a:cubicBezTo>
                  <a:pt x="11652" y="10689"/>
                  <a:pt x="11652" y="10711"/>
                  <a:pt x="11652" y="10732"/>
                </a:cubicBezTo>
              </a:path>
              <a:path w="5653" h="4097">
                <a:moveTo>
                  <a:pt x="7810" y="11620"/>
                </a:moveTo>
                <a:cubicBezTo>
                  <a:pt x="8110" y="11620"/>
                  <a:pt x="8403" y="11629"/>
                  <a:pt x="8700" y="11652"/>
                </a:cubicBezTo>
                <a:cubicBezTo>
                  <a:pt x="8961" y="11672"/>
                  <a:pt x="9231" y="11652"/>
                  <a:pt x="9493" y="11652"/>
                </a:cubicBezTo>
              </a:path>
              <a:path w="5653" h="4097">
                <a:moveTo>
                  <a:pt x="8668" y="12033"/>
                </a:moveTo>
                <a:cubicBezTo>
                  <a:pt x="8637" y="12074"/>
                  <a:pt x="8618" y="12138"/>
                  <a:pt x="8604" y="12192"/>
                </a:cubicBezTo>
                <a:cubicBezTo>
                  <a:pt x="8590" y="12249"/>
                  <a:pt x="8612" y="12235"/>
                  <a:pt x="8572" y="12287"/>
                </a:cubicBezTo>
                <a:cubicBezTo>
                  <a:pt x="8599" y="12296"/>
                  <a:pt x="8621" y="12345"/>
                  <a:pt x="8668" y="12319"/>
                </a:cubicBezTo>
                <a:cubicBezTo>
                  <a:pt x="8679" y="12308"/>
                  <a:pt x="8689" y="12298"/>
                  <a:pt x="8700" y="12287"/>
                </a:cubicBezTo>
                <a:cubicBezTo>
                  <a:pt x="8754" y="12320"/>
                  <a:pt x="8859" y="12346"/>
                  <a:pt x="8922" y="12351"/>
                </a:cubicBezTo>
                <a:cubicBezTo>
                  <a:pt x="8975" y="12351"/>
                  <a:pt x="8985" y="12351"/>
                  <a:pt x="9017" y="12351"/>
                </a:cubicBezTo>
              </a:path>
              <a:path w="5653" h="4097">
                <a:moveTo>
                  <a:pt x="9017" y="11906"/>
                </a:moveTo>
                <a:cubicBezTo>
                  <a:pt x="9017" y="12112"/>
                  <a:pt x="9014" y="12310"/>
                  <a:pt x="8985" y="12510"/>
                </a:cubicBezTo>
                <a:cubicBezTo>
                  <a:pt x="8974" y="12588"/>
                  <a:pt x="8969" y="12656"/>
                  <a:pt x="8954" y="12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6"/>
          <p:cNvSpPr/>
          <p:nvPr/>
        </p:nvSpPr>
        <p:spPr>
          <a:xfrm>
            <a:off x="3279600" y="4229280"/>
            <a:ext cx="1155960" cy="1085760"/>
          </a:xfrm>
          <a:custGeom>
            <a:avLst/>
            <a:gdLst/>
            <a:ahLst/>
            <a:rect l="l" t="t" r="r" b="b"/>
            <a:pathLst>
              <a:path w="3208" h="3017">
                <a:moveTo>
                  <a:pt x="10827" y="11748"/>
                </a:moveTo>
                <a:cubicBezTo>
                  <a:pt x="11137" y="11748"/>
                  <a:pt x="11445" y="11746"/>
                  <a:pt x="11748" y="11779"/>
                </a:cubicBezTo>
                <a:cubicBezTo>
                  <a:pt x="11934" y="11799"/>
                  <a:pt x="12132" y="11779"/>
                  <a:pt x="12319" y="11779"/>
                </a:cubicBezTo>
              </a:path>
              <a:path w="3208" h="3017">
                <a:moveTo>
                  <a:pt x="11557" y="12002"/>
                </a:moveTo>
                <a:cubicBezTo>
                  <a:pt x="11557" y="12069"/>
                  <a:pt x="11523" y="12285"/>
                  <a:pt x="11589" y="12319"/>
                </a:cubicBezTo>
                <a:cubicBezTo>
                  <a:pt x="11610" y="12330"/>
                  <a:pt x="11728" y="12346"/>
                  <a:pt x="11748" y="12351"/>
                </a:cubicBezTo>
                <a:cubicBezTo>
                  <a:pt x="11796" y="12363"/>
                  <a:pt x="11831" y="12368"/>
                  <a:pt x="11874" y="12382"/>
                </a:cubicBezTo>
                <a:cubicBezTo>
                  <a:pt x="11899" y="12390"/>
                  <a:pt x="11944" y="12382"/>
                  <a:pt x="11970" y="12382"/>
                </a:cubicBezTo>
                <a:cubicBezTo>
                  <a:pt x="11970" y="12351"/>
                  <a:pt x="11970" y="12340"/>
                  <a:pt x="12002" y="12351"/>
                </a:cubicBezTo>
              </a:path>
              <a:path w="3208" h="3017">
                <a:moveTo>
                  <a:pt x="11938" y="12002"/>
                </a:moveTo>
                <a:cubicBezTo>
                  <a:pt x="11924" y="12069"/>
                  <a:pt x="11906" y="12119"/>
                  <a:pt x="11906" y="12192"/>
                </a:cubicBezTo>
                <a:cubicBezTo>
                  <a:pt x="11906" y="12327"/>
                  <a:pt x="11890" y="12448"/>
                  <a:pt x="11874" y="12573"/>
                </a:cubicBezTo>
                <a:cubicBezTo>
                  <a:pt x="11862" y="12664"/>
                  <a:pt x="11874" y="12767"/>
                  <a:pt x="11874" y="12859"/>
                </a:cubicBezTo>
              </a:path>
              <a:path w="3208" h="3017">
                <a:moveTo>
                  <a:pt x="9271" y="13367"/>
                </a:moveTo>
                <a:cubicBezTo>
                  <a:pt x="9282" y="13455"/>
                  <a:pt x="9298" y="13539"/>
                  <a:pt x="9334" y="13621"/>
                </a:cubicBezTo>
                <a:cubicBezTo>
                  <a:pt x="9401" y="13773"/>
                  <a:pt x="9417" y="13950"/>
                  <a:pt x="9493" y="14097"/>
                </a:cubicBezTo>
                <a:cubicBezTo>
                  <a:pt x="9553" y="14213"/>
                  <a:pt x="9627" y="14345"/>
                  <a:pt x="9652" y="14478"/>
                </a:cubicBezTo>
                <a:cubicBezTo>
                  <a:pt x="9665" y="14545"/>
                  <a:pt x="9660" y="14586"/>
                  <a:pt x="9716" y="14605"/>
                </a:cubicBezTo>
              </a:path>
              <a:path w="3208" h="3017">
                <a:moveTo>
                  <a:pt x="9842" y="13462"/>
                </a:moveTo>
                <a:cubicBezTo>
                  <a:pt x="9804" y="13514"/>
                  <a:pt x="9746" y="13594"/>
                  <a:pt x="9716" y="13652"/>
                </a:cubicBezTo>
                <a:cubicBezTo>
                  <a:pt x="9634" y="13809"/>
                  <a:pt x="9557" y="13947"/>
                  <a:pt x="9462" y="14097"/>
                </a:cubicBezTo>
                <a:cubicBezTo>
                  <a:pt x="9378" y="14229"/>
                  <a:pt x="9275" y="14370"/>
                  <a:pt x="9208" y="14510"/>
                </a:cubicBezTo>
                <a:cubicBezTo>
                  <a:pt x="9181" y="14565"/>
                  <a:pt x="9118" y="14675"/>
                  <a:pt x="9112" y="14732"/>
                </a:cubicBezTo>
                <a:cubicBezTo>
                  <a:pt x="9112" y="14743"/>
                  <a:pt x="9112" y="14753"/>
                  <a:pt x="9112" y="14764"/>
                </a:cubicBezTo>
              </a:path>
              <a:path w="3208" h="3017">
                <a:moveTo>
                  <a:pt x="10096" y="13144"/>
                </a:moveTo>
                <a:cubicBezTo>
                  <a:pt x="10108" y="13097"/>
                  <a:pt x="10144" y="13065"/>
                  <a:pt x="10192" y="13049"/>
                </a:cubicBezTo>
                <a:cubicBezTo>
                  <a:pt x="10224" y="13038"/>
                  <a:pt x="10307" y="13041"/>
                  <a:pt x="10319" y="13081"/>
                </a:cubicBezTo>
                <a:cubicBezTo>
                  <a:pt x="10349" y="13176"/>
                  <a:pt x="10274" y="13191"/>
                  <a:pt x="10255" y="13272"/>
                </a:cubicBezTo>
                <a:cubicBezTo>
                  <a:pt x="10233" y="13366"/>
                  <a:pt x="10184" y="13406"/>
                  <a:pt x="10128" y="13494"/>
                </a:cubicBezTo>
                <a:cubicBezTo>
                  <a:pt x="10106" y="13529"/>
                  <a:pt x="10039" y="13609"/>
                  <a:pt x="10033" y="13621"/>
                </a:cubicBezTo>
                <a:cubicBezTo>
                  <a:pt x="10003" y="13679"/>
                  <a:pt x="10069" y="13598"/>
                  <a:pt x="10096" y="13589"/>
                </a:cubicBezTo>
                <a:cubicBezTo>
                  <a:pt x="10113" y="13583"/>
                  <a:pt x="10203" y="13530"/>
                  <a:pt x="10224" y="13557"/>
                </a:cubicBezTo>
                <a:cubicBezTo>
                  <a:pt x="10250" y="13590"/>
                  <a:pt x="10275" y="13592"/>
                  <a:pt x="10319" y="13621"/>
                </a:cubicBezTo>
                <a:cubicBezTo>
                  <a:pt x="10377" y="13659"/>
                  <a:pt x="10408" y="13668"/>
                  <a:pt x="10478" y="13621"/>
                </a:cubicBezTo>
                <a:cubicBezTo>
                  <a:pt x="10488" y="13610"/>
                  <a:pt x="10499" y="13600"/>
                  <a:pt x="10509" y="13589"/>
                </a:cubicBezTo>
              </a:path>
              <a:path w="3208" h="3017">
                <a:moveTo>
                  <a:pt x="10573" y="13906"/>
                </a:moveTo>
                <a:cubicBezTo>
                  <a:pt x="10601" y="13878"/>
                  <a:pt x="10608" y="13867"/>
                  <a:pt x="10636" y="13875"/>
                </a:cubicBezTo>
              </a:path>
              <a:path w="3208" h="3017">
                <a:moveTo>
                  <a:pt x="10954" y="13906"/>
                </a:moveTo>
                <a:cubicBezTo>
                  <a:pt x="11006" y="13932"/>
                  <a:pt x="11014" y="13943"/>
                  <a:pt x="11049" y="13938"/>
                </a:cubicBezTo>
              </a:path>
              <a:path w="3208" h="3017">
                <a:moveTo>
                  <a:pt x="10636" y="14097"/>
                </a:moveTo>
                <a:lnTo>
                  <a:pt x="10636" y="14097"/>
                </a:lnTo>
              </a:path>
              <a:path w="3208" h="3017">
                <a:moveTo>
                  <a:pt x="10604" y="14097"/>
                </a:moveTo>
                <a:cubicBezTo>
                  <a:pt x="10635" y="14089"/>
                  <a:pt x="10704" y="14080"/>
                  <a:pt x="10732" y="14065"/>
                </a:cubicBezTo>
                <a:cubicBezTo>
                  <a:pt x="10778" y="14040"/>
                  <a:pt x="10806" y="14015"/>
                  <a:pt x="10858" y="14002"/>
                </a:cubicBezTo>
                <a:cubicBezTo>
                  <a:pt x="10870" y="13965"/>
                  <a:pt x="10902" y="13944"/>
                  <a:pt x="10954" y="13938"/>
                </a:cubicBezTo>
                <a:cubicBezTo>
                  <a:pt x="11016" y="13931"/>
                  <a:pt x="11082" y="13938"/>
                  <a:pt x="11144" y="13938"/>
                </a:cubicBezTo>
              </a:path>
              <a:path w="3208" h="3017">
                <a:moveTo>
                  <a:pt x="10668" y="14383"/>
                </a:moveTo>
                <a:cubicBezTo>
                  <a:pt x="10782" y="14383"/>
                  <a:pt x="10888" y="14395"/>
                  <a:pt x="10986" y="14414"/>
                </a:cubicBezTo>
                <a:cubicBezTo>
                  <a:pt x="11057" y="14428"/>
                  <a:pt x="11154" y="14422"/>
                  <a:pt x="11208" y="14383"/>
                </a:cubicBezTo>
              </a:path>
              <a:path w="3208" h="3017">
                <a:moveTo>
                  <a:pt x="11874" y="13557"/>
                </a:moveTo>
                <a:cubicBezTo>
                  <a:pt x="11874" y="13626"/>
                  <a:pt x="11846" y="13646"/>
                  <a:pt x="11843" y="13716"/>
                </a:cubicBezTo>
                <a:cubicBezTo>
                  <a:pt x="11838" y="13833"/>
                  <a:pt x="11800" y="13949"/>
                  <a:pt x="11779" y="14065"/>
                </a:cubicBezTo>
                <a:cubicBezTo>
                  <a:pt x="11769" y="14107"/>
                  <a:pt x="11758" y="14150"/>
                  <a:pt x="11748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7"/>
          <p:cNvSpPr/>
          <p:nvPr/>
        </p:nvSpPr>
        <p:spPr>
          <a:xfrm>
            <a:off x="3051000" y="4675320"/>
            <a:ext cx="1589400" cy="720720"/>
          </a:xfrm>
          <a:custGeom>
            <a:avLst/>
            <a:gdLst/>
            <a:ahLst/>
            <a:rect l="l" t="t" r="r" b="b"/>
            <a:pathLst>
              <a:path w="4414" h="2001">
                <a:moveTo>
                  <a:pt x="11843" y="13652"/>
                </a:moveTo>
                <a:cubicBezTo>
                  <a:pt x="11843" y="13621"/>
                  <a:pt x="11843" y="13611"/>
                  <a:pt x="11874" y="13621"/>
                </a:cubicBezTo>
                <a:cubicBezTo>
                  <a:pt x="11874" y="13693"/>
                  <a:pt x="11854" y="13745"/>
                  <a:pt x="11843" y="13811"/>
                </a:cubicBezTo>
                <a:cubicBezTo>
                  <a:pt x="11824" y="13931"/>
                  <a:pt x="11765" y="14036"/>
                  <a:pt x="11748" y="14160"/>
                </a:cubicBezTo>
                <a:cubicBezTo>
                  <a:pt x="11734" y="14258"/>
                  <a:pt x="11716" y="14345"/>
                  <a:pt x="11716" y="14446"/>
                </a:cubicBezTo>
                <a:cubicBezTo>
                  <a:pt x="11716" y="14481"/>
                  <a:pt x="11716" y="14735"/>
                  <a:pt x="11716" y="14668"/>
                </a:cubicBezTo>
                <a:cubicBezTo>
                  <a:pt x="11716" y="14658"/>
                  <a:pt x="11716" y="14647"/>
                  <a:pt x="11716" y="14637"/>
                </a:cubicBezTo>
              </a:path>
              <a:path w="4414" h="2001">
                <a:moveTo>
                  <a:pt x="12478" y="13684"/>
                </a:moveTo>
                <a:cubicBezTo>
                  <a:pt x="12450" y="13600"/>
                  <a:pt x="12399" y="13714"/>
                  <a:pt x="12351" y="13748"/>
                </a:cubicBezTo>
                <a:cubicBezTo>
                  <a:pt x="12237" y="13829"/>
                  <a:pt x="12195" y="13917"/>
                  <a:pt x="12128" y="14034"/>
                </a:cubicBezTo>
                <a:cubicBezTo>
                  <a:pt x="12053" y="14164"/>
                  <a:pt x="11981" y="14288"/>
                  <a:pt x="12002" y="14446"/>
                </a:cubicBezTo>
                <a:cubicBezTo>
                  <a:pt x="12014" y="14535"/>
                  <a:pt x="12066" y="14756"/>
                  <a:pt x="12128" y="14827"/>
                </a:cubicBezTo>
                <a:cubicBezTo>
                  <a:pt x="12189" y="14897"/>
                  <a:pt x="12310" y="14919"/>
                  <a:pt x="12382" y="14891"/>
                </a:cubicBezTo>
                <a:cubicBezTo>
                  <a:pt x="12528" y="14834"/>
                  <a:pt x="12550" y="14731"/>
                  <a:pt x="12605" y="14605"/>
                </a:cubicBezTo>
                <a:cubicBezTo>
                  <a:pt x="12671" y="14455"/>
                  <a:pt x="12774" y="14297"/>
                  <a:pt x="12764" y="14129"/>
                </a:cubicBezTo>
                <a:cubicBezTo>
                  <a:pt x="12753" y="13945"/>
                  <a:pt x="12702" y="13914"/>
                  <a:pt x="12605" y="13780"/>
                </a:cubicBezTo>
                <a:cubicBezTo>
                  <a:pt x="12551" y="13705"/>
                  <a:pt x="12503" y="13689"/>
                  <a:pt x="12414" y="13748"/>
                </a:cubicBezTo>
                <a:cubicBezTo>
                  <a:pt x="12357" y="13786"/>
                  <a:pt x="12331" y="13878"/>
                  <a:pt x="12319" y="13938"/>
                </a:cubicBezTo>
              </a:path>
              <a:path w="4414" h="2001">
                <a:moveTo>
                  <a:pt x="8477" y="13811"/>
                </a:moveTo>
                <a:cubicBezTo>
                  <a:pt x="8486" y="13899"/>
                  <a:pt x="8509" y="13965"/>
                  <a:pt x="8509" y="14065"/>
                </a:cubicBezTo>
                <a:cubicBezTo>
                  <a:pt x="8509" y="14260"/>
                  <a:pt x="8508" y="14462"/>
                  <a:pt x="8541" y="14637"/>
                </a:cubicBezTo>
                <a:cubicBezTo>
                  <a:pt x="8541" y="14647"/>
                  <a:pt x="8541" y="14658"/>
                  <a:pt x="8541" y="14668"/>
                </a:cubicBezTo>
                <a:cubicBezTo>
                  <a:pt x="8594" y="14607"/>
                  <a:pt x="8633" y="14545"/>
                  <a:pt x="8668" y="14446"/>
                </a:cubicBezTo>
                <a:cubicBezTo>
                  <a:pt x="8715" y="14311"/>
                  <a:pt x="8758" y="14172"/>
                  <a:pt x="8795" y="14034"/>
                </a:cubicBezTo>
                <a:cubicBezTo>
                  <a:pt x="8835" y="13886"/>
                  <a:pt x="8868" y="13709"/>
                  <a:pt x="8890" y="13557"/>
                </a:cubicBezTo>
                <a:cubicBezTo>
                  <a:pt x="8906" y="13443"/>
                  <a:pt x="8916" y="13319"/>
                  <a:pt x="8922" y="13208"/>
                </a:cubicBezTo>
                <a:cubicBezTo>
                  <a:pt x="8926" y="13136"/>
                  <a:pt x="8919" y="13075"/>
                  <a:pt x="8954" y="13018"/>
                </a:cubicBezTo>
                <a:cubicBezTo>
                  <a:pt x="8983" y="12971"/>
                  <a:pt x="9005" y="12990"/>
                  <a:pt x="9080" y="12986"/>
                </a:cubicBezTo>
                <a:cubicBezTo>
                  <a:pt x="9171" y="12981"/>
                  <a:pt x="9304" y="13004"/>
                  <a:pt x="9398" y="13018"/>
                </a:cubicBezTo>
                <a:cubicBezTo>
                  <a:pt x="9551" y="13041"/>
                  <a:pt x="9685" y="13049"/>
                  <a:pt x="9842" y="13049"/>
                </a:cubicBezTo>
                <a:cubicBezTo>
                  <a:pt x="9966" y="13049"/>
                  <a:pt x="10077" y="13032"/>
                  <a:pt x="10192" y="13018"/>
                </a:cubicBezTo>
                <a:cubicBezTo>
                  <a:pt x="10296" y="13005"/>
                  <a:pt x="10406" y="12991"/>
                  <a:pt x="10509" y="12986"/>
                </a:cubicBezTo>
                <a:cubicBezTo>
                  <a:pt x="10562" y="12986"/>
                  <a:pt x="10572" y="12986"/>
                  <a:pt x="10604" y="12986"/>
                </a:cubicBezTo>
              </a:path>
              <a:path w="4414" h="2001">
                <a:moveTo>
                  <a:pt x="11240" y="14256"/>
                </a:moveTo>
                <a:cubicBezTo>
                  <a:pt x="11240" y="14348"/>
                  <a:pt x="11258" y="14420"/>
                  <a:pt x="11271" y="14510"/>
                </a:cubicBezTo>
                <a:cubicBezTo>
                  <a:pt x="11286" y="14616"/>
                  <a:pt x="11274" y="14725"/>
                  <a:pt x="11303" y="14827"/>
                </a:cubicBezTo>
                <a:cubicBezTo>
                  <a:pt x="11319" y="14882"/>
                  <a:pt x="11346" y="14939"/>
                  <a:pt x="11366" y="14986"/>
                </a:cubicBezTo>
                <a:cubicBezTo>
                  <a:pt x="11395" y="14937"/>
                  <a:pt x="11380" y="14889"/>
                  <a:pt x="11398" y="14796"/>
                </a:cubicBezTo>
                <a:cubicBezTo>
                  <a:pt x="11424" y="14662"/>
                  <a:pt x="11450" y="14524"/>
                  <a:pt x="11430" y="14383"/>
                </a:cubicBezTo>
                <a:cubicBezTo>
                  <a:pt x="11408" y="14231"/>
                  <a:pt x="11398" y="14093"/>
                  <a:pt x="11398" y="13938"/>
                </a:cubicBezTo>
                <a:cubicBezTo>
                  <a:pt x="11398" y="13764"/>
                  <a:pt x="11408" y="13584"/>
                  <a:pt x="11430" y="13430"/>
                </a:cubicBezTo>
                <a:cubicBezTo>
                  <a:pt x="11442" y="13348"/>
                  <a:pt x="11448" y="13330"/>
                  <a:pt x="11525" y="13303"/>
                </a:cubicBezTo>
                <a:cubicBezTo>
                  <a:pt x="11614" y="13271"/>
                  <a:pt x="11728" y="13323"/>
                  <a:pt x="11811" y="13335"/>
                </a:cubicBezTo>
                <a:cubicBezTo>
                  <a:pt x="11991" y="13361"/>
                  <a:pt x="12178" y="13322"/>
                  <a:pt x="12351" y="13303"/>
                </a:cubicBezTo>
                <a:cubicBezTo>
                  <a:pt x="12491" y="13287"/>
                  <a:pt x="12630" y="13293"/>
                  <a:pt x="12764" y="13272"/>
                </a:cubicBezTo>
                <a:cubicBezTo>
                  <a:pt x="12827" y="13272"/>
                  <a:pt x="12848" y="13272"/>
                  <a:pt x="12890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8"/>
          <p:cNvSpPr/>
          <p:nvPr/>
        </p:nvSpPr>
        <p:spPr>
          <a:xfrm>
            <a:off x="3268800" y="5394240"/>
            <a:ext cx="2000160" cy="606600"/>
          </a:xfrm>
          <a:custGeom>
            <a:avLst/>
            <a:gdLst/>
            <a:ahLst/>
            <a:rect l="l" t="t" r="r" b="b"/>
            <a:pathLst>
              <a:path w="5558" h="1684">
                <a:moveTo>
                  <a:pt x="9430" y="14986"/>
                </a:moveTo>
                <a:cubicBezTo>
                  <a:pt x="9461" y="14996"/>
                  <a:pt x="9515" y="15060"/>
                  <a:pt x="9525" y="15113"/>
                </a:cubicBezTo>
                <a:cubicBezTo>
                  <a:pt x="9554" y="15269"/>
                  <a:pt x="9559" y="15431"/>
                  <a:pt x="9588" y="15589"/>
                </a:cubicBezTo>
                <a:cubicBezTo>
                  <a:pt x="9630" y="15814"/>
                  <a:pt x="9645" y="16033"/>
                  <a:pt x="9684" y="16256"/>
                </a:cubicBezTo>
                <a:cubicBezTo>
                  <a:pt x="9706" y="16381"/>
                  <a:pt x="9730" y="16537"/>
                  <a:pt x="9811" y="16637"/>
                </a:cubicBezTo>
                <a:cubicBezTo>
                  <a:pt x="9821" y="16648"/>
                  <a:pt x="9832" y="16658"/>
                  <a:pt x="9842" y="16669"/>
                </a:cubicBezTo>
              </a:path>
              <a:path w="5558" h="1684">
                <a:moveTo>
                  <a:pt x="10001" y="15430"/>
                </a:moveTo>
                <a:cubicBezTo>
                  <a:pt x="9935" y="15497"/>
                  <a:pt x="9839" y="15555"/>
                  <a:pt x="9779" y="15621"/>
                </a:cubicBezTo>
                <a:cubicBezTo>
                  <a:pt x="9676" y="15735"/>
                  <a:pt x="9582" y="15868"/>
                  <a:pt x="9462" y="15970"/>
                </a:cubicBezTo>
                <a:cubicBezTo>
                  <a:pt x="9353" y="16063"/>
                  <a:pt x="9232" y="16170"/>
                  <a:pt x="9144" y="16288"/>
                </a:cubicBezTo>
                <a:cubicBezTo>
                  <a:pt x="9112" y="16351"/>
                  <a:pt x="9101" y="16373"/>
                  <a:pt x="9080" y="16415"/>
                </a:cubicBezTo>
              </a:path>
              <a:path w="5558" h="1684">
                <a:moveTo>
                  <a:pt x="10255" y="15812"/>
                </a:moveTo>
                <a:cubicBezTo>
                  <a:pt x="10358" y="15773"/>
                  <a:pt x="10465" y="15752"/>
                  <a:pt x="10573" y="15716"/>
                </a:cubicBezTo>
                <a:cubicBezTo>
                  <a:pt x="10605" y="15705"/>
                  <a:pt x="10636" y="15695"/>
                  <a:pt x="10668" y="15684"/>
                </a:cubicBezTo>
              </a:path>
              <a:path w="5558" h="1684">
                <a:moveTo>
                  <a:pt x="10255" y="16097"/>
                </a:moveTo>
                <a:cubicBezTo>
                  <a:pt x="10274" y="16172"/>
                  <a:pt x="10329" y="16210"/>
                  <a:pt x="10414" y="16224"/>
                </a:cubicBezTo>
                <a:cubicBezTo>
                  <a:pt x="10524" y="16242"/>
                  <a:pt x="10627" y="16213"/>
                  <a:pt x="10732" y="16192"/>
                </a:cubicBezTo>
              </a:path>
              <a:path w="5558" h="1684">
                <a:moveTo>
                  <a:pt x="11366" y="15430"/>
                </a:moveTo>
                <a:cubicBezTo>
                  <a:pt x="11366" y="15523"/>
                  <a:pt x="11373" y="15629"/>
                  <a:pt x="11398" y="15716"/>
                </a:cubicBezTo>
                <a:cubicBezTo>
                  <a:pt x="11425" y="15811"/>
                  <a:pt x="11453" y="15869"/>
                  <a:pt x="11462" y="15970"/>
                </a:cubicBezTo>
              </a:path>
              <a:path w="5558" h="1684">
                <a:moveTo>
                  <a:pt x="11716" y="15684"/>
                </a:moveTo>
                <a:cubicBezTo>
                  <a:pt x="11685" y="15639"/>
                  <a:pt x="11628" y="15653"/>
                  <a:pt x="11557" y="15653"/>
                </a:cubicBezTo>
                <a:cubicBezTo>
                  <a:pt x="11468" y="15653"/>
                  <a:pt x="11396" y="15684"/>
                  <a:pt x="11303" y="15684"/>
                </a:cubicBezTo>
                <a:cubicBezTo>
                  <a:pt x="11219" y="15684"/>
                  <a:pt x="11158" y="15711"/>
                  <a:pt x="11081" y="15716"/>
                </a:cubicBezTo>
                <a:cubicBezTo>
                  <a:pt x="11040" y="15719"/>
                  <a:pt x="10996" y="15716"/>
                  <a:pt x="10954" y="15716"/>
                </a:cubicBezTo>
              </a:path>
              <a:path w="5558" h="1684">
                <a:moveTo>
                  <a:pt x="11874" y="16288"/>
                </a:moveTo>
                <a:cubicBezTo>
                  <a:pt x="11774" y="16338"/>
                  <a:pt x="11691" y="16344"/>
                  <a:pt x="11589" y="16383"/>
                </a:cubicBezTo>
                <a:cubicBezTo>
                  <a:pt x="11475" y="16427"/>
                  <a:pt x="11352" y="16461"/>
                  <a:pt x="11240" y="16510"/>
                </a:cubicBezTo>
                <a:cubicBezTo>
                  <a:pt x="11127" y="16560"/>
                  <a:pt x="11027" y="16607"/>
                  <a:pt x="10922" y="16669"/>
                </a:cubicBezTo>
              </a:path>
              <a:path w="5558" h="1684">
                <a:moveTo>
                  <a:pt x="12256" y="15558"/>
                </a:moveTo>
                <a:lnTo>
                  <a:pt x="12256" y="15558"/>
                </a:lnTo>
              </a:path>
              <a:path w="5558" h="1684">
                <a:moveTo>
                  <a:pt x="12256" y="15558"/>
                </a:moveTo>
                <a:cubicBezTo>
                  <a:pt x="12266" y="15547"/>
                  <a:pt x="12277" y="15537"/>
                  <a:pt x="12287" y="15526"/>
                </a:cubicBezTo>
              </a:path>
              <a:path w="5558" h="1684">
                <a:moveTo>
                  <a:pt x="12287" y="15526"/>
                </a:moveTo>
                <a:cubicBezTo>
                  <a:pt x="12338" y="15513"/>
                  <a:pt x="12367" y="15478"/>
                  <a:pt x="12414" y="15462"/>
                </a:cubicBezTo>
                <a:cubicBezTo>
                  <a:pt x="12459" y="15447"/>
                  <a:pt x="12497" y="15413"/>
                  <a:pt x="12541" y="15399"/>
                </a:cubicBezTo>
                <a:cubicBezTo>
                  <a:pt x="12597" y="15381"/>
                  <a:pt x="12632" y="15367"/>
                  <a:pt x="12700" y="15367"/>
                </a:cubicBezTo>
                <a:cubicBezTo>
                  <a:pt x="12781" y="15367"/>
                  <a:pt x="12832" y="15335"/>
                  <a:pt x="12922" y="15335"/>
                </a:cubicBezTo>
                <a:cubicBezTo>
                  <a:pt x="12958" y="15335"/>
                  <a:pt x="12972" y="15338"/>
                  <a:pt x="12986" y="15367"/>
                </a:cubicBezTo>
              </a:path>
              <a:path w="5558" h="1684">
                <a:moveTo>
                  <a:pt x="13018" y="15367"/>
                </a:moveTo>
                <a:cubicBezTo>
                  <a:pt x="13074" y="15404"/>
                  <a:pt x="13105" y="15424"/>
                  <a:pt x="13113" y="15494"/>
                </a:cubicBezTo>
                <a:cubicBezTo>
                  <a:pt x="13123" y="15587"/>
                  <a:pt x="13092" y="15586"/>
                  <a:pt x="13049" y="15653"/>
                </a:cubicBezTo>
                <a:cubicBezTo>
                  <a:pt x="13000" y="15730"/>
                  <a:pt x="12942" y="15769"/>
                  <a:pt x="12859" y="15812"/>
                </a:cubicBezTo>
                <a:cubicBezTo>
                  <a:pt x="12803" y="15841"/>
                  <a:pt x="12726" y="15903"/>
                  <a:pt x="12668" y="15907"/>
                </a:cubicBezTo>
                <a:cubicBezTo>
                  <a:pt x="12627" y="15910"/>
                  <a:pt x="12583" y="15907"/>
                  <a:pt x="12541" y="15907"/>
                </a:cubicBezTo>
                <a:cubicBezTo>
                  <a:pt x="12580" y="15894"/>
                  <a:pt x="12612" y="15898"/>
                  <a:pt x="12668" y="15875"/>
                </a:cubicBezTo>
                <a:cubicBezTo>
                  <a:pt x="12732" y="15848"/>
                  <a:pt x="12789" y="15839"/>
                  <a:pt x="12859" y="15875"/>
                </a:cubicBezTo>
                <a:cubicBezTo>
                  <a:pt x="12928" y="15910"/>
                  <a:pt x="12937" y="15937"/>
                  <a:pt x="12986" y="16002"/>
                </a:cubicBezTo>
                <a:cubicBezTo>
                  <a:pt x="13040" y="16074"/>
                  <a:pt x="13049" y="16103"/>
                  <a:pt x="13049" y="16192"/>
                </a:cubicBezTo>
                <a:cubicBezTo>
                  <a:pt x="13049" y="16242"/>
                  <a:pt x="13046" y="16382"/>
                  <a:pt x="13018" y="16415"/>
                </a:cubicBezTo>
                <a:cubicBezTo>
                  <a:pt x="12973" y="16467"/>
                  <a:pt x="12891" y="16536"/>
                  <a:pt x="12827" y="16574"/>
                </a:cubicBezTo>
                <a:cubicBezTo>
                  <a:pt x="12773" y="16606"/>
                  <a:pt x="12669" y="16623"/>
                  <a:pt x="12605" y="16605"/>
                </a:cubicBezTo>
                <a:cubicBezTo>
                  <a:pt x="12521" y="16581"/>
                  <a:pt x="12492" y="16534"/>
                  <a:pt x="12446" y="16478"/>
                </a:cubicBezTo>
                <a:cubicBezTo>
                  <a:pt x="12389" y="16408"/>
                  <a:pt x="12382" y="16416"/>
                  <a:pt x="12382" y="16320"/>
                </a:cubicBezTo>
                <a:cubicBezTo>
                  <a:pt x="12382" y="16288"/>
                  <a:pt x="12382" y="16277"/>
                  <a:pt x="12382" y="16256"/>
                </a:cubicBezTo>
              </a:path>
              <a:path w="5558" h="1684">
                <a:moveTo>
                  <a:pt x="13144" y="16574"/>
                </a:moveTo>
                <a:cubicBezTo>
                  <a:pt x="13144" y="16584"/>
                  <a:pt x="13144" y="16595"/>
                  <a:pt x="13144" y="16605"/>
                </a:cubicBezTo>
                <a:cubicBezTo>
                  <a:pt x="13177" y="16597"/>
                  <a:pt x="13233" y="16556"/>
                  <a:pt x="13240" y="16542"/>
                </a:cubicBezTo>
                <a:cubicBezTo>
                  <a:pt x="13256" y="16511"/>
                  <a:pt x="13199" y="16495"/>
                  <a:pt x="13176" y="16478"/>
                </a:cubicBezTo>
                <a:cubicBezTo>
                  <a:pt x="13156" y="16504"/>
                  <a:pt x="13103" y="16554"/>
                  <a:pt x="13113" y="16574"/>
                </a:cubicBezTo>
                <a:cubicBezTo>
                  <a:pt x="13123" y="16584"/>
                  <a:pt x="13134" y="16595"/>
                  <a:pt x="13144" y="16605"/>
                </a:cubicBezTo>
              </a:path>
              <a:path w="5558" h="1684">
                <a:moveTo>
                  <a:pt x="13748" y="15462"/>
                </a:moveTo>
                <a:cubicBezTo>
                  <a:pt x="13748" y="15648"/>
                  <a:pt x="13742" y="15822"/>
                  <a:pt x="13716" y="16002"/>
                </a:cubicBezTo>
                <a:cubicBezTo>
                  <a:pt x="13701" y="16105"/>
                  <a:pt x="13688" y="16218"/>
                  <a:pt x="13684" y="16320"/>
                </a:cubicBezTo>
                <a:cubicBezTo>
                  <a:pt x="13681" y="16394"/>
                  <a:pt x="13684" y="16468"/>
                  <a:pt x="13684" y="16542"/>
                </a:cubicBezTo>
              </a:path>
              <a:path w="5558" h="1684">
                <a:moveTo>
                  <a:pt x="14160" y="15589"/>
                </a:moveTo>
                <a:cubicBezTo>
                  <a:pt x="14160" y="15663"/>
                  <a:pt x="14160" y="15710"/>
                  <a:pt x="14129" y="15780"/>
                </a:cubicBezTo>
                <a:cubicBezTo>
                  <a:pt x="14093" y="15861"/>
                  <a:pt x="14053" y="15977"/>
                  <a:pt x="14034" y="16066"/>
                </a:cubicBezTo>
                <a:cubicBezTo>
                  <a:pt x="14015" y="16155"/>
                  <a:pt x="14028" y="16281"/>
                  <a:pt x="14065" y="16351"/>
                </a:cubicBezTo>
                <a:cubicBezTo>
                  <a:pt x="14099" y="16416"/>
                  <a:pt x="14148" y="16483"/>
                  <a:pt x="14192" y="16542"/>
                </a:cubicBezTo>
                <a:cubicBezTo>
                  <a:pt x="14220" y="16580"/>
                  <a:pt x="14316" y="16642"/>
                  <a:pt x="14351" y="16637"/>
                </a:cubicBezTo>
                <a:cubicBezTo>
                  <a:pt x="14413" y="16629"/>
                  <a:pt x="14505" y="16601"/>
                  <a:pt x="14542" y="16542"/>
                </a:cubicBezTo>
                <a:cubicBezTo>
                  <a:pt x="14591" y="16465"/>
                  <a:pt x="14630" y="16412"/>
                  <a:pt x="14637" y="16320"/>
                </a:cubicBezTo>
                <a:cubicBezTo>
                  <a:pt x="14639" y="16290"/>
                  <a:pt x="14602" y="16207"/>
                  <a:pt x="14573" y="16192"/>
                </a:cubicBezTo>
                <a:cubicBezTo>
                  <a:pt x="14520" y="16165"/>
                  <a:pt x="14452" y="16213"/>
                  <a:pt x="14414" y="16224"/>
                </a:cubicBezTo>
                <a:cubicBezTo>
                  <a:pt x="14313" y="16255"/>
                  <a:pt x="14317" y="16271"/>
                  <a:pt x="14256" y="16351"/>
                </a:cubicBezTo>
                <a:cubicBezTo>
                  <a:pt x="14230" y="16385"/>
                  <a:pt x="14191" y="16416"/>
                  <a:pt x="14160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is shot upward with an initial velocity of 240 feet per second so that its height s (in feet) above the ground after t seconds is given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-16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40t.  For what values of t will the object be at 416 feet above the g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, 1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3, 1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3"/>
          <p:cNvSpPr/>
          <p:nvPr/>
        </p:nvSpPr>
        <p:spPr>
          <a:xfrm>
            <a:off x="3508200" y="3371760"/>
            <a:ext cx="3246480" cy="709560"/>
          </a:xfrm>
          <a:custGeom>
            <a:avLst/>
            <a:gdLst/>
            <a:ahLst/>
            <a:rect l="l" t="t" r="r" b="b"/>
            <a:pathLst>
              <a:path w="9018" h="1970">
                <a:moveTo>
                  <a:pt x="9874" y="9970"/>
                </a:moveTo>
                <a:cubicBezTo>
                  <a:pt x="9874" y="10064"/>
                  <a:pt x="9847" y="10134"/>
                  <a:pt x="9842" y="10224"/>
                </a:cubicBezTo>
                <a:cubicBezTo>
                  <a:pt x="9837" y="10311"/>
                  <a:pt x="9799" y="10365"/>
                  <a:pt x="9779" y="10446"/>
                </a:cubicBezTo>
                <a:cubicBezTo>
                  <a:pt x="9768" y="10491"/>
                  <a:pt x="9780" y="10606"/>
                  <a:pt x="9747" y="10573"/>
                </a:cubicBezTo>
                <a:cubicBezTo>
                  <a:pt x="9707" y="10533"/>
                  <a:pt x="9791" y="10466"/>
                  <a:pt x="9811" y="10446"/>
                </a:cubicBezTo>
                <a:cubicBezTo>
                  <a:pt x="9864" y="10392"/>
                  <a:pt x="9887" y="10410"/>
                  <a:pt x="9938" y="10382"/>
                </a:cubicBezTo>
                <a:cubicBezTo>
                  <a:pt x="9949" y="10371"/>
                  <a:pt x="9959" y="10361"/>
                  <a:pt x="9970" y="10350"/>
                </a:cubicBezTo>
                <a:cubicBezTo>
                  <a:pt x="10020" y="10380"/>
                  <a:pt x="10097" y="10398"/>
                  <a:pt x="10160" y="10414"/>
                </a:cubicBezTo>
                <a:cubicBezTo>
                  <a:pt x="10217" y="10428"/>
                  <a:pt x="10256" y="10462"/>
                  <a:pt x="10319" y="10478"/>
                </a:cubicBezTo>
                <a:cubicBezTo>
                  <a:pt x="10365" y="10490"/>
                  <a:pt x="10430" y="10478"/>
                  <a:pt x="10478" y="10478"/>
                </a:cubicBezTo>
              </a:path>
              <a:path w="9018" h="1970">
                <a:moveTo>
                  <a:pt x="10478" y="9684"/>
                </a:moveTo>
                <a:cubicBezTo>
                  <a:pt x="10478" y="9931"/>
                  <a:pt x="10486" y="10171"/>
                  <a:pt x="10509" y="10414"/>
                </a:cubicBezTo>
                <a:cubicBezTo>
                  <a:pt x="10522" y="10553"/>
                  <a:pt x="10526" y="10692"/>
                  <a:pt x="10541" y="10827"/>
                </a:cubicBezTo>
                <a:cubicBezTo>
                  <a:pt x="10551" y="10913"/>
                  <a:pt x="10541" y="11227"/>
                  <a:pt x="10541" y="11208"/>
                </a:cubicBezTo>
              </a:path>
              <a:path w="9018" h="1970">
                <a:moveTo>
                  <a:pt x="10827" y="9906"/>
                </a:moveTo>
                <a:cubicBezTo>
                  <a:pt x="10827" y="9895"/>
                  <a:pt x="10827" y="9885"/>
                  <a:pt x="10827" y="9874"/>
                </a:cubicBezTo>
              </a:path>
              <a:path w="9018" h="1970">
                <a:moveTo>
                  <a:pt x="10827" y="9906"/>
                </a:moveTo>
                <a:lnTo>
                  <a:pt x="10827" y="9906"/>
                </a:lnTo>
              </a:path>
              <a:path w="9018" h="1970">
                <a:moveTo>
                  <a:pt x="10827" y="9938"/>
                </a:moveTo>
                <a:cubicBezTo>
                  <a:pt x="10827" y="10071"/>
                  <a:pt x="10847" y="10189"/>
                  <a:pt x="10858" y="10319"/>
                </a:cubicBezTo>
                <a:cubicBezTo>
                  <a:pt x="10870" y="10467"/>
                  <a:pt x="10885" y="10616"/>
                  <a:pt x="10890" y="10763"/>
                </a:cubicBezTo>
                <a:cubicBezTo>
                  <a:pt x="10894" y="10871"/>
                  <a:pt x="10890" y="11209"/>
                  <a:pt x="10890" y="11208"/>
                </a:cubicBezTo>
              </a:path>
              <a:path w="9018" h="1970">
                <a:moveTo>
                  <a:pt x="11240" y="9874"/>
                </a:moveTo>
                <a:cubicBezTo>
                  <a:pt x="11240" y="9863"/>
                  <a:pt x="11240" y="9853"/>
                  <a:pt x="11240" y="9842"/>
                </a:cubicBezTo>
                <a:cubicBezTo>
                  <a:pt x="11255" y="9874"/>
                  <a:pt x="11268" y="9891"/>
                  <a:pt x="11240" y="9970"/>
                </a:cubicBezTo>
                <a:cubicBezTo>
                  <a:pt x="11201" y="10081"/>
                  <a:pt x="11180" y="10199"/>
                  <a:pt x="11176" y="10319"/>
                </a:cubicBezTo>
                <a:cubicBezTo>
                  <a:pt x="11170" y="10466"/>
                  <a:pt x="11119" y="10613"/>
                  <a:pt x="11144" y="10763"/>
                </a:cubicBezTo>
                <a:cubicBezTo>
                  <a:pt x="11162" y="10872"/>
                  <a:pt x="11175" y="11008"/>
                  <a:pt x="11208" y="11112"/>
                </a:cubicBezTo>
                <a:cubicBezTo>
                  <a:pt x="11220" y="11151"/>
                  <a:pt x="11289" y="11258"/>
                  <a:pt x="11335" y="11271"/>
                </a:cubicBezTo>
                <a:cubicBezTo>
                  <a:pt x="11384" y="11285"/>
                  <a:pt x="11494" y="11212"/>
                  <a:pt x="11525" y="11176"/>
                </a:cubicBezTo>
                <a:cubicBezTo>
                  <a:pt x="11588" y="11101"/>
                  <a:pt x="11639" y="11011"/>
                  <a:pt x="11684" y="10922"/>
                </a:cubicBezTo>
                <a:cubicBezTo>
                  <a:pt x="11727" y="10837"/>
                  <a:pt x="11784" y="10736"/>
                  <a:pt x="11748" y="10636"/>
                </a:cubicBezTo>
                <a:cubicBezTo>
                  <a:pt x="11731" y="10587"/>
                  <a:pt x="11700" y="10553"/>
                  <a:pt x="11652" y="10541"/>
                </a:cubicBezTo>
                <a:cubicBezTo>
                  <a:pt x="11584" y="10558"/>
                  <a:pt x="11515" y="10624"/>
                  <a:pt x="11494" y="10700"/>
                </a:cubicBezTo>
                <a:cubicBezTo>
                  <a:pt x="11463" y="10812"/>
                  <a:pt x="11462" y="10931"/>
                  <a:pt x="11462" y="11049"/>
                </a:cubicBezTo>
                <a:cubicBezTo>
                  <a:pt x="11462" y="11150"/>
                  <a:pt x="11445" y="11253"/>
                  <a:pt x="11494" y="11335"/>
                </a:cubicBezTo>
              </a:path>
              <a:path w="9018" h="1970">
                <a:moveTo>
                  <a:pt x="12002" y="10160"/>
                </a:moveTo>
                <a:cubicBezTo>
                  <a:pt x="12070" y="10160"/>
                  <a:pt x="12091" y="10186"/>
                  <a:pt x="12160" y="10192"/>
                </a:cubicBezTo>
                <a:cubicBezTo>
                  <a:pt x="12259" y="10200"/>
                  <a:pt x="12325" y="10176"/>
                  <a:pt x="12414" y="10160"/>
                </a:cubicBezTo>
                <a:cubicBezTo>
                  <a:pt x="12498" y="10145"/>
                  <a:pt x="12542" y="10171"/>
                  <a:pt x="12605" y="10192"/>
                </a:cubicBezTo>
                <a:cubicBezTo>
                  <a:pt x="12636" y="10192"/>
                  <a:pt x="12647" y="10192"/>
                  <a:pt x="12636" y="10224"/>
                </a:cubicBezTo>
              </a:path>
              <a:path w="9018" h="1970">
                <a:moveTo>
                  <a:pt x="12097" y="10573"/>
                </a:moveTo>
                <a:cubicBezTo>
                  <a:pt x="12109" y="10609"/>
                  <a:pt x="12141" y="10630"/>
                  <a:pt x="12192" y="10636"/>
                </a:cubicBezTo>
                <a:cubicBezTo>
                  <a:pt x="12315" y="10650"/>
                  <a:pt x="12437" y="10625"/>
                  <a:pt x="12541" y="10604"/>
                </a:cubicBezTo>
                <a:cubicBezTo>
                  <a:pt x="12594" y="10604"/>
                  <a:pt x="12604" y="10604"/>
                  <a:pt x="12636" y="10604"/>
                </a:cubicBezTo>
              </a:path>
              <a:path w="9018" h="1970">
                <a:moveTo>
                  <a:pt x="12827" y="10160"/>
                </a:moveTo>
                <a:cubicBezTo>
                  <a:pt x="12896" y="10160"/>
                  <a:pt x="12932" y="10140"/>
                  <a:pt x="12986" y="10128"/>
                </a:cubicBezTo>
                <a:cubicBezTo>
                  <a:pt x="13056" y="10113"/>
                  <a:pt x="13137" y="10101"/>
                  <a:pt x="13208" y="10096"/>
                </a:cubicBezTo>
                <a:cubicBezTo>
                  <a:pt x="13239" y="10094"/>
                  <a:pt x="13272" y="10096"/>
                  <a:pt x="13303" y="10096"/>
                </a:cubicBezTo>
              </a:path>
              <a:path w="9018" h="1970">
                <a:moveTo>
                  <a:pt x="13589" y="9557"/>
                </a:moveTo>
                <a:cubicBezTo>
                  <a:pt x="13589" y="9638"/>
                  <a:pt x="13566" y="9700"/>
                  <a:pt x="13557" y="9779"/>
                </a:cubicBezTo>
                <a:cubicBezTo>
                  <a:pt x="13541" y="9914"/>
                  <a:pt x="13577" y="10033"/>
                  <a:pt x="13589" y="10160"/>
                </a:cubicBezTo>
                <a:cubicBezTo>
                  <a:pt x="13615" y="10436"/>
                  <a:pt x="13582" y="10713"/>
                  <a:pt x="13621" y="10986"/>
                </a:cubicBezTo>
                <a:cubicBezTo>
                  <a:pt x="13628" y="11036"/>
                  <a:pt x="13621" y="11093"/>
                  <a:pt x="13621" y="11144"/>
                </a:cubicBezTo>
              </a:path>
              <a:path w="9018" h="1970">
                <a:moveTo>
                  <a:pt x="13938" y="9811"/>
                </a:moveTo>
                <a:cubicBezTo>
                  <a:pt x="13957" y="9753"/>
                  <a:pt x="13942" y="9766"/>
                  <a:pt x="13938" y="9811"/>
                </a:cubicBezTo>
                <a:cubicBezTo>
                  <a:pt x="13928" y="9934"/>
                  <a:pt x="13858" y="10039"/>
                  <a:pt x="13843" y="10160"/>
                </a:cubicBezTo>
                <a:cubicBezTo>
                  <a:pt x="13820" y="10340"/>
                  <a:pt x="13811" y="10516"/>
                  <a:pt x="13811" y="10700"/>
                </a:cubicBezTo>
                <a:cubicBezTo>
                  <a:pt x="13811" y="10844"/>
                  <a:pt x="13806" y="10980"/>
                  <a:pt x="13875" y="11112"/>
                </a:cubicBezTo>
                <a:cubicBezTo>
                  <a:pt x="13911" y="11180"/>
                  <a:pt x="13952" y="11234"/>
                  <a:pt x="14034" y="11240"/>
                </a:cubicBezTo>
                <a:cubicBezTo>
                  <a:pt x="14145" y="11247"/>
                  <a:pt x="14163" y="11154"/>
                  <a:pt x="14224" y="11081"/>
                </a:cubicBezTo>
                <a:cubicBezTo>
                  <a:pt x="14304" y="10985"/>
                  <a:pt x="14360" y="10860"/>
                  <a:pt x="14383" y="10732"/>
                </a:cubicBezTo>
                <a:cubicBezTo>
                  <a:pt x="14398" y="10652"/>
                  <a:pt x="14400" y="10538"/>
                  <a:pt x="14351" y="10478"/>
                </a:cubicBezTo>
                <a:cubicBezTo>
                  <a:pt x="14340" y="10467"/>
                  <a:pt x="14330" y="10457"/>
                  <a:pt x="14319" y="10446"/>
                </a:cubicBezTo>
                <a:cubicBezTo>
                  <a:pt x="14249" y="10464"/>
                  <a:pt x="14227" y="10507"/>
                  <a:pt x="14192" y="10573"/>
                </a:cubicBezTo>
                <a:cubicBezTo>
                  <a:pt x="14139" y="10672"/>
                  <a:pt x="14109" y="10779"/>
                  <a:pt x="14097" y="10890"/>
                </a:cubicBezTo>
                <a:cubicBezTo>
                  <a:pt x="14094" y="10917"/>
                  <a:pt x="14073" y="11278"/>
                  <a:pt x="14129" y="11271"/>
                </a:cubicBezTo>
                <a:cubicBezTo>
                  <a:pt x="14139" y="11261"/>
                  <a:pt x="14150" y="11250"/>
                  <a:pt x="14160" y="11240"/>
                </a:cubicBezTo>
              </a:path>
              <a:path w="9018" h="1970">
                <a:moveTo>
                  <a:pt x="14700" y="9652"/>
                </a:moveTo>
                <a:cubicBezTo>
                  <a:pt x="14682" y="9758"/>
                  <a:pt x="14684" y="9864"/>
                  <a:pt x="14668" y="9970"/>
                </a:cubicBezTo>
                <a:cubicBezTo>
                  <a:pt x="14640" y="10150"/>
                  <a:pt x="14660" y="10329"/>
                  <a:pt x="14637" y="10509"/>
                </a:cubicBezTo>
                <a:cubicBezTo>
                  <a:pt x="14618" y="10652"/>
                  <a:pt x="14608" y="10837"/>
                  <a:pt x="14637" y="10986"/>
                </a:cubicBezTo>
                <a:cubicBezTo>
                  <a:pt x="14651" y="11058"/>
                  <a:pt x="14717" y="11155"/>
                  <a:pt x="14764" y="11208"/>
                </a:cubicBezTo>
                <a:cubicBezTo>
                  <a:pt x="14824" y="11275"/>
                  <a:pt x="14862" y="11220"/>
                  <a:pt x="14922" y="11208"/>
                </a:cubicBezTo>
                <a:cubicBezTo>
                  <a:pt x="15031" y="11186"/>
                  <a:pt x="15015" y="11170"/>
                  <a:pt x="15081" y="11081"/>
                </a:cubicBezTo>
                <a:cubicBezTo>
                  <a:pt x="15117" y="11045"/>
                  <a:pt x="15128" y="11028"/>
                  <a:pt x="15113" y="10986"/>
                </a:cubicBezTo>
              </a:path>
              <a:path w="9018" h="1970">
                <a:moveTo>
                  <a:pt x="14414" y="10414"/>
                </a:moveTo>
                <a:cubicBezTo>
                  <a:pt x="14492" y="10414"/>
                  <a:pt x="14542" y="10396"/>
                  <a:pt x="14605" y="10382"/>
                </a:cubicBezTo>
                <a:cubicBezTo>
                  <a:pt x="14690" y="10364"/>
                  <a:pt x="14678" y="10387"/>
                  <a:pt x="14764" y="10350"/>
                </a:cubicBezTo>
              </a:path>
              <a:path w="9018" h="1970">
                <a:moveTo>
                  <a:pt x="14922" y="9588"/>
                </a:moveTo>
                <a:cubicBezTo>
                  <a:pt x="14930" y="9558"/>
                  <a:pt x="14993" y="9420"/>
                  <a:pt x="15018" y="9398"/>
                </a:cubicBezTo>
                <a:cubicBezTo>
                  <a:pt x="15040" y="9379"/>
                  <a:pt x="15051" y="9376"/>
                  <a:pt x="15081" y="9366"/>
                </a:cubicBezTo>
                <a:cubicBezTo>
                  <a:pt x="15132" y="9430"/>
                  <a:pt x="15163" y="9508"/>
                  <a:pt x="15176" y="9588"/>
                </a:cubicBezTo>
                <a:cubicBezTo>
                  <a:pt x="15187" y="9653"/>
                  <a:pt x="15164" y="9807"/>
                  <a:pt x="15145" y="9874"/>
                </a:cubicBezTo>
                <a:cubicBezTo>
                  <a:pt x="15120" y="9963"/>
                  <a:pt x="15070" y="10038"/>
                  <a:pt x="15050" y="10128"/>
                </a:cubicBezTo>
                <a:cubicBezTo>
                  <a:pt x="15050" y="10160"/>
                  <a:pt x="15050" y="10171"/>
                  <a:pt x="15050" y="10192"/>
                </a:cubicBezTo>
                <a:cubicBezTo>
                  <a:pt x="15098" y="10155"/>
                  <a:pt x="15114" y="10160"/>
                  <a:pt x="15176" y="10160"/>
                </a:cubicBezTo>
                <a:cubicBezTo>
                  <a:pt x="15240" y="10160"/>
                  <a:pt x="15303" y="10160"/>
                  <a:pt x="15367" y="10160"/>
                </a:cubicBezTo>
              </a:path>
              <a:path w="9018" h="1970">
                <a:moveTo>
                  <a:pt x="15907" y="9842"/>
                </a:moveTo>
                <a:cubicBezTo>
                  <a:pt x="15850" y="9861"/>
                  <a:pt x="15875" y="9933"/>
                  <a:pt x="15875" y="10001"/>
                </a:cubicBezTo>
                <a:cubicBezTo>
                  <a:pt x="15875" y="10140"/>
                  <a:pt x="15907" y="10271"/>
                  <a:pt x="15907" y="10414"/>
                </a:cubicBezTo>
                <a:cubicBezTo>
                  <a:pt x="15907" y="10492"/>
                  <a:pt x="15925" y="10725"/>
                  <a:pt x="15907" y="10700"/>
                </a:cubicBezTo>
                <a:cubicBezTo>
                  <a:pt x="15896" y="10689"/>
                  <a:pt x="15886" y="10679"/>
                  <a:pt x="15875" y="10668"/>
                </a:cubicBezTo>
              </a:path>
              <a:path w="9018" h="1970">
                <a:moveTo>
                  <a:pt x="15684" y="10446"/>
                </a:moveTo>
                <a:cubicBezTo>
                  <a:pt x="15674" y="10446"/>
                  <a:pt x="15663" y="10446"/>
                  <a:pt x="15653" y="10446"/>
                </a:cubicBezTo>
                <a:cubicBezTo>
                  <a:pt x="15703" y="10459"/>
                  <a:pt x="15723" y="10478"/>
                  <a:pt x="15780" y="10478"/>
                </a:cubicBezTo>
                <a:cubicBezTo>
                  <a:pt x="15846" y="10478"/>
                  <a:pt x="15943" y="10451"/>
                  <a:pt x="16002" y="10414"/>
                </a:cubicBezTo>
                <a:cubicBezTo>
                  <a:pt x="16013" y="10403"/>
                  <a:pt x="16023" y="10393"/>
                  <a:pt x="16034" y="10382"/>
                </a:cubicBezTo>
              </a:path>
              <a:path w="9018" h="1970">
                <a:moveTo>
                  <a:pt x="16256" y="9906"/>
                </a:moveTo>
                <a:cubicBezTo>
                  <a:pt x="16256" y="9814"/>
                  <a:pt x="16300" y="9815"/>
                  <a:pt x="16320" y="9747"/>
                </a:cubicBezTo>
                <a:cubicBezTo>
                  <a:pt x="16339" y="9680"/>
                  <a:pt x="16362" y="9629"/>
                  <a:pt x="16446" y="9620"/>
                </a:cubicBezTo>
                <a:cubicBezTo>
                  <a:pt x="16508" y="9613"/>
                  <a:pt x="16549" y="9671"/>
                  <a:pt x="16574" y="9716"/>
                </a:cubicBezTo>
                <a:cubicBezTo>
                  <a:pt x="16627" y="9811"/>
                  <a:pt x="16605" y="9927"/>
                  <a:pt x="16605" y="10033"/>
                </a:cubicBezTo>
                <a:cubicBezTo>
                  <a:pt x="16605" y="10152"/>
                  <a:pt x="16566" y="10307"/>
                  <a:pt x="16510" y="10414"/>
                </a:cubicBezTo>
                <a:cubicBezTo>
                  <a:pt x="16454" y="10521"/>
                  <a:pt x="16377" y="10642"/>
                  <a:pt x="16351" y="10763"/>
                </a:cubicBezTo>
                <a:cubicBezTo>
                  <a:pt x="16332" y="10851"/>
                  <a:pt x="16312" y="10861"/>
                  <a:pt x="16320" y="10858"/>
                </a:cubicBezTo>
                <a:cubicBezTo>
                  <a:pt x="16393" y="10828"/>
                  <a:pt x="16380" y="10836"/>
                  <a:pt x="16446" y="10858"/>
                </a:cubicBezTo>
                <a:cubicBezTo>
                  <a:pt x="16499" y="10875"/>
                  <a:pt x="16562" y="10916"/>
                  <a:pt x="16605" y="10954"/>
                </a:cubicBezTo>
                <a:cubicBezTo>
                  <a:pt x="16644" y="10989"/>
                  <a:pt x="16684" y="11005"/>
                  <a:pt x="16732" y="11017"/>
                </a:cubicBezTo>
              </a:path>
              <a:path w="9018" h="1970">
                <a:moveTo>
                  <a:pt x="16859" y="9811"/>
                </a:moveTo>
                <a:cubicBezTo>
                  <a:pt x="16859" y="9893"/>
                  <a:pt x="16879" y="9952"/>
                  <a:pt x="16891" y="10033"/>
                </a:cubicBezTo>
                <a:cubicBezTo>
                  <a:pt x="16905" y="10133"/>
                  <a:pt x="16884" y="10481"/>
                  <a:pt x="16891" y="10478"/>
                </a:cubicBezTo>
                <a:cubicBezTo>
                  <a:pt x="16993" y="10439"/>
                  <a:pt x="17187" y="10484"/>
                  <a:pt x="17272" y="10509"/>
                </a:cubicBezTo>
                <a:cubicBezTo>
                  <a:pt x="17321" y="10523"/>
                  <a:pt x="17325" y="10511"/>
                  <a:pt x="17336" y="10478"/>
                </a:cubicBezTo>
              </a:path>
              <a:path w="9018" h="1970">
                <a:moveTo>
                  <a:pt x="17367" y="9620"/>
                </a:moveTo>
                <a:cubicBezTo>
                  <a:pt x="17317" y="9637"/>
                  <a:pt x="17336" y="9683"/>
                  <a:pt x="17336" y="9747"/>
                </a:cubicBezTo>
                <a:cubicBezTo>
                  <a:pt x="17336" y="9896"/>
                  <a:pt x="17304" y="10038"/>
                  <a:pt x="17304" y="10192"/>
                </a:cubicBezTo>
                <a:cubicBezTo>
                  <a:pt x="17304" y="10379"/>
                  <a:pt x="17318" y="10550"/>
                  <a:pt x="17336" y="10732"/>
                </a:cubicBezTo>
                <a:cubicBezTo>
                  <a:pt x="17350" y="10877"/>
                  <a:pt x="17336" y="11030"/>
                  <a:pt x="17336" y="11176"/>
                </a:cubicBezTo>
              </a:path>
              <a:path w="9018" h="1970">
                <a:moveTo>
                  <a:pt x="17621" y="9811"/>
                </a:moveTo>
                <a:cubicBezTo>
                  <a:pt x="17621" y="9904"/>
                  <a:pt x="17571" y="9975"/>
                  <a:pt x="17558" y="10065"/>
                </a:cubicBezTo>
                <a:cubicBezTo>
                  <a:pt x="17534" y="10224"/>
                  <a:pt x="17526" y="10379"/>
                  <a:pt x="17526" y="10541"/>
                </a:cubicBezTo>
                <a:cubicBezTo>
                  <a:pt x="17526" y="10704"/>
                  <a:pt x="17513" y="10860"/>
                  <a:pt x="17558" y="11017"/>
                </a:cubicBezTo>
                <a:cubicBezTo>
                  <a:pt x="17586" y="11114"/>
                  <a:pt x="17603" y="11200"/>
                  <a:pt x="17716" y="11208"/>
                </a:cubicBezTo>
                <a:cubicBezTo>
                  <a:pt x="17845" y="11217"/>
                  <a:pt x="17882" y="11118"/>
                  <a:pt x="17939" y="11017"/>
                </a:cubicBezTo>
                <a:cubicBezTo>
                  <a:pt x="18009" y="10894"/>
                  <a:pt x="18022" y="10711"/>
                  <a:pt x="18034" y="10573"/>
                </a:cubicBezTo>
                <a:cubicBezTo>
                  <a:pt x="18045" y="10445"/>
                  <a:pt x="18010" y="10240"/>
                  <a:pt x="17939" y="10128"/>
                </a:cubicBezTo>
                <a:cubicBezTo>
                  <a:pt x="17873" y="10024"/>
                  <a:pt x="17806" y="10042"/>
                  <a:pt x="17716" y="10001"/>
                </a:cubicBezTo>
                <a:cubicBezTo>
                  <a:pt x="17667" y="9979"/>
                  <a:pt x="17680" y="9970"/>
                  <a:pt x="17621" y="9970"/>
                </a:cubicBezTo>
              </a:path>
              <a:path w="9018" h="1970">
                <a:moveTo>
                  <a:pt x="18288" y="9747"/>
                </a:moveTo>
                <a:cubicBezTo>
                  <a:pt x="18288" y="10161"/>
                  <a:pt x="18275" y="10580"/>
                  <a:pt x="18320" y="10986"/>
                </a:cubicBezTo>
                <a:cubicBezTo>
                  <a:pt x="18320" y="11070"/>
                  <a:pt x="18320" y="11091"/>
                  <a:pt x="18320" y="11144"/>
                </a:cubicBezTo>
              </a:path>
              <a:path w="9018" h="1970">
                <a:moveTo>
                  <a:pt x="18352" y="11208"/>
                </a:moveTo>
                <a:cubicBezTo>
                  <a:pt x="18388" y="11208"/>
                  <a:pt x="18401" y="11211"/>
                  <a:pt x="18415" y="11240"/>
                </a:cubicBezTo>
                <a:cubicBezTo>
                  <a:pt x="18464" y="11203"/>
                  <a:pt x="18534" y="11199"/>
                  <a:pt x="18574" y="11144"/>
                </a:cubicBezTo>
                <a:cubicBezTo>
                  <a:pt x="18606" y="11081"/>
                  <a:pt x="18617" y="11060"/>
                  <a:pt x="18669" y="11049"/>
                </a:cubicBezTo>
              </a:path>
              <a:path w="9018" h="1970">
                <a:moveTo>
                  <a:pt x="18764" y="10858"/>
                </a:moveTo>
                <a:cubicBezTo>
                  <a:pt x="18764" y="10837"/>
                  <a:pt x="18764" y="10816"/>
                  <a:pt x="18764" y="10795"/>
                </a:cubicBezTo>
              </a:path>
              <a:path w="9018" h="1970">
                <a:moveTo>
                  <a:pt x="18002" y="10446"/>
                </a:moveTo>
                <a:cubicBezTo>
                  <a:pt x="18067" y="10446"/>
                  <a:pt x="18077" y="10431"/>
                  <a:pt x="18129" y="10414"/>
                </a:cubicBezTo>
                <a:cubicBezTo>
                  <a:pt x="18179" y="10397"/>
                  <a:pt x="18279" y="10390"/>
                  <a:pt x="18320" y="10382"/>
                </a:cubicBezTo>
                <a:cubicBezTo>
                  <a:pt x="18427" y="10360"/>
                  <a:pt x="18559" y="10382"/>
                  <a:pt x="18669" y="10382"/>
                </a:cubicBezTo>
                <a:cubicBezTo>
                  <a:pt x="18669" y="10414"/>
                  <a:pt x="18669" y="10425"/>
                  <a:pt x="18637" y="10414"/>
                </a:cubicBezTo>
              </a:path>
              <a:path w="9018" h="1970">
                <a:moveTo>
                  <a:pt x="18574" y="10414"/>
                </a:moveTo>
                <a:cubicBezTo>
                  <a:pt x="18532" y="10414"/>
                  <a:pt x="18489" y="10414"/>
                  <a:pt x="18447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4"/>
          <p:cNvSpPr/>
          <p:nvPr/>
        </p:nvSpPr>
        <p:spPr>
          <a:xfrm>
            <a:off x="7497720" y="3336840"/>
            <a:ext cx="1109880" cy="538200"/>
          </a:xfrm>
          <a:custGeom>
            <a:avLst/>
            <a:gdLst/>
            <a:ahLst/>
            <a:rect l="l" t="t" r="r" b="b"/>
            <a:pathLst>
              <a:path w="3081" h="1493">
                <a:moveTo>
                  <a:pt x="21400" y="9906"/>
                </a:moveTo>
                <a:cubicBezTo>
                  <a:pt x="21441" y="9853"/>
                  <a:pt x="21459" y="9817"/>
                  <a:pt x="21463" y="9747"/>
                </a:cubicBezTo>
                <a:cubicBezTo>
                  <a:pt x="21466" y="9690"/>
                  <a:pt x="21480" y="9626"/>
                  <a:pt x="21431" y="9588"/>
                </a:cubicBezTo>
                <a:cubicBezTo>
                  <a:pt x="21396" y="9561"/>
                  <a:pt x="21322" y="9547"/>
                  <a:pt x="21272" y="9557"/>
                </a:cubicBezTo>
                <a:cubicBezTo>
                  <a:pt x="21168" y="9577"/>
                  <a:pt x="21088" y="9677"/>
                  <a:pt x="21018" y="9747"/>
                </a:cubicBezTo>
                <a:cubicBezTo>
                  <a:pt x="20924" y="9842"/>
                  <a:pt x="20848" y="9960"/>
                  <a:pt x="20828" y="10096"/>
                </a:cubicBezTo>
                <a:cubicBezTo>
                  <a:pt x="20815" y="10181"/>
                  <a:pt x="20823" y="10318"/>
                  <a:pt x="20892" y="10382"/>
                </a:cubicBezTo>
                <a:cubicBezTo>
                  <a:pt x="20973" y="10458"/>
                  <a:pt x="21099" y="10396"/>
                  <a:pt x="21177" y="10350"/>
                </a:cubicBezTo>
                <a:cubicBezTo>
                  <a:pt x="21372" y="10237"/>
                  <a:pt x="21392" y="10102"/>
                  <a:pt x="21463" y="9906"/>
                </a:cubicBezTo>
                <a:cubicBezTo>
                  <a:pt x="21489" y="9833"/>
                  <a:pt x="21517" y="9791"/>
                  <a:pt x="21526" y="9716"/>
                </a:cubicBezTo>
                <a:cubicBezTo>
                  <a:pt x="21573" y="9792"/>
                  <a:pt x="21558" y="9875"/>
                  <a:pt x="21558" y="9970"/>
                </a:cubicBezTo>
                <a:cubicBezTo>
                  <a:pt x="21558" y="10121"/>
                  <a:pt x="21510" y="10267"/>
                  <a:pt x="21495" y="10414"/>
                </a:cubicBezTo>
                <a:cubicBezTo>
                  <a:pt x="21488" y="10477"/>
                  <a:pt x="21500" y="10649"/>
                  <a:pt x="21590" y="10668"/>
                </a:cubicBezTo>
                <a:cubicBezTo>
                  <a:pt x="21665" y="10684"/>
                  <a:pt x="21753" y="10650"/>
                  <a:pt x="21812" y="10604"/>
                </a:cubicBezTo>
                <a:cubicBezTo>
                  <a:pt x="21887" y="10531"/>
                  <a:pt x="21918" y="10499"/>
                  <a:pt x="21971" y="10446"/>
                </a:cubicBezTo>
              </a:path>
              <a:path w="3081" h="1493">
                <a:moveTo>
                  <a:pt x="22130" y="9842"/>
                </a:moveTo>
                <a:cubicBezTo>
                  <a:pt x="22216" y="9842"/>
                  <a:pt x="22281" y="9826"/>
                  <a:pt x="22352" y="9811"/>
                </a:cubicBezTo>
                <a:cubicBezTo>
                  <a:pt x="22405" y="9811"/>
                  <a:pt x="22415" y="9811"/>
                  <a:pt x="22447" y="9811"/>
                </a:cubicBezTo>
              </a:path>
              <a:path w="3081" h="1493">
                <a:moveTo>
                  <a:pt x="22098" y="10160"/>
                </a:moveTo>
                <a:cubicBezTo>
                  <a:pt x="22155" y="10149"/>
                  <a:pt x="22197" y="10128"/>
                  <a:pt x="22257" y="10128"/>
                </a:cubicBezTo>
                <a:cubicBezTo>
                  <a:pt x="22293" y="10128"/>
                  <a:pt x="22306" y="10125"/>
                  <a:pt x="22320" y="10096"/>
                </a:cubicBezTo>
              </a:path>
              <a:path w="3081" h="1493">
                <a:moveTo>
                  <a:pt x="22733" y="9652"/>
                </a:moveTo>
                <a:cubicBezTo>
                  <a:pt x="22733" y="9663"/>
                  <a:pt x="22733" y="9673"/>
                  <a:pt x="22733" y="9684"/>
                </a:cubicBezTo>
                <a:cubicBezTo>
                  <a:pt x="22817" y="9684"/>
                  <a:pt x="22886" y="9666"/>
                  <a:pt x="22955" y="9652"/>
                </a:cubicBezTo>
                <a:cubicBezTo>
                  <a:pt x="23013" y="9652"/>
                  <a:pt x="23029" y="9657"/>
                  <a:pt x="23050" y="9620"/>
                </a:cubicBezTo>
              </a:path>
              <a:path w="3081" h="1493">
                <a:moveTo>
                  <a:pt x="23336" y="9271"/>
                </a:moveTo>
                <a:cubicBezTo>
                  <a:pt x="23336" y="9336"/>
                  <a:pt x="23319" y="9433"/>
                  <a:pt x="23304" y="9493"/>
                </a:cubicBezTo>
                <a:cubicBezTo>
                  <a:pt x="23272" y="9619"/>
                  <a:pt x="23253" y="9772"/>
                  <a:pt x="23241" y="9906"/>
                </a:cubicBezTo>
                <a:cubicBezTo>
                  <a:pt x="23222" y="10131"/>
                  <a:pt x="23244" y="10356"/>
                  <a:pt x="23209" y="10573"/>
                </a:cubicBezTo>
                <a:cubicBezTo>
                  <a:pt x="23203" y="10611"/>
                  <a:pt x="23209" y="10660"/>
                  <a:pt x="23209" y="10700"/>
                </a:cubicBezTo>
              </a:path>
              <a:path w="3081" h="1493">
                <a:moveTo>
                  <a:pt x="23590" y="9366"/>
                </a:moveTo>
                <a:lnTo>
                  <a:pt x="23590" y="9366"/>
                </a:lnTo>
              </a:path>
              <a:path w="3081" h="1493">
                <a:moveTo>
                  <a:pt x="23590" y="9366"/>
                </a:moveTo>
                <a:cubicBezTo>
                  <a:pt x="23590" y="9377"/>
                  <a:pt x="23590" y="9387"/>
                  <a:pt x="23590" y="9398"/>
                </a:cubicBezTo>
              </a:path>
              <a:path w="3081" h="1493">
                <a:moveTo>
                  <a:pt x="23590" y="9398"/>
                </a:moveTo>
                <a:cubicBezTo>
                  <a:pt x="23561" y="9533"/>
                  <a:pt x="23513" y="9674"/>
                  <a:pt x="23495" y="9811"/>
                </a:cubicBezTo>
                <a:cubicBezTo>
                  <a:pt x="23474" y="9970"/>
                  <a:pt x="23463" y="10124"/>
                  <a:pt x="23463" y="10287"/>
                </a:cubicBezTo>
                <a:cubicBezTo>
                  <a:pt x="23463" y="10402"/>
                  <a:pt x="23484" y="10532"/>
                  <a:pt x="23527" y="10636"/>
                </a:cubicBezTo>
                <a:cubicBezTo>
                  <a:pt x="23540" y="10667"/>
                  <a:pt x="23604" y="10754"/>
                  <a:pt x="23654" y="10732"/>
                </a:cubicBezTo>
                <a:cubicBezTo>
                  <a:pt x="23735" y="10696"/>
                  <a:pt x="23780" y="10623"/>
                  <a:pt x="23812" y="10541"/>
                </a:cubicBezTo>
                <a:cubicBezTo>
                  <a:pt x="23861" y="10415"/>
                  <a:pt x="23902" y="10293"/>
                  <a:pt x="23908" y="10160"/>
                </a:cubicBezTo>
                <a:cubicBezTo>
                  <a:pt x="23911" y="10093"/>
                  <a:pt x="23931" y="10019"/>
                  <a:pt x="23876" y="10001"/>
                </a:cubicBezTo>
                <a:cubicBezTo>
                  <a:pt x="23841" y="10070"/>
                  <a:pt x="23795" y="10166"/>
                  <a:pt x="23749" y="10255"/>
                </a:cubicBezTo>
                <a:cubicBezTo>
                  <a:pt x="23678" y="10393"/>
                  <a:pt x="23617" y="10543"/>
                  <a:pt x="23590" y="10700"/>
                </a:cubicBezTo>
                <a:cubicBezTo>
                  <a:pt x="23590" y="10721"/>
                  <a:pt x="23590" y="10742"/>
                  <a:pt x="23590" y="10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5"/>
          <p:cNvSpPr/>
          <p:nvPr/>
        </p:nvSpPr>
        <p:spPr>
          <a:xfrm>
            <a:off x="6594480" y="4035600"/>
            <a:ext cx="674640" cy="502920"/>
          </a:xfrm>
          <a:custGeom>
            <a:avLst/>
            <a:gdLst/>
            <a:ahLst/>
            <a:rect l="l" t="t" r="r" b="b"/>
            <a:pathLst>
              <a:path w="1874" h="1398">
                <a:moveTo>
                  <a:pt x="18320" y="11938"/>
                </a:moveTo>
                <a:cubicBezTo>
                  <a:pt x="18372" y="11925"/>
                  <a:pt x="18430" y="11884"/>
                  <a:pt x="18478" y="11874"/>
                </a:cubicBezTo>
                <a:cubicBezTo>
                  <a:pt x="18553" y="11859"/>
                  <a:pt x="18627" y="11824"/>
                  <a:pt x="18701" y="11811"/>
                </a:cubicBezTo>
                <a:cubicBezTo>
                  <a:pt x="18769" y="11799"/>
                  <a:pt x="18841" y="11805"/>
                  <a:pt x="18891" y="11843"/>
                </a:cubicBezTo>
              </a:path>
              <a:path w="1874" h="1398">
                <a:moveTo>
                  <a:pt x="19177" y="11271"/>
                </a:moveTo>
                <a:cubicBezTo>
                  <a:pt x="19177" y="11394"/>
                  <a:pt x="19163" y="11505"/>
                  <a:pt x="19145" y="11620"/>
                </a:cubicBezTo>
                <a:cubicBezTo>
                  <a:pt x="19132" y="11700"/>
                  <a:pt x="19120" y="11768"/>
                  <a:pt x="19114" y="11843"/>
                </a:cubicBezTo>
                <a:cubicBezTo>
                  <a:pt x="19108" y="11913"/>
                  <a:pt x="19054" y="11917"/>
                  <a:pt x="19082" y="11906"/>
                </a:cubicBezTo>
                <a:cubicBezTo>
                  <a:pt x="19160" y="11875"/>
                  <a:pt x="19275" y="11918"/>
                  <a:pt x="19336" y="11938"/>
                </a:cubicBezTo>
                <a:cubicBezTo>
                  <a:pt x="19378" y="11952"/>
                  <a:pt x="19424" y="11957"/>
                  <a:pt x="19463" y="11970"/>
                </a:cubicBezTo>
                <a:cubicBezTo>
                  <a:pt x="19508" y="11985"/>
                  <a:pt x="19527" y="11961"/>
                  <a:pt x="19558" y="11938"/>
                </a:cubicBezTo>
              </a:path>
              <a:path w="1874" h="1398">
                <a:moveTo>
                  <a:pt x="19590" y="11271"/>
                </a:moveTo>
                <a:cubicBezTo>
                  <a:pt x="19535" y="11289"/>
                  <a:pt x="19558" y="11359"/>
                  <a:pt x="19558" y="11430"/>
                </a:cubicBezTo>
                <a:cubicBezTo>
                  <a:pt x="19558" y="11580"/>
                  <a:pt x="19526" y="11721"/>
                  <a:pt x="19526" y="11874"/>
                </a:cubicBezTo>
                <a:cubicBezTo>
                  <a:pt x="19526" y="12053"/>
                  <a:pt x="19466" y="12390"/>
                  <a:pt x="19558" y="12541"/>
                </a:cubicBezTo>
              </a:path>
              <a:path w="1874" h="1398">
                <a:moveTo>
                  <a:pt x="19812" y="11208"/>
                </a:moveTo>
                <a:cubicBezTo>
                  <a:pt x="19883" y="11232"/>
                  <a:pt x="19833" y="11331"/>
                  <a:pt x="19812" y="11398"/>
                </a:cubicBezTo>
                <a:cubicBezTo>
                  <a:pt x="19773" y="11524"/>
                  <a:pt x="19734" y="11679"/>
                  <a:pt x="19717" y="11811"/>
                </a:cubicBezTo>
                <a:cubicBezTo>
                  <a:pt x="19693" y="11995"/>
                  <a:pt x="19709" y="12208"/>
                  <a:pt x="19748" y="12382"/>
                </a:cubicBezTo>
                <a:cubicBezTo>
                  <a:pt x="19756" y="12419"/>
                  <a:pt x="19788" y="12494"/>
                  <a:pt x="19844" y="12478"/>
                </a:cubicBezTo>
                <a:cubicBezTo>
                  <a:pt x="19902" y="12461"/>
                  <a:pt x="19968" y="12436"/>
                  <a:pt x="20002" y="12382"/>
                </a:cubicBezTo>
                <a:cubicBezTo>
                  <a:pt x="20047" y="12312"/>
                  <a:pt x="20088" y="12230"/>
                  <a:pt x="20130" y="12160"/>
                </a:cubicBezTo>
                <a:cubicBezTo>
                  <a:pt x="20175" y="12085"/>
                  <a:pt x="20188" y="11961"/>
                  <a:pt x="20193" y="11874"/>
                </a:cubicBezTo>
                <a:cubicBezTo>
                  <a:pt x="20197" y="11806"/>
                  <a:pt x="20206" y="11756"/>
                  <a:pt x="20130" y="11748"/>
                </a:cubicBezTo>
                <a:cubicBezTo>
                  <a:pt x="20095" y="11744"/>
                  <a:pt x="20016" y="11734"/>
                  <a:pt x="20002" y="11779"/>
                </a:cubicBezTo>
                <a:cubicBezTo>
                  <a:pt x="19981" y="11846"/>
                  <a:pt x="19951" y="11929"/>
                  <a:pt x="19939" y="12002"/>
                </a:cubicBezTo>
                <a:cubicBezTo>
                  <a:pt x="19923" y="12097"/>
                  <a:pt x="19960" y="12171"/>
                  <a:pt x="19971" y="12256"/>
                </a:cubicBezTo>
                <a:cubicBezTo>
                  <a:pt x="19984" y="12358"/>
                  <a:pt x="20010" y="12452"/>
                  <a:pt x="20034" y="12541"/>
                </a:cubicBezTo>
                <a:cubicBezTo>
                  <a:pt x="20034" y="12573"/>
                  <a:pt x="20034" y="12584"/>
                  <a:pt x="20034" y="12605"/>
                </a:cubicBezTo>
              </a:path>
              <a:path w="1874" h="1398">
                <a:moveTo>
                  <a:pt x="19653" y="11271"/>
                </a:moveTo>
                <a:cubicBezTo>
                  <a:pt x="19636" y="11358"/>
                  <a:pt x="19622" y="11431"/>
                  <a:pt x="19622" y="11525"/>
                </a:cubicBezTo>
                <a:cubicBezTo>
                  <a:pt x="19622" y="11874"/>
                  <a:pt x="19622" y="12224"/>
                  <a:pt x="19622" y="12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6"/>
          <p:cNvSpPr/>
          <p:nvPr/>
        </p:nvSpPr>
        <p:spPr>
          <a:xfrm>
            <a:off x="7715160" y="3886200"/>
            <a:ext cx="1040040" cy="480960"/>
          </a:xfrm>
          <a:custGeom>
            <a:avLst/>
            <a:gdLst/>
            <a:ahLst/>
            <a:rect l="l" t="t" r="r" b="b"/>
            <a:pathLst>
              <a:path w="2890" h="1334">
                <a:moveTo>
                  <a:pt x="21495" y="10890"/>
                </a:moveTo>
                <a:cubicBezTo>
                  <a:pt x="21527" y="10825"/>
                  <a:pt x="21526" y="10914"/>
                  <a:pt x="21526" y="10954"/>
                </a:cubicBezTo>
                <a:cubicBezTo>
                  <a:pt x="21526" y="11180"/>
                  <a:pt x="21523" y="11399"/>
                  <a:pt x="21495" y="11620"/>
                </a:cubicBezTo>
                <a:cubicBezTo>
                  <a:pt x="21477" y="11764"/>
                  <a:pt x="21495" y="11920"/>
                  <a:pt x="21495" y="12065"/>
                </a:cubicBezTo>
                <a:cubicBezTo>
                  <a:pt x="21443" y="12048"/>
                  <a:pt x="21463" y="12003"/>
                  <a:pt x="21463" y="11938"/>
                </a:cubicBezTo>
                <a:cubicBezTo>
                  <a:pt x="21463" y="11833"/>
                  <a:pt x="21467" y="11718"/>
                  <a:pt x="21495" y="11620"/>
                </a:cubicBezTo>
                <a:cubicBezTo>
                  <a:pt x="21516" y="11545"/>
                  <a:pt x="21571" y="11455"/>
                  <a:pt x="21622" y="11398"/>
                </a:cubicBezTo>
                <a:cubicBezTo>
                  <a:pt x="21663" y="11352"/>
                  <a:pt x="21639" y="11350"/>
                  <a:pt x="21685" y="11335"/>
                </a:cubicBezTo>
                <a:cubicBezTo>
                  <a:pt x="21730" y="11367"/>
                  <a:pt x="21796" y="11401"/>
                  <a:pt x="21812" y="11462"/>
                </a:cubicBezTo>
                <a:cubicBezTo>
                  <a:pt x="21834" y="11543"/>
                  <a:pt x="21865" y="11661"/>
                  <a:pt x="21844" y="11748"/>
                </a:cubicBezTo>
                <a:cubicBezTo>
                  <a:pt x="21819" y="11852"/>
                  <a:pt x="21814" y="11971"/>
                  <a:pt x="21749" y="12065"/>
                </a:cubicBezTo>
                <a:cubicBezTo>
                  <a:pt x="21704" y="12131"/>
                  <a:pt x="21663" y="12128"/>
                  <a:pt x="21590" y="12128"/>
                </a:cubicBezTo>
                <a:cubicBezTo>
                  <a:pt x="21532" y="12128"/>
                  <a:pt x="21507" y="12136"/>
                  <a:pt x="21463" y="12097"/>
                </a:cubicBezTo>
                <a:cubicBezTo>
                  <a:pt x="21405" y="12046"/>
                  <a:pt x="21432" y="12022"/>
                  <a:pt x="21463" y="11970"/>
                </a:cubicBezTo>
              </a:path>
              <a:path w="2890" h="1334">
                <a:moveTo>
                  <a:pt x="22130" y="11271"/>
                </a:moveTo>
                <a:cubicBezTo>
                  <a:pt x="22190" y="11271"/>
                  <a:pt x="22240" y="11252"/>
                  <a:pt x="22257" y="11303"/>
                </a:cubicBezTo>
              </a:path>
              <a:path w="2890" h="1334">
                <a:moveTo>
                  <a:pt x="22130" y="11652"/>
                </a:moveTo>
                <a:cubicBezTo>
                  <a:pt x="22119" y="11652"/>
                  <a:pt x="22109" y="11652"/>
                  <a:pt x="22098" y="11652"/>
                </a:cubicBezTo>
                <a:cubicBezTo>
                  <a:pt x="22164" y="11652"/>
                  <a:pt x="22191" y="11630"/>
                  <a:pt x="22257" y="11620"/>
                </a:cubicBezTo>
              </a:path>
              <a:path w="2890" h="1334">
                <a:moveTo>
                  <a:pt x="22638" y="11208"/>
                </a:moveTo>
                <a:cubicBezTo>
                  <a:pt x="22648" y="11157"/>
                  <a:pt x="22675" y="11088"/>
                  <a:pt x="22701" y="11049"/>
                </a:cubicBezTo>
                <a:cubicBezTo>
                  <a:pt x="22723" y="11015"/>
                  <a:pt x="22791" y="10990"/>
                  <a:pt x="22828" y="10986"/>
                </a:cubicBezTo>
                <a:cubicBezTo>
                  <a:pt x="22885" y="10980"/>
                  <a:pt x="22907" y="11025"/>
                  <a:pt x="22924" y="11049"/>
                </a:cubicBezTo>
                <a:cubicBezTo>
                  <a:pt x="22971" y="11113"/>
                  <a:pt x="22949" y="11197"/>
                  <a:pt x="22924" y="11271"/>
                </a:cubicBezTo>
                <a:cubicBezTo>
                  <a:pt x="22891" y="11369"/>
                  <a:pt x="22842" y="11464"/>
                  <a:pt x="22796" y="11557"/>
                </a:cubicBezTo>
                <a:cubicBezTo>
                  <a:pt x="22766" y="11617"/>
                  <a:pt x="22720" y="11691"/>
                  <a:pt x="22701" y="11748"/>
                </a:cubicBezTo>
                <a:cubicBezTo>
                  <a:pt x="22687" y="11789"/>
                  <a:pt x="22696" y="11833"/>
                  <a:pt x="22670" y="11779"/>
                </a:cubicBezTo>
                <a:cubicBezTo>
                  <a:pt x="22740" y="11779"/>
                  <a:pt x="22713" y="11754"/>
                  <a:pt x="22765" y="11748"/>
                </a:cubicBezTo>
                <a:cubicBezTo>
                  <a:pt x="22817" y="11742"/>
                  <a:pt x="22834" y="11716"/>
                  <a:pt x="22892" y="11716"/>
                </a:cubicBezTo>
                <a:cubicBezTo>
                  <a:pt x="22955" y="11716"/>
                  <a:pt x="23019" y="11716"/>
                  <a:pt x="23082" y="11716"/>
                </a:cubicBezTo>
              </a:path>
              <a:path w="2890" h="1334">
                <a:moveTo>
                  <a:pt x="23241" y="11049"/>
                </a:moveTo>
                <a:cubicBezTo>
                  <a:pt x="23241" y="11144"/>
                  <a:pt x="23225" y="11225"/>
                  <a:pt x="23209" y="11303"/>
                </a:cubicBezTo>
                <a:cubicBezTo>
                  <a:pt x="23198" y="11359"/>
                  <a:pt x="23153" y="11411"/>
                  <a:pt x="23178" y="11462"/>
                </a:cubicBezTo>
                <a:cubicBezTo>
                  <a:pt x="23209" y="11462"/>
                  <a:pt x="23220" y="11462"/>
                  <a:pt x="23209" y="11494"/>
                </a:cubicBezTo>
                <a:cubicBezTo>
                  <a:pt x="23256" y="11459"/>
                  <a:pt x="23272" y="11454"/>
                  <a:pt x="23304" y="11430"/>
                </a:cubicBezTo>
                <a:cubicBezTo>
                  <a:pt x="23342" y="11402"/>
                  <a:pt x="23355" y="11379"/>
                  <a:pt x="23400" y="11366"/>
                </a:cubicBezTo>
                <a:cubicBezTo>
                  <a:pt x="23452" y="11352"/>
                  <a:pt x="23535" y="11366"/>
                  <a:pt x="23590" y="11366"/>
                </a:cubicBezTo>
              </a:path>
              <a:path w="2890" h="1334">
                <a:moveTo>
                  <a:pt x="23558" y="10890"/>
                </a:moveTo>
                <a:cubicBezTo>
                  <a:pt x="23558" y="10995"/>
                  <a:pt x="23531" y="11073"/>
                  <a:pt x="23527" y="11176"/>
                </a:cubicBezTo>
                <a:cubicBezTo>
                  <a:pt x="23522" y="11307"/>
                  <a:pt x="23495" y="11423"/>
                  <a:pt x="23495" y="11557"/>
                </a:cubicBezTo>
                <a:cubicBezTo>
                  <a:pt x="23495" y="11668"/>
                  <a:pt x="23496" y="11751"/>
                  <a:pt x="23527" y="11843"/>
                </a:cubicBezTo>
                <a:cubicBezTo>
                  <a:pt x="23527" y="11853"/>
                  <a:pt x="23527" y="11864"/>
                  <a:pt x="23527" y="11874"/>
                </a:cubicBezTo>
              </a:path>
              <a:path w="2890" h="1334">
                <a:moveTo>
                  <a:pt x="23908" y="10795"/>
                </a:moveTo>
                <a:cubicBezTo>
                  <a:pt x="23908" y="10878"/>
                  <a:pt x="23902" y="10939"/>
                  <a:pt x="23876" y="11017"/>
                </a:cubicBezTo>
                <a:cubicBezTo>
                  <a:pt x="23838" y="11128"/>
                  <a:pt x="23822" y="11280"/>
                  <a:pt x="23844" y="11398"/>
                </a:cubicBezTo>
                <a:cubicBezTo>
                  <a:pt x="23863" y="11498"/>
                  <a:pt x="23865" y="11585"/>
                  <a:pt x="23971" y="11620"/>
                </a:cubicBezTo>
                <a:cubicBezTo>
                  <a:pt x="24041" y="11643"/>
                  <a:pt x="24124" y="11532"/>
                  <a:pt x="24162" y="11494"/>
                </a:cubicBezTo>
                <a:cubicBezTo>
                  <a:pt x="24250" y="11406"/>
                  <a:pt x="24261" y="11319"/>
                  <a:pt x="24289" y="11208"/>
                </a:cubicBezTo>
                <a:cubicBezTo>
                  <a:pt x="24309" y="11130"/>
                  <a:pt x="24348" y="10960"/>
                  <a:pt x="24289" y="10890"/>
                </a:cubicBezTo>
                <a:cubicBezTo>
                  <a:pt x="24229" y="10819"/>
                  <a:pt x="24170" y="10824"/>
                  <a:pt x="24098" y="10858"/>
                </a:cubicBezTo>
                <a:cubicBezTo>
                  <a:pt x="24077" y="10869"/>
                  <a:pt x="24056" y="10879"/>
                  <a:pt x="24035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7"/>
          <p:cNvSpPr/>
          <p:nvPr/>
        </p:nvSpPr>
        <p:spPr>
          <a:xfrm>
            <a:off x="639720" y="4297320"/>
            <a:ext cx="595440" cy="1967040"/>
          </a:xfrm>
          <a:custGeom>
            <a:avLst/>
            <a:gdLst/>
            <a:ahLst/>
            <a:rect l="l" t="t" r="r" b="b"/>
            <a:pathLst>
              <a:path w="1652" h="5462">
                <a:moveTo>
                  <a:pt x="1937" y="13652"/>
                </a:moveTo>
                <a:cubicBezTo>
                  <a:pt x="1863" y="13652"/>
                  <a:pt x="1852" y="13652"/>
                  <a:pt x="1810" y="13652"/>
                </a:cubicBezTo>
                <a:cubicBezTo>
                  <a:pt x="1819" y="13721"/>
                  <a:pt x="1826" y="13783"/>
                  <a:pt x="1873" y="13843"/>
                </a:cubicBezTo>
                <a:cubicBezTo>
                  <a:pt x="1973" y="13971"/>
                  <a:pt x="2081" y="14104"/>
                  <a:pt x="2191" y="14224"/>
                </a:cubicBezTo>
                <a:cubicBezTo>
                  <a:pt x="2376" y="14426"/>
                  <a:pt x="2481" y="14666"/>
                  <a:pt x="2635" y="14891"/>
                </a:cubicBezTo>
                <a:cubicBezTo>
                  <a:pt x="2794" y="15123"/>
                  <a:pt x="2918" y="15368"/>
                  <a:pt x="3048" y="15621"/>
                </a:cubicBezTo>
                <a:cubicBezTo>
                  <a:pt x="3112" y="15746"/>
                  <a:pt x="3190" y="15865"/>
                  <a:pt x="3207" y="16002"/>
                </a:cubicBezTo>
              </a:path>
              <a:path w="1652" h="5462">
                <a:moveTo>
                  <a:pt x="1842" y="15240"/>
                </a:moveTo>
                <a:cubicBezTo>
                  <a:pt x="1794" y="15288"/>
                  <a:pt x="1759" y="15207"/>
                  <a:pt x="1842" y="15367"/>
                </a:cubicBezTo>
                <a:cubicBezTo>
                  <a:pt x="1939" y="15554"/>
                  <a:pt x="2048" y="15726"/>
                  <a:pt x="2159" y="15907"/>
                </a:cubicBezTo>
                <a:cubicBezTo>
                  <a:pt x="2307" y="16149"/>
                  <a:pt x="2472" y="16374"/>
                  <a:pt x="2635" y="16605"/>
                </a:cubicBezTo>
                <a:cubicBezTo>
                  <a:pt x="2829" y="16879"/>
                  <a:pt x="3024" y="17140"/>
                  <a:pt x="3238" y="17399"/>
                </a:cubicBezTo>
              </a:path>
              <a:path w="1652" h="5462">
                <a:moveTo>
                  <a:pt x="1842" y="13272"/>
                </a:moveTo>
                <a:cubicBezTo>
                  <a:pt x="1745" y="13351"/>
                  <a:pt x="1804" y="13277"/>
                  <a:pt x="1778" y="13367"/>
                </a:cubicBezTo>
                <a:cubicBezTo>
                  <a:pt x="1827" y="13432"/>
                  <a:pt x="1877" y="13509"/>
                  <a:pt x="1937" y="13557"/>
                </a:cubicBezTo>
                <a:cubicBezTo>
                  <a:pt x="2042" y="13641"/>
                  <a:pt x="2222" y="13711"/>
                  <a:pt x="2350" y="13716"/>
                </a:cubicBezTo>
                <a:cubicBezTo>
                  <a:pt x="2483" y="13721"/>
                  <a:pt x="2604" y="13722"/>
                  <a:pt x="2730" y="13684"/>
                </a:cubicBezTo>
                <a:cubicBezTo>
                  <a:pt x="2891" y="13636"/>
                  <a:pt x="2973" y="13546"/>
                  <a:pt x="3080" y="13430"/>
                </a:cubicBezTo>
                <a:cubicBezTo>
                  <a:pt x="3205" y="13294"/>
                  <a:pt x="3305" y="13155"/>
                  <a:pt x="3366" y="12986"/>
                </a:cubicBezTo>
                <a:cubicBezTo>
                  <a:pt x="3416" y="12847"/>
                  <a:pt x="3454" y="12690"/>
                  <a:pt x="3429" y="12541"/>
                </a:cubicBezTo>
                <a:cubicBezTo>
                  <a:pt x="3404" y="12394"/>
                  <a:pt x="3289" y="12249"/>
                  <a:pt x="3175" y="12160"/>
                </a:cubicBezTo>
                <a:cubicBezTo>
                  <a:pt x="3057" y="12067"/>
                  <a:pt x="2969" y="12018"/>
                  <a:pt x="2826" y="11970"/>
                </a:cubicBezTo>
                <a:cubicBezTo>
                  <a:pt x="2684" y="11923"/>
                  <a:pt x="2556" y="11929"/>
                  <a:pt x="2413" y="11970"/>
                </a:cubicBezTo>
                <a:cubicBezTo>
                  <a:pt x="2276" y="12009"/>
                  <a:pt x="2165" y="12095"/>
                  <a:pt x="2064" y="12192"/>
                </a:cubicBezTo>
                <a:cubicBezTo>
                  <a:pt x="1927" y="12323"/>
                  <a:pt x="1888" y="12425"/>
                  <a:pt x="1842" y="12605"/>
                </a:cubicBezTo>
                <a:cubicBezTo>
                  <a:pt x="1798" y="12777"/>
                  <a:pt x="1775" y="12903"/>
                  <a:pt x="1810" y="13081"/>
                </a:cubicBezTo>
                <a:cubicBezTo>
                  <a:pt x="1840" y="13237"/>
                  <a:pt x="1901" y="13400"/>
                  <a:pt x="2000" y="13526"/>
                </a:cubicBezTo>
                <a:cubicBezTo>
                  <a:pt x="2070" y="13595"/>
                  <a:pt x="2096" y="13622"/>
                  <a:pt x="2127" y="13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8"/>
          <p:cNvSpPr/>
          <p:nvPr/>
        </p:nvSpPr>
        <p:spPr>
          <a:xfrm>
            <a:off x="4297320" y="4560840"/>
            <a:ext cx="3029040" cy="708120"/>
          </a:xfrm>
          <a:custGeom>
            <a:avLst/>
            <a:gdLst/>
            <a:ahLst/>
            <a:rect l="l" t="t" r="r" b="b"/>
            <a:pathLst>
              <a:path w="8415" h="1970">
                <a:moveTo>
                  <a:pt x="12510" y="13272"/>
                </a:moveTo>
                <a:lnTo>
                  <a:pt x="12510" y="13272"/>
                </a:lnTo>
              </a:path>
              <a:path w="8415" h="1970">
                <a:moveTo>
                  <a:pt x="12510" y="13272"/>
                </a:moveTo>
                <a:cubicBezTo>
                  <a:pt x="12499" y="13272"/>
                  <a:pt x="12489" y="13272"/>
                  <a:pt x="12478" y="13272"/>
                </a:cubicBezTo>
              </a:path>
              <a:path w="8415" h="1970">
                <a:moveTo>
                  <a:pt x="12478" y="13272"/>
                </a:moveTo>
                <a:cubicBezTo>
                  <a:pt x="12414" y="13280"/>
                  <a:pt x="12406" y="13274"/>
                  <a:pt x="12351" y="13303"/>
                </a:cubicBezTo>
                <a:cubicBezTo>
                  <a:pt x="12296" y="13332"/>
                  <a:pt x="12229" y="13318"/>
                  <a:pt x="12192" y="13367"/>
                </a:cubicBezTo>
                <a:cubicBezTo>
                  <a:pt x="12142" y="13433"/>
                  <a:pt x="12077" y="13547"/>
                  <a:pt x="12033" y="13621"/>
                </a:cubicBezTo>
                <a:cubicBezTo>
                  <a:pt x="11977" y="13714"/>
                  <a:pt x="11944" y="13832"/>
                  <a:pt x="11938" y="13938"/>
                </a:cubicBezTo>
                <a:cubicBezTo>
                  <a:pt x="11931" y="14070"/>
                  <a:pt x="11916" y="14232"/>
                  <a:pt x="11970" y="14351"/>
                </a:cubicBezTo>
                <a:cubicBezTo>
                  <a:pt x="12020" y="14461"/>
                  <a:pt x="12004" y="14495"/>
                  <a:pt x="12097" y="14573"/>
                </a:cubicBezTo>
                <a:cubicBezTo>
                  <a:pt x="12163" y="14628"/>
                  <a:pt x="12166" y="14632"/>
                  <a:pt x="12256" y="14637"/>
                </a:cubicBezTo>
                <a:cubicBezTo>
                  <a:pt x="12340" y="14641"/>
                  <a:pt x="12383" y="14631"/>
                  <a:pt x="12446" y="14573"/>
                </a:cubicBezTo>
                <a:cubicBezTo>
                  <a:pt x="12537" y="14489"/>
                  <a:pt x="12558" y="14398"/>
                  <a:pt x="12605" y="14288"/>
                </a:cubicBezTo>
                <a:cubicBezTo>
                  <a:pt x="12656" y="14168"/>
                  <a:pt x="12695" y="14068"/>
                  <a:pt x="12700" y="13938"/>
                </a:cubicBezTo>
                <a:cubicBezTo>
                  <a:pt x="12704" y="13822"/>
                  <a:pt x="12685" y="13728"/>
                  <a:pt x="12668" y="13621"/>
                </a:cubicBezTo>
                <a:cubicBezTo>
                  <a:pt x="12651" y="13512"/>
                  <a:pt x="12613" y="13458"/>
                  <a:pt x="12541" y="13367"/>
                </a:cubicBezTo>
                <a:cubicBezTo>
                  <a:pt x="12508" y="13325"/>
                  <a:pt x="12430" y="13253"/>
                  <a:pt x="12382" y="13240"/>
                </a:cubicBezTo>
                <a:cubicBezTo>
                  <a:pt x="12337" y="13228"/>
                  <a:pt x="12271" y="13240"/>
                  <a:pt x="12224" y="13240"/>
                </a:cubicBezTo>
              </a:path>
              <a:path w="8415" h="1970">
                <a:moveTo>
                  <a:pt x="12859" y="13652"/>
                </a:moveTo>
                <a:cubicBezTo>
                  <a:pt x="12997" y="13652"/>
                  <a:pt x="13134" y="13652"/>
                  <a:pt x="13272" y="13652"/>
                </a:cubicBezTo>
              </a:path>
              <a:path w="8415" h="1970">
                <a:moveTo>
                  <a:pt x="12859" y="14002"/>
                </a:moveTo>
                <a:cubicBezTo>
                  <a:pt x="12980" y="14002"/>
                  <a:pt x="13179" y="13964"/>
                  <a:pt x="13272" y="14034"/>
                </a:cubicBezTo>
              </a:path>
              <a:path w="8415" h="1970">
                <a:moveTo>
                  <a:pt x="13367" y="13303"/>
                </a:moveTo>
                <a:cubicBezTo>
                  <a:pt x="13356" y="13303"/>
                  <a:pt x="13346" y="13303"/>
                  <a:pt x="13335" y="13303"/>
                </a:cubicBezTo>
                <a:cubicBezTo>
                  <a:pt x="13399" y="13303"/>
                  <a:pt x="13410" y="13318"/>
                  <a:pt x="13462" y="13335"/>
                </a:cubicBezTo>
                <a:cubicBezTo>
                  <a:pt x="13514" y="13352"/>
                  <a:pt x="13598" y="13353"/>
                  <a:pt x="13652" y="13367"/>
                </a:cubicBezTo>
                <a:cubicBezTo>
                  <a:pt x="13700" y="13379"/>
                  <a:pt x="13713" y="13361"/>
                  <a:pt x="13748" y="13335"/>
                </a:cubicBezTo>
              </a:path>
              <a:path w="8415" h="1970">
                <a:moveTo>
                  <a:pt x="14129" y="12795"/>
                </a:moveTo>
                <a:cubicBezTo>
                  <a:pt x="14118" y="12795"/>
                  <a:pt x="14108" y="12795"/>
                  <a:pt x="14097" y="12795"/>
                </a:cubicBezTo>
              </a:path>
              <a:path w="8415" h="1970">
                <a:moveTo>
                  <a:pt x="14129" y="12795"/>
                </a:moveTo>
                <a:cubicBezTo>
                  <a:pt x="14129" y="12816"/>
                  <a:pt x="14129" y="12838"/>
                  <a:pt x="14129" y="12859"/>
                </a:cubicBezTo>
              </a:path>
              <a:path w="8415" h="1970">
                <a:moveTo>
                  <a:pt x="14129" y="12922"/>
                </a:moveTo>
                <a:cubicBezTo>
                  <a:pt x="14089" y="13029"/>
                  <a:pt x="14097" y="13123"/>
                  <a:pt x="14097" y="13240"/>
                </a:cubicBezTo>
                <a:cubicBezTo>
                  <a:pt x="14097" y="13578"/>
                  <a:pt x="14117" y="13930"/>
                  <a:pt x="14065" y="14256"/>
                </a:cubicBezTo>
                <a:cubicBezTo>
                  <a:pt x="14065" y="14277"/>
                  <a:pt x="14065" y="14298"/>
                  <a:pt x="14065" y="14319"/>
                </a:cubicBezTo>
              </a:path>
              <a:path w="8415" h="1970">
                <a:moveTo>
                  <a:pt x="14446" y="12890"/>
                </a:moveTo>
                <a:cubicBezTo>
                  <a:pt x="14446" y="12997"/>
                  <a:pt x="14398" y="13073"/>
                  <a:pt x="14383" y="13176"/>
                </a:cubicBezTo>
                <a:cubicBezTo>
                  <a:pt x="14361" y="13325"/>
                  <a:pt x="14351" y="13467"/>
                  <a:pt x="14351" y="13621"/>
                </a:cubicBezTo>
                <a:cubicBezTo>
                  <a:pt x="14351" y="13777"/>
                  <a:pt x="14323" y="13954"/>
                  <a:pt x="14383" y="14097"/>
                </a:cubicBezTo>
                <a:cubicBezTo>
                  <a:pt x="14403" y="14144"/>
                  <a:pt x="14459" y="14233"/>
                  <a:pt x="14510" y="14256"/>
                </a:cubicBezTo>
                <a:cubicBezTo>
                  <a:pt x="14560" y="14278"/>
                  <a:pt x="14613" y="14230"/>
                  <a:pt x="14637" y="14192"/>
                </a:cubicBezTo>
                <a:cubicBezTo>
                  <a:pt x="14696" y="14100"/>
                  <a:pt x="14779" y="13951"/>
                  <a:pt x="14796" y="13843"/>
                </a:cubicBezTo>
                <a:cubicBezTo>
                  <a:pt x="14809" y="13756"/>
                  <a:pt x="14824" y="13592"/>
                  <a:pt x="14764" y="13526"/>
                </a:cubicBezTo>
                <a:cubicBezTo>
                  <a:pt x="14753" y="13515"/>
                  <a:pt x="14743" y="13505"/>
                  <a:pt x="14732" y="13494"/>
                </a:cubicBezTo>
                <a:cubicBezTo>
                  <a:pt x="14672" y="13553"/>
                  <a:pt x="14643" y="13608"/>
                  <a:pt x="14605" y="13684"/>
                </a:cubicBezTo>
                <a:cubicBezTo>
                  <a:pt x="14551" y="13791"/>
                  <a:pt x="14552" y="13894"/>
                  <a:pt x="14510" y="14002"/>
                </a:cubicBezTo>
                <a:cubicBezTo>
                  <a:pt x="14473" y="14099"/>
                  <a:pt x="14478" y="14184"/>
                  <a:pt x="14478" y="14288"/>
                </a:cubicBezTo>
                <a:cubicBezTo>
                  <a:pt x="14478" y="14319"/>
                  <a:pt x="14478" y="14330"/>
                  <a:pt x="14478" y="14351"/>
                </a:cubicBezTo>
              </a:path>
              <a:path w="8415" h="1970">
                <a:moveTo>
                  <a:pt x="14986" y="12764"/>
                </a:moveTo>
                <a:cubicBezTo>
                  <a:pt x="14986" y="13074"/>
                  <a:pt x="14988" y="13379"/>
                  <a:pt x="15018" y="13684"/>
                </a:cubicBezTo>
                <a:cubicBezTo>
                  <a:pt x="15031" y="13821"/>
                  <a:pt x="15014" y="13965"/>
                  <a:pt x="15050" y="14097"/>
                </a:cubicBezTo>
                <a:cubicBezTo>
                  <a:pt x="15066" y="14157"/>
                  <a:pt x="15117" y="14217"/>
                  <a:pt x="15176" y="14224"/>
                </a:cubicBezTo>
                <a:cubicBezTo>
                  <a:pt x="15241" y="14231"/>
                  <a:pt x="15253" y="14209"/>
                  <a:pt x="15304" y="14192"/>
                </a:cubicBezTo>
                <a:cubicBezTo>
                  <a:pt x="15353" y="14175"/>
                  <a:pt x="15395" y="14158"/>
                  <a:pt x="15399" y="14097"/>
                </a:cubicBezTo>
                <a:cubicBezTo>
                  <a:pt x="15399" y="14044"/>
                  <a:pt x="15399" y="14034"/>
                  <a:pt x="15399" y="14002"/>
                </a:cubicBezTo>
              </a:path>
              <a:path w="8415" h="1970">
                <a:moveTo>
                  <a:pt x="14859" y="13557"/>
                </a:moveTo>
                <a:cubicBezTo>
                  <a:pt x="14943" y="13557"/>
                  <a:pt x="15012" y="13539"/>
                  <a:pt x="15081" y="13526"/>
                </a:cubicBezTo>
                <a:cubicBezTo>
                  <a:pt x="15102" y="13526"/>
                  <a:pt x="15124" y="13526"/>
                  <a:pt x="15145" y="13526"/>
                </a:cubicBezTo>
              </a:path>
              <a:path w="8415" h="1970">
                <a:moveTo>
                  <a:pt x="15304" y="12922"/>
                </a:moveTo>
                <a:cubicBezTo>
                  <a:pt x="15304" y="12838"/>
                  <a:pt x="15308" y="12822"/>
                  <a:pt x="15367" y="12764"/>
                </a:cubicBezTo>
                <a:cubicBezTo>
                  <a:pt x="15392" y="12739"/>
                  <a:pt x="15460" y="12683"/>
                  <a:pt x="15494" y="12668"/>
                </a:cubicBezTo>
                <a:cubicBezTo>
                  <a:pt x="15515" y="12659"/>
                  <a:pt x="15566" y="12668"/>
                  <a:pt x="15589" y="12668"/>
                </a:cubicBezTo>
                <a:cubicBezTo>
                  <a:pt x="15589" y="12769"/>
                  <a:pt x="15595" y="12857"/>
                  <a:pt x="15558" y="12954"/>
                </a:cubicBezTo>
                <a:cubicBezTo>
                  <a:pt x="15525" y="13041"/>
                  <a:pt x="15483" y="13148"/>
                  <a:pt x="15462" y="13240"/>
                </a:cubicBezTo>
                <a:cubicBezTo>
                  <a:pt x="15450" y="13295"/>
                  <a:pt x="15442" y="13318"/>
                  <a:pt x="15430" y="13367"/>
                </a:cubicBezTo>
                <a:cubicBezTo>
                  <a:pt x="15511" y="13367"/>
                  <a:pt x="15491" y="13415"/>
                  <a:pt x="15558" y="13430"/>
                </a:cubicBezTo>
                <a:cubicBezTo>
                  <a:pt x="15596" y="13438"/>
                  <a:pt x="15645" y="13430"/>
                  <a:pt x="15684" y="13430"/>
                </a:cubicBezTo>
              </a:path>
              <a:path w="8415" h="1970">
                <a:moveTo>
                  <a:pt x="16066" y="13018"/>
                </a:moveTo>
                <a:cubicBezTo>
                  <a:pt x="16066" y="13244"/>
                  <a:pt x="16075" y="13462"/>
                  <a:pt x="16097" y="13684"/>
                </a:cubicBezTo>
                <a:cubicBezTo>
                  <a:pt x="16110" y="13819"/>
                  <a:pt x="16097" y="13961"/>
                  <a:pt x="16097" y="14097"/>
                </a:cubicBezTo>
              </a:path>
              <a:path w="8415" h="1970">
                <a:moveTo>
                  <a:pt x="15938" y="13589"/>
                </a:moveTo>
                <a:cubicBezTo>
                  <a:pt x="16003" y="13589"/>
                  <a:pt x="16013" y="13575"/>
                  <a:pt x="16066" y="13557"/>
                </a:cubicBezTo>
                <a:cubicBezTo>
                  <a:pt x="16126" y="13537"/>
                  <a:pt x="16175" y="13531"/>
                  <a:pt x="16224" y="13494"/>
                </a:cubicBezTo>
              </a:path>
              <a:path w="8415" h="1970">
                <a:moveTo>
                  <a:pt x="16320" y="13049"/>
                </a:moveTo>
                <a:cubicBezTo>
                  <a:pt x="16350" y="13008"/>
                  <a:pt x="16358" y="12960"/>
                  <a:pt x="16383" y="12922"/>
                </a:cubicBezTo>
                <a:cubicBezTo>
                  <a:pt x="16406" y="12888"/>
                  <a:pt x="16473" y="12863"/>
                  <a:pt x="16510" y="12859"/>
                </a:cubicBezTo>
                <a:cubicBezTo>
                  <a:pt x="16553" y="12854"/>
                  <a:pt x="16599" y="12918"/>
                  <a:pt x="16605" y="12954"/>
                </a:cubicBezTo>
                <a:cubicBezTo>
                  <a:pt x="16625" y="13085"/>
                  <a:pt x="16585" y="13208"/>
                  <a:pt x="16574" y="13335"/>
                </a:cubicBezTo>
                <a:cubicBezTo>
                  <a:pt x="16562" y="13478"/>
                  <a:pt x="16546" y="13642"/>
                  <a:pt x="16510" y="13780"/>
                </a:cubicBezTo>
                <a:cubicBezTo>
                  <a:pt x="16500" y="13817"/>
                  <a:pt x="16471" y="13981"/>
                  <a:pt x="16446" y="14002"/>
                </a:cubicBezTo>
                <a:cubicBezTo>
                  <a:pt x="16436" y="14002"/>
                  <a:pt x="16425" y="14002"/>
                  <a:pt x="16415" y="14002"/>
                </a:cubicBezTo>
                <a:cubicBezTo>
                  <a:pt x="16422" y="13981"/>
                  <a:pt x="16443" y="13923"/>
                  <a:pt x="16478" y="13906"/>
                </a:cubicBezTo>
                <a:cubicBezTo>
                  <a:pt x="16528" y="13881"/>
                  <a:pt x="16575" y="13875"/>
                  <a:pt x="16637" y="13875"/>
                </a:cubicBezTo>
                <a:cubicBezTo>
                  <a:pt x="16707" y="13875"/>
                  <a:pt x="16727" y="13906"/>
                  <a:pt x="16796" y="13906"/>
                </a:cubicBezTo>
              </a:path>
              <a:path w="8415" h="1970">
                <a:moveTo>
                  <a:pt x="16891" y="12890"/>
                </a:moveTo>
                <a:cubicBezTo>
                  <a:pt x="16891" y="12985"/>
                  <a:pt x="16872" y="13052"/>
                  <a:pt x="16859" y="13144"/>
                </a:cubicBezTo>
                <a:cubicBezTo>
                  <a:pt x="16836" y="13307"/>
                  <a:pt x="16859" y="13487"/>
                  <a:pt x="16859" y="13652"/>
                </a:cubicBezTo>
                <a:cubicBezTo>
                  <a:pt x="16880" y="13624"/>
                  <a:pt x="16910" y="13564"/>
                  <a:pt x="16923" y="13557"/>
                </a:cubicBezTo>
                <a:cubicBezTo>
                  <a:pt x="16948" y="13544"/>
                  <a:pt x="17015" y="13507"/>
                  <a:pt x="17050" y="13526"/>
                </a:cubicBezTo>
                <a:cubicBezTo>
                  <a:pt x="17099" y="13552"/>
                  <a:pt x="17134" y="13578"/>
                  <a:pt x="17177" y="13621"/>
                </a:cubicBezTo>
                <a:cubicBezTo>
                  <a:pt x="17205" y="13649"/>
                  <a:pt x="17215" y="13664"/>
                  <a:pt x="17208" y="13621"/>
                </a:cubicBezTo>
              </a:path>
              <a:path w="8415" h="1970">
                <a:moveTo>
                  <a:pt x="17240" y="12859"/>
                </a:moveTo>
                <a:cubicBezTo>
                  <a:pt x="17240" y="12952"/>
                  <a:pt x="17212" y="13019"/>
                  <a:pt x="17208" y="13113"/>
                </a:cubicBezTo>
                <a:cubicBezTo>
                  <a:pt x="17201" y="13284"/>
                  <a:pt x="17189" y="13453"/>
                  <a:pt x="17177" y="13621"/>
                </a:cubicBezTo>
                <a:cubicBezTo>
                  <a:pt x="17165" y="13788"/>
                  <a:pt x="17168" y="13981"/>
                  <a:pt x="17208" y="14129"/>
                </a:cubicBezTo>
                <a:cubicBezTo>
                  <a:pt x="17208" y="14139"/>
                  <a:pt x="17208" y="14150"/>
                  <a:pt x="17208" y="14160"/>
                </a:cubicBezTo>
              </a:path>
              <a:path w="8415" h="1970">
                <a:moveTo>
                  <a:pt x="17462" y="13018"/>
                </a:moveTo>
                <a:cubicBezTo>
                  <a:pt x="17444" y="13109"/>
                  <a:pt x="17408" y="13208"/>
                  <a:pt x="17399" y="13303"/>
                </a:cubicBezTo>
                <a:cubicBezTo>
                  <a:pt x="17383" y="13469"/>
                  <a:pt x="17415" y="13619"/>
                  <a:pt x="17431" y="13780"/>
                </a:cubicBezTo>
                <a:cubicBezTo>
                  <a:pt x="17440" y="13871"/>
                  <a:pt x="17446" y="13986"/>
                  <a:pt x="17494" y="14065"/>
                </a:cubicBezTo>
                <a:cubicBezTo>
                  <a:pt x="17523" y="14094"/>
                  <a:pt x="17529" y="14105"/>
                  <a:pt x="17558" y="14097"/>
                </a:cubicBezTo>
                <a:cubicBezTo>
                  <a:pt x="17634" y="14039"/>
                  <a:pt x="17621" y="14032"/>
                  <a:pt x="17653" y="13938"/>
                </a:cubicBezTo>
                <a:cubicBezTo>
                  <a:pt x="17685" y="13842"/>
                  <a:pt x="17724" y="13658"/>
                  <a:pt x="17716" y="13557"/>
                </a:cubicBezTo>
                <a:cubicBezTo>
                  <a:pt x="17707" y="13445"/>
                  <a:pt x="17697" y="13289"/>
                  <a:pt x="17653" y="13176"/>
                </a:cubicBezTo>
                <a:cubicBezTo>
                  <a:pt x="17630" y="13116"/>
                  <a:pt x="17589" y="13056"/>
                  <a:pt x="17526" y="13049"/>
                </a:cubicBezTo>
                <a:cubicBezTo>
                  <a:pt x="17490" y="13049"/>
                  <a:pt x="17476" y="13052"/>
                  <a:pt x="17462" y="13081"/>
                </a:cubicBezTo>
              </a:path>
              <a:path w="8415" h="1970">
                <a:moveTo>
                  <a:pt x="17844" y="12764"/>
                </a:moveTo>
                <a:cubicBezTo>
                  <a:pt x="17900" y="12783"/>
                  <a:pt x="17875" y="12856"/>
                  <a:pt x="17875" y="12922"/>
                </a:cubicBezTo>
                <a:cubicBezTo>
                  <a:pt x="17875" y="13055"/>
                  <a:pt x="17897" y="13176"/>
                  <a:pt x="17907" y="13303"/>
                </a:cubicBezTo>
                <a:cubicBezTo>
                  <a:pt x="17923" y="13497"/>
                  <a:pt x="17913" y="13685"/>
                  <a:pt x="17939" y="13875"/>
                </a:cubicBezTo>
                <a:cubicBezTo>
                  <a:pt x="17945" y="13919"/>
                  <a:pt x="17953" y="14009"/>
                  <a:pt x="18002" y="14034"/>
                </a:cubicBezTo>
                <a:cubicBezTo>
                  <a:pt x="18058" y="14062"/>
                  <a:pt x="18121" y="14016"/>
                  <a:pt x="18161" y="14002"/>
                </a:cubicBezTo>
                <a:cubicBezTo>
                  <a:pt x="18208" y="13986"/>
                  <a:pt x="18257" y="13954"/>
                  <a:pt x="18288" y="13906"/>
                </a:cubicBezTo>
                <a:cubicBezTo>
                  <a:pt x="18316" y="13851"/>
                  <a:pt x="18321" y="13836"/>
                  <a:pt x="18352" y="13811"/>
                </a:cubicBezTo>
              </a:path>
              <a:path w="8415" h="1970">
                <a:moveTo>
                  <a:pt x="17844" y="13589"/>
                </a:moveTo>
                <a:cubicBezTo>
                  <a:pt x="17955" y="13589"/>
                  <a:pt x="18060" y="13602"/>
                  <a:pt x="18161" y="13557"/>
                </a:cubicBezTo>
                <a:cubicBezTo>
                  <a:pt x="18217" y="13530"/>
                  <a:pt x="18232" y="13525"/>
                  <a:pt x="18256" y="13494"/>
                </a:cubicBezTo>
              </a:path>
              <a:path w="8415" h="1970">
                <a:moveTo>
                  <a:pt x="18510" y="13335"/>
                </a:moveTo>
                <a:cubicBezTo>
                  <a:pt x="18510" y="13346"/>
                  <a:pt x="18510" y="13356"/>
                  <a:pt x="18510" y="13367"/>
                </a:cubicBezTo>
                <a:cubicBezTo>
                  <a:pt x="18580" y="13367"/>
                  <a:pt x="18601" y="13352"/>
                  <a:pt x="18669" y="13335"/>
                </a:cubicBezTo>
                <a:cubicBezTo>
                  <a:pt x="18736" y="13318"/>
                  <a:pt x="18800" y="13323"/>
                  <a:pt x="18860" y="13303"/>
                </a:cubicBezTo>
                <a:cubicBezTo>
                  <a:pt x="18891" y="13303"/>
                  <a:pt x="18902" y="13303"/>
                  <a:pt x="18923" y="13303"/>
                </a:cubicBezTo>
              </a:path>
              <a:path w="8415" h="1970">
                <a:moveTo>
                  <a:pt x="19050" y="12700"/>
                </a:moveTo>
                <a:cubicBezTo>
                  <a:pt x="19050" y="12795"/>
                  <a:pt x="19031" y="12862"/>
                  <a:pt x="19018" y="12954"/>
                </a:cubicBezTo>
                <a:cubicBezTo>
                  <a:pt x="19003" y="13060"/>
                  <a:pt x="19002" y="13170"/>
                  <a:pt x="18986" y="13272"/>
                </a:cubicBezTo>
                <a:cubicBezTo>
                  <a:pt x="18971" y="13368"/>
                  <a:pt x="19002" y="13444"/>
                  <a:pt x="18955" y="13526"/>
                </a:cubicBezTo>
                <a:cubicBezTo>
                  <a:pt x="19018" y="13504"/>
                  <a:pt x="18949" y="13465"/>
                  <a:pt x="19018" y="13430"/>
                </a:cubicBezTo>
                <a:cubicBezTo>
                  <a:pt x="19073" y="13402"/>
                  <a:pt x="19071" y="13367"/>
                  <a:pt x="19145" y="13367"/>
                </a:cubicBezTo>
                <a:cubicBezTo>
                  <a:pt x="19246" y="13367"/>
                  <a:pt x="19233" y="13388"/>
                  <a:pt x="19304" y="13430"/>
                </a:cubicBezTo>
                <a:cubicBezTo>
                  <a:pt x="19314" y="13436"/>
                  <a:pt x="19427" y="13464"/>
                  <a:pt x="19431" y="13462"/>
                </a:cubicBezTo>
                <a:cubicBezTo>
                  <a:pt x="19442" y="13451"/>
                  <a:pt x="19452" y="13441"/>
                  <a:pt x="19463" y="13430"/>
                </a:cubicBezTo>
              </a:path>
              <a:path w="8415" h="1970">
                <a:moveTo>
                  <a:pt x="19399" y="12795"/>
                </a:moveTo>
                <a:cubicBezTo>
                  <a:pt x="19399" y="12785"/>
                  <a:pt x="19399" y="12774"/>
                  <a:pt x="19399" y="12764"/>
                </a:cubicBezTo>
                <a:cubicBezTo>
                  <a:pt x="19343" y="12783"/>
                  <a:pt x="19368" y="12856"/>
                  <a:pt x="19368" y="12922"/>
                </a:cubicBezTo>
                <a:cubicBezTo>
                  <a:pt x="19368" y="13335"/>
                  <a:pt x="19368" y="13747"/>
                  <a:pt x="19368" y="14160"/>
                </a:cubicBezTo>
              </a:path>
              <a:path w="8415" h="1970">
                <a:moveTo>
                  <a:pt x="19685" y="12890"/>
                </a:moveTo>
                <a:cubicBezTo>
                  <a:pt x="19685" y="13003"/>
                  <a:pt x="19665" y="13097"/>
                  <a:pt x="19653" y="13208"/>
                </a:cubicBezTo>
                <a:cubicBezTo>
                  <a:pt x="19638" y="13355"/>
                  <a:pt x="19637" y="13508"/>
                  <a:pt x="19622" y="13652"/>
                </a:cubicBezTo>
                <a:cubicBezTo>
                  <a:pt x="19607" y="13797"/>
                  <a:pt x="19622" y="13951"/>
                  <a:pt x="19622" y="14097"/>
                </a:cubicBezTo>
              </a:path>
              <a:path w="8415" h="1970">
                <a:moveTo>
                  <a:pt x="19939" y="12890"/>
                </a:moveTo>
                <a:cubicBezTo>
                  <a:pt x="19939" y="13030"/>
                  <a:pt x="19889" y="13135"/>
                  <a:pt x="19876" y="13272"/>
                </a:cubicBezTo>
                <a:cubicBezTo>
                  <a:pt x="19857" y="13461"/>
                  <a:pt x="19845" y="13726"/>
                  <a:pt x="19907" y="13906"/>
                </a:cubicBezTo>
                <a:cubicBezTo>
                  <a:pt x="19944" y="14012"/>
                  <a:pt x="19948" y="14037"/>
                  <a:pt x="20034" y="14097"/>
                </a:cubicBezTo>
                <a:cubicBezTo>
                  <a:pt x="20086" y="14134"/>
                  <a:pt x="20131" y="14098"/>
                  <a:pt x="20193" y="14065"/>
                </a:cubicBezTo>
                <a:cubicBezTo>
                  <a:pt x="20296" y="14011"/>
                  <a:pt x="20286" y="14001"/>
                  <a:pt x="20320" y="13906"/>
                </a:cubicBezTo>
                <a:cubicBezTo>
                  <a:pt x="20350" y="13822"/>
                  <a:pt x="20352" y="13777"/>
                  <a:pt x="20352" y="13684"/>
                </a:cubicBezTo>
                <a:cubicBezTo>
                  <a:pt x="20352" y="13647"/>
                  <a:pt x="20314" y="13515"/>
                  <a:pt x="20288" y="13494"/>
                </a:cubicBezTo>
                <a:cubicBezTo>
                  <a:pt x="20252" y="13464"/>
                  <a:pt x="20154" y="13505"/>
                  <a:pt x="20130" y="13526"/>
                </a:cubicBezTo>
                <a:cubicBezTo>
                  <a:pt x="20089" y="13562"/>
                  <a:pt x="20045" y="13722"/>
                  <a:pt x="20034" y="13780"/>
                </a:cubicBezTo>
                <a:cubicBezTo>
                  <a:pt x="20017" y="13868"/>
                  <a:pt x="20034" y="13975"/>
                  <a:pt x="20034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9"/>
          <p:cNvSpPr/>
          <p:nvPr/>
        </p:nvSpPr>
        <p:spPr>
          <a:xfrm>
            <a:off x="7840800" y="4343400"/>
            <a:ext cx="1098360" cy="514440"/>
          </a:xfrm>
          <a:custGeom>
            <a:avLst/>
            <a:gdLst/>
            <a:ahLst/>
            <a:rect l="l" t="t" r="r" b="b"/>
            <a:pathLst>
              <a:path w="3049" h="1430">
                <a:moveTo>
                  <a:pt x="22193" y="12446"/>
                </a:moveTo>
                <a:cubicBezTo>
                  <a:pt x="22184" y="12417"/>
                  <a:pt x="22139" y="12396"/>
                  <a:pt x="22098" y="12382"/>
                </a:cubicBezTo>
                <a:cubicBezTo>
                  <a:pt x="22061" y="12370"/>
                  <a:pt x="21961" y="12448"/>
                  <a:pt x="21939" y="12478"/>
                </a:cubicBezTo>
                <a:cubicBezTo>
                  <a:pt x="21877" y="12565"/>
                  <a:pt x="21797" y="12652"/>
                  <a:pt x="21780" y="12764"/>
                </a:cubicBezTo>
                <a:cubicBezTo>
                  <a:pt x="21757" y="12915"/>
                  <a:pt x="21791" y="13064"/>
                  <a:pt x="21812" y="13208"/>
                </a:cubicBezTo>
                <a:cubicBezTo>
                  <a:pt x="21828" y="13321"/>
                  <a:pt x="21857" y="13348"/>
                  <a:pt x="21939" y="13430"/>
                </a:cubicBezTo>
                <a:cubicBezTo>
                  <a:pt x="21987" y="13478"/>
                  <a:pt x="21998" y="13494"/>
                  <a:pt x="22066" y="13494"/>
                </a:cubicBezTo>
                <a:cubicBezTo>
                  <a:pt x="22100" y="13494"/>
                  <a:pt x="22178" y="13485"/>
                  <a:pt x="22193" y="13462"/>
                </a:cubicBezTo>
                <a:cubicBezTo>
                  <a:pt x="22215" y="13427"/>
                  <a:pt x="22247" y="13344"/>
                  <a:pt x="22257" y="13303"/>
                </a:cubicBezTo>
              </a:path>
              <a:path w="3049" h="1430">
                <a:moveTo>
                  <a:pt x="22542" y="12700"/>
                </a:moveTo>
                <a:cubicBezTo>
                  <a:pt x="22542" y="12689"/>
                  <a:pt x="22542" y="12679"/>
                  <a:pt x="22542" y="12668"/>
                </a:cubicBezTo>
                <a:cubicBezTo>
                  <a:pt x="22627" y="12668"/>
                  <a:pt x="22711" y="12668"/>
                  <a:pt x="22796" y="12668"/>
                </a:cubicBezTo>
              </a:path>
              <a:path w="3049" h="1430">
                <a:moveTo>
                  <a:pt x="22574" y="13113"/>
                </a:moveTo>
                <a:cubicBezTo>
                  <a:pt x="22585" y="13113"/>
                  <a:pt x="22595" y="13113"/>
                  <a:pt x="22606" y="13113"/>
                </a:cubicBezTo>
                <a:cubicBezTo>
                  <a:pt x="22622" y="13065"/>
                  <a:pt x="22644" y="13081"/>
                  <a:pt x="22701" y="13081"/>
                </a:cubicBezTo>
                <a:cubicBezTo>
                  <a:pt x="22722" y="13081"/>
                  <a:pt x="22744" y="13081"/>
                  <a:pt x="22765" y="13081"/>
                </a:cubicBezTo>
              </a:path>
              <a:path w="3049" h="1430">
                <a:moveTo>
                  <a:pt x="22955" y="12478"/>
                </a:moveTo>
                <a:cubicBezTo>
                  <a:pt x="23023" y="12427"/>
                  <a:pt x="23029" y="12471"/>
                  <a:pt x="23114" y="12478"/>
                </a:cubicBezTo>
                <a:cubicBezTo>
                  <a:pt x="23156" y="12478"/>
                  <a:pt x="23177" y="12478"/>
                  <a:pt x="23209" y="12478"/>
                </a:cubicBezTo>
              </a:path>
              <a:path w="3049" h="1430">
                <a:moveTo>
                  <a:pt x="23495" y="12128"/>
                </a:moveTo>
                <a:cubicBezTo>
                  <a:pt x="23495" y="12232"/>
                  <a:pt x="23476" y="12318"/>
                  <a:pt x="23463" y="12414"/>
                </a:cubicBezTo>
                <a:cubicBezTo>
                  <a:pt x="23449" y="12518"/>
                  <a:pt x="23454" y="12601"/>
                  <a:pt x="23432" y="12700"/>
                </a:cubicBezTo>
                <a:cubicBezTo>
                  <a:pt x="23426" y="12728"/>
                  <a:pt x="23432" y="12766"/>
                  <a:pt x="23432" y="12795"/>
                </a:cubicBezTo>
                <a:cubicBezTo>
                  <a:pt x="23482" y="12783"/>
                  <a:pt x="23512" y="12747"/>
                  <a:pt x="23558" y="12732"/>
                </a:cubicBezTo>
                <a:cubicBezTo>
                  <a:pt x="23634" y="12706"/>
                  <a:pt x="23722" y="12744"/>
                  <a:pt x="23781" y="12764"/>
                </a:cubicBezTo>
                <a:cubicBezTo>
                  <a:pt x="23805" y="12772"/>
                  <a:pt x="23871" y="12797"/>
                  <a:pt x="23876" y="12795"/>
                </a:cubicBezTo>
                <a:cubicBezTo>
                  <a:pt x="23887" y="12785"/>
                  <a:pt x="23897" y="12774"/>
                  <a:pt x="23908" y="12764"/>
                </a:cubicBezTo>
              </a:path>
              <a:path w="3049" h="1430">
                <a:moveTo>
                  <a:pt x="23940" y="12065"/>
                </a:moveTo>
                <a:cubicBezTo>
                  <a:pt x="23940" y="12167"/>
                  <a:pt x="23917" y="12254"/>
                  <a:pt x="23908" y="12351"/>
                </a:cubicBezTo>
                <a:cubicBezTo>
                  <a:pt x="23877" y="12673"/>
                  <a:pt x="23908" y="13011"/>
                  <a:pt x="23908" y="13335"/>
                </a:cubicBezTo>
              </a:path>
              <a:path w="3049" h="1430">
                <a:moveTo>
                  <a:pt x="24162" y="12128"/>
                </a:moveTo>
                <a:cubicBezTo>
                  <a:pt x="24162" y="12241"/>
                  <a:pt x="24141" y="12336"/>
                  <a:pt x="24130" y="12446"/>
                </a:cubicBezTo>
                <a:cubicBezTo>
                  <a:pt x="24116" y="12586"/>
                  <a:pt x="24098" y="12715"/>
                  <a:pt x="24098" y="12859"/>
                </a:cubicBezTo>
                <a:cubicBezTo>
                  <a:pt x="24098" y="12975"/>
                  <a:pt x="24122" y="13067"/>
                  <a:pt x="24130" y="13176"/>
                </a:cubicBezTo>
                <a:cubicBezTo>
                  <a:pt x="24130" y="13208"/>
                  <a:pt x="24130" y="13219"/>
                  <a:pt x="24162" y="13208"/>
                </a:cubicBezTo>
              </a:path>
              <a:path w="3049" h="1430">
                <a:moveTo>
                  <a:pt x="24384" y="12097"/>
                </a:moveTo>
                <a:cubicBezTo>
                  <a:pt x="24384" y="12324"/>
                  <a:pt x="24340" y="12577"/>
                  <a:pt x="24352" y="12795"/>
                </a:cubicBezTo>
                <a:cubicBezTo>
                  <a:pt x="24358" y="12910"/>
                  <a:pt x="24384" y="13076"/>
                  <a:pt x="24448" y="13176"/>
                </a:cubicBezTo>
                <a:cubicBezTo>
                  <a:pt x="24476" y="13219"/>
                  <a:pt x="24560" y="13223"/>
                  <a:pt x="24606" y="13208"/>
                </a:cubicBezTo>
                <a:cubicBezTo>
                  <a:pt x="24673" y="13185"/>
                  <a:pt x="24781" y="13058"/>
                  <a:pt x="24797" y="12986"/>
                </a:cubicBezTo>
                <a:cubicBezTo>
                  <a:pt x="24819" y="12882"/>
                  <a:pt x="24828" y="12777"/>
                  <a:pt x="24828" y="12668"/>
                </a:cubicBezTo>
                <a:cubicBezTo>
                  <a:pt x="24828" y="12602"/>
                  <a:pt x="24810" y="12596"/>
                  <a:pt x="24797" y="12541"/>
                </a:cubicBezTo>
                <a:cubicBezTo>
                  <a:pt x="24709" y="12541"/>
                  <a:pt x="24684" y="12559"/>
                  <a:pt x="24638" y="12636"/>
                </a:cubicBezTo>
                <a:cubicBezTo>
                  <a:pt x="24570" y="12751"/>
                  <a:pt x="24570" y="12864"/>
                  <a:pt x="24543" y="12986"/>
                </a:cubicBezTo>
                <a:cubicBezTo>
                  <a:pt x="24512" y="13079"/>
                  <a:pt x="24501" y="13109"/>
                  <a:pt x="24511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10"/>
          <p:cNvSpPr/>
          <p:nvPr/>
        </p:nvSpPr>
        <p:spPr>
          <a:xfrm>
            <a:off x="3246480" y="5143680"/>
            <a:ext cx="3097080" cy="663480"/>
          </a:xfrm>
          <a:custGeom>
            <a:avLst/>
            <a:gdLst/>
            <a:ahLst/>
            <a:rect l="l" t="t" r="r" b="b"/>
            <a:pathLst>
              <a:path w="8605" h="1842">
                <a:moveTo>
                  <a:pt x="9017" y="14637"/>
                </a:moveTo>
                <a:cubicBezTo>
                  <a:pt x="9085" y="14637"/>
                  <a:pt x="9122" y="14657"/>
                  <a:pt x="9176" y="14668"/>
                </a:cubicBezTo>
                <a:cubicBezTo>
                  <a:pt x="9240" y="14681"/>
                  <a:pt x="9277" y="14685"/>
                  <a:pt x="9334" y="14700"/>
                </a:cubicBezTo>
                <a:cubicBezTo>
                  <a:pt x="9334" y="14668"/>
                  <a:pt x="9334" y="14657"/>
                  <a:pt x="9366" y="14668"/>
                </a:cubicBezTo>
              </a:path>
              <a:path w="8605" h="1842">
                <a:moveTo>
                  <a:pt x="9716" y="14351"/>
                </a:moveTo>
                <a:cubicBezTo>
                  <a:pt x="9728" y="14314"/>
                  <a:pt x="9759" y="14294"/>
                  <a:pt x="9811" y="14288"/>
                </a:cubicBezTo>
                <a:cubicBezTo>
                  <a:pt x="9814" y="14288"/>
                  <a:pt x="9938" y="14319"/>
                  <a:pt x="9938" y="14319"/>
                </a:cubicBezTo>
                <a:cubicBezTo>
                  <a:pt x="9962" y="14348"/>
                  <a:pt x="9970" y="14403"/>
                  <a:pt x="9970" y="14446"/>
                </a:cubicBezTo>
                <a:cubicBezTo>
                  <a:pt x="9970" y="14508"/>
                  <a:pt x="9911" y="14589"/>
                  <a:pt x="9874" y="14637"/>
                </a:cubicBezTo>
                <a:cubicBezTo>
                  <a:pt x="9820" y="14708"/>
                  <a:pt x="9771" y="14761"/>
                  <a:pt x="9716" y="14827"/>
                </a:cubicBezTo>
                <a:cubicBezTo>
                  <a:pt x="9682" y="14868"/>
                  <a:pt x="9575" y="14926"/>
                  <a:pt x="9557" y="14954"/>
                </a:cubicBezTo>
                <a:cubicBezTo>
                  <a:pt x="9557" y="14965"/>
                  <a:pt x="9557" y="14975"/>
                  <a:pt x="9557" y="14986"/>
                </a:cubicBezTo>
                <a:cubicBezTo>
                  <a:pt x="9630" y="14986"/>
                  <a:pt x="9657" y="14998"/>
                  <a:pt x="9716" y="15018"/>
                </a:cubicBezTo>
                <a:cubicBezTo>
                  <a:pt x="9763" y="15034"/>
                  <a:pt x="9787" y="15050"/>
                  <a:pt x="9842" y="15050"/>
                </a:cubicBezTo>
                <a:cubicBezTo>
                  <a:pt x="9853" y="15050"/>
                  <a:pt x="9863" y="15050"/>
                  <a:pt x="9874" y="15050"/>
                </a:cubicBezTo>
              </a:path>
              <a:path w="8605" h="1842">
                <a:moveTo>
                  <a:pt x="10128" y="14446"/>
                </a:moveTo>
                <a:cubicBezTo>
                  <a:pt x="10128" y="14507"/>
                  <a:pt x="10102" y="14547"/>
                  <a:pt x="10096" y="14605"/>
                </a:cubicBezTo>
                <a:cubicBezTo>
                  <a:pt x="10091" y="14657"/>
                  <a:pt x="10065" y="14674"/>
                  <a:pt x="10065" y="14732"/>
                </a:cubicBezTo>
                <a:cubicBezTo>
                  <a:pt x="10065" y="14764"/>
                  <a:pt x="10065" y="14775"/>
                  <a:pt x="10065" y="14796"/>
                </a:cubicBezTo>
                <a:cubicBezTo>
                  <a:pt x="10095" y="14803"/>
                  <a:pt x="10165" y="14812"/>
                  <a:pt x="10192" y="14827"/>
                </a:cubicBezTo>
                <a:cubicBezTo>
                  <a:pt x="10238" y="14852"/>
                  <a:pt x="10265" y="14885"/>
                  <a:pt x="10319" y="14891"/>
                </a:cubicBezTo>
                <a:cubicBezTo>
                  <a:pt x="10350" y="14891"/>
                  <a:pt x="10361" y="14891"/>
                  <a:pt x="10350" y="14859"/>
                </a:cubicBezTo>
              </a:path>
              <a:path w="8605" h="1842">
                <a:moveTo>
                  <a:pt x="10414" y="14478"/>
                </a:moveTo>
                <a:cubicBezTo>
                  <a:pt x="10383" y="14529"/>
                  <a:pt x="10353" y="14602"/>
                  <a:pt x="10350" y="14668"/>
                </a:cubicBezTo>
                <a:cubicBezTo>
                  <a:pt x="10344" y="14784"/>
                  <a:pt x="10303" y="14872"/>
                  <a:pt x="10287" y="14986"/>
                </a:cubicBezTo>
                <a:cubicBezTo>
                  <a:pt x="10274" y="15075"/>
                  <a:pt x="10255" y="15146"/>
                  <a:pt x="10255" y="15240"/>
                </a:cubicBezTo>
                <a:cubicBezTo>
                  <a:pt x="10255" y="15251"/>
                  <a:pt x="10255" y="15261"/>
                  <a:pt x="10255" y="15272"/>
                </a:cubicBezTo>
              </a:path>
              <a:path w="8605" h="1842">
                <a:moveTo>
                  <a:pt x="10668" y="14605"/>
                </a:moveTo>
                <a:cubicBezTo>
                  <a:pt x="10668" y="14545"/>
                  <a:pt x="10651" y="14617"/>
                  <a:pt x="10636" y="14637"/>
                </a:cubicBezTo>
                <a:cubicBezTo>
                  <a:pt x="10590" y="14698"/>
                  <a:pt x="10545" y="14758"/>
                  <a:pt x="10509" y="14827"/>
                </a:cubicBezTo>
                <a:cubicBezTo>
                  <a:pt x="10466" y="14910"/>
                  <a:pt x="10478" y="14990"/>
                  <a:pt x="10478" y="15081"/>
                </a:cubicBezTo>
                <a:cubicBezTo>
                  <a:pt x="10478" y="15115"/>
                  <a:pt x="10508" y="15279"/>
                  <a:pt x="10573" y="15272"/>
                </a:cubicBezTo>
                <a:cubicBezTo>
                  <a:pt x="10673" y="15261"/>
                  <a:pt x="10692" y="15203"/>
                  <a:pt x="10732" y="15113"/>
                </a:cubicBezTo>
                <a:cubicBezTo>
                  <a:pt x="10770" y="15029"/>
                  <a:pt x="10795" y="14984"/>
                  <a:pt x="10795" y="14891"/>
                </a:cubicBezTo>
                <a:cubicBezTo>
                  <a:pt x="10795" y="14817"/>
                  <a:pt x="10793" y="14729"/>
                  <a:pt x="10763" y="14668"/>
                </a:cubicBezTo>
                <a:cubicBezTo>
                  <a:pt x="10752" y="14645"/>
                  <a:pt x="10657" y="14612"/>
                  <a:pt x="10636" y="14637"/>
                </a:cubicBezTo>
                <a:cubicBezTo>
                  <a:pt x="10636" y="14647"/>
                  <a:pt x="10636" y="14658"/>
                  <a:pt x="10636" y="14668"/>
                </a:cubicBezTo>
              </a:path>
              <a:path w="8605" h="1842">
                <a:moveTo>
                  <a:pt x="11271" y="14573"/>
                </a:moveTo>
                <a:cubicBezTo>
                  <a:pt x="11271" y="14609"/>
                  <a:pt x="11268" y="14623"/>
                  <a:pt x="11240" y="14637"/>
                </a:cubicBezTo>
                <a:cubicBezTo>
                  <a:pt x="11292" y="14707"/>
                  <a:pt x="11245" y="14689"/>
                  <a:pt x="11240" y="14764"/>
                </a:cubicBezTo>
                <a:cubicBezTo>
                  <a:pt x="11236" y="14826"/>
                  <a:pt x="11240" y="14891"/>
                  <a:pt x="11240" y="14954"/>
                </a:cubicBezTo>
              </a:path>
              <a:path w="8605" h="1842">
                <a:moveTo>
                  <a:pt x="11398" y="14764"/>
                </a:moveTo>
                <a:cubicBezTo>
                  <a:pt x="11347" y="14725"/>
                  <a:pt x="11317" y="14758"/>
                  <a:pt x="11271" y="14732"/>
                </a:cubicBezTo>
                <a:cubicBezTo>
                  <a:pt x="11233" y="14710"/>
                  <a:pt x="11198" y="14681"/>
                  <a:pt x="11144" y="14700"/>
                </a:cubicBezTo>
                <a:cubicBezTo>
                  <a:pt x="11092" y="14719"/>
                  <a:pt x="11020" y="14688"/>
                  <a:pt x="10986" y="14732"/>
                </a:cubicBezTo>
                <a:cubicBezTo>
                  <a:pt x="10986" y="14743"/>
                  <a:pt x="10986" y="14753"/>
                  <a:pt x="10986" y="14764"/>
                </a:cubicBezTo>
              </a:path>
              <a:path w="8605" h="1842">
                <a:moveTo>
                  <a:pt x="11462" y="15081"/>
                </a:moveTo>
                <a:cubicBezTo>
                  <a:pt x="11399" y="15128"/>
                  <a:pt x="11340" y="15095"/>
                  <a:pt x="11271" y="15145"/>
                </a:cubicBezTo>
                <a:cubicBezTo>
                  <a:pt x="11198" y="15198"/>
                  <a:pt x="11127" y="15257"/>
                  <a:pt x="11049" y="15304"/>
                </a:cubicBezTo>
                <a:cubicBezTo>
                  <a:pt x="11028" y="15314"/>
                  <a:pt x="11007" y="15325"/>
                  <a:pt x="10986" y="15335"/>
                </a:cubicBezTo>
              </a:path>
              <a:path w="8605" h="1842">
                <a:moveTo>
                  <a:pt x="11557" y="15050"/>
                </a:moveTo>
                <a:cubicBezTo>
                  <a:pt x="11557" y="15203"/>
                  <a:pt x="11574" y="15360"/>
                  <a:pt x="11589" y="15494"/>
                </a:cubicBezTo>
                <a:cubicBezTo>
                  <a:pt x="11595" y="15547"/>
                  <a:pt x="11586" y="15614"/>
                  <a:pt x="11620" y="15653"/>
                </a:cubicBezTo>
                <a:cubicBezTo>
                  <a:pt x="11631" y="15653"/>
                  <a:pt x="11641" y="15653"/>
                  <a:pt x="11652" y="15653"/>
                </a:cubicBezTo>
                <a:cubicBezTo>
                  <a:pt x="11669" y="15597"/>
                  <a:pt x="11669" y="15551"/>
                  <a:pt x="11684" y="15494"/>
                </a:cubicBezTo>
                <a:cubicBezTo>
                  <a:pt x="11706" y="15410"/>
                  <a:pt x="11724" y="15322"/>
                  <a:pt x="11748" y="15240"/>
                </a:cubicBezTo>
                <a:cubicBezTo>
                  <a:pt x="11774" y="15150"/>
                  <a:pt x="11790" y="15073"/>
                  <a:pt x="11811" y="14986"/>
                </a:cubicBezTo>
                <a:cubicBezTo>
                  <a:pt x="11819" y="14952"/>
                  <a:pt x="11856" y="14852"/>
                  <a:pt x="11874" y="14827"/>
                </a:cubicBezTo>
                <a:cubicBezTo>
                  <a:pt x="11898" y="14794"/>
                  <a:pt x="11966" y="14740"/>
                  <a:pt x="12002" y="14732"/>
                </a:cubicBezTo>
                <a:cubicBezTo>
                  <a:pt x="12110" y="14708"/>
                  <a:pt x="12221" y="14753"/>
                  <a:pt x="12319" y="14764"/>
                </a:cubicBezTo>
                <a:cubicBezTo>
                  <a:pt x="12441" y="14778"/>
                  <a:pt x="12585" y="14787"/>
                  <a:pt x="12700" y="14796"/>
                </a:cubicBezTo>
                <a:cubicBezTo>
                  <a:pt x="12895" y="14811"/>
                  <a:pt x="13088" y="14777"/>
                  <a:pt x="13272" y="14764"/>
                </a:cubicBezTo>
                <a:cubicBezTo>
                  <a:pt x="13437" y="14753"/>
                  <a:pt x="13590" y="14784"/>
                  <a:pt x="13748" y="14796"/>
                </a:cubicBezTo>
                <a:cubicBezTo>
                  <a:pt x="13906" y="14808"/>
                  <a:pt x="14073" y="14814"/>
                  <a:pt x="14224" y="14827"/>
                </a:cubicBezTo>
                <a:cubicBezTo>
                  <a:pt x="14527" y="14854"/>
                  <a:pt x="14850" y="14835"/>
                  <a:pt x="15145" y="14859"/>
                </a:cubicBezTo>
                <a:cubicBezTo>
                  <a:pt x="15228" y="14866"/>
                  <a:pt x="15304" y="14834"/>
                  <a:pt x="15367" y="14827"/>
                </a:cubicBezTo>
                <a:cubicBezTo>
                  <a:pt x="15430" y="14820"/>
                  <a:pt x="15430" y="14827"/>
                  <a:pt x="15494" y="14827"/>
                </a:cubicBezTo>
              </a:path>
              <a:path w="8605" h="1842">
                <a:moveTo>
                  <a:pt x="12319" y="15018"/>
                </a:moveTo>
                <a:cubicBezTo>
                  <a:pt x="12272" y="15030"/>
                  <a:pt x="12231" y="15047"/>
                  <a:pt x="12192" y="15081"/>
                </a:cubicBezTo>
                <a:cubicBezTo>
                  <a:pt x="12129" y="15137"/>
                  <a:pt x="12089" y="15177"/>
                  <a:pt x="12033" y="15240"/>
                </a:cubicBezTo>
                <a:cubicBezTo>
                  <a:pt x="11983" y="15296"/>
                  <a:pt x="11965" y="15332"/>
                  <a:pt x="11938" y="15399"/>
                </a:cubicBezTo>
                <a:cubicBezTo>
                  <a:pt x="11909" y="15471"/>
                  <a:pt x="11894" y="15516"/>
                  <a:pt x="11938" y="15589"/>
                </a:cubicBezTo>
                <a:cubicBezTo>
                  <a:pt x="11963" y="15630"/>
                  <a:pt x="12051" y="15663"/>
                  <a:pt x="12065" y="15684"/>
                </a:cubicBezTo>
                <a:cubicBezTo>
                  <a:pt x="12065" y="15716"/>
                  <a:pt x="12065" y="15727"/>
                  <a:pt x="12097" y="15716"/>
                </a:cubicBezTo>
                <a:cubicBezTo>
                  <a:pt x="12138" y="15702"/>
                  <a:pt x="12126" y="15698"/>
                  <a:pt x="12160" y="15653"/>
                </a:cubicBezTo>
              </a:path>
              <a:path w="8605" h="1842">
                <a:moveTo>
                  <a:pt x="12287" y="15272"/>
                </a:moveTo>
                <a:cubicBezTo>
                  <a:pt x="12336" y="15235"/>
                  <a:pt x="12352" y="15240"/>
                  <a:pt x="12414" y="15240"/>
                </a:cubicBezTo>
                <a:cubicBezTo>
                  <a:pt x="12449" y="15240"/>
                  <a:pt x="12531" y="15288"/>
                  <a:pt x="12510" y="15335"/>
                </a:cubicBezTo>
                <a:cubicBezTo>
                  <a:pt x="12494" y="15370"/>
                  <a:pt x="12465" y="15433"/>
                  <a:pt x="12446" y="15462"/>
                </a:cubicBezTo>
                <a:cubicBezTo>
                  <a:pt x="12412" y="15513"/>
                  <a:pt x="12342" y="15512"/>
                  <a:pt x="12319" y="15558"/>
                </a:cubicBezTo>
                <a:cubicBezTo>
                  <a:pt x="12319" y="15589"/>
                  <a:pt x="12319" y="15600"/>
                  <a:pt x="12287" y="15589"/>
                </a:cubicBezTo>
                <a:cubicBezTo>
                  <a:pt x="12303" y="15638"/>
                  <a:pt x="12315" y="15626"/>
                  <a:pt x="12351" y="15653"/>
                </a:cubicBezTo>
                <a:cubicBezTo>
                  <a:pt x="12399" y="15689"/>
                  <a:pt x="12417" y="15684"/>
                  <a:pt x="12478" y="15684"/>
                </a:cubicBezTo>
              </a:path>
              <a:path w="8605" h="1842">
                <a:moveTo>
                  <a:pt x="12605" y="15304"/>
                </a:moveTo>
                <a:cubicBezTo>
                  <a:pt x="12568" y="15352"/>
                  <a:pt x="12573" y="15368"/>
                  <a:pt x="12573" y="15430"/>
                </a:cubicBezTo>
                <a:cubicBezTo>
                  <a:pt x="12573" y="15462"/>
                  <a:pt x="12573" y="15473"/>
                  <a:pt x="12573" y="15494"/>
                </a:cubicBezTo>
                <a:cubicBezTo>
                  <a:pt x="12611" y="15507"/>
                  <a:pt x="12625" y="15521"/>
                  <a:pt x="12668" y="15558"/>
                </a:cubicBezTo>
                <a:cubicBezTo>
                  <a:pt x="12706" y="15591"/>
                  <a:pt x="12723" y="15591"/>
                  <a:pt x="12764" y="15621"/>
                </a:cubicBezTo>
              </a:path>
              <a:path w="8605" h="1842">
                <a:moveTo>
                  <a:pt x="12859" y="15208"/>
                </a:moveTo>
                <a:cubicBezTo>
                  <a:pt x="12798" y="15228"/>
                  <a:pt x="12817" y="15270"/>
                  <a:pt x="12795" y="15335"/>
                </a:cubicBezTo>
                <a:cubicBezTo>
                  <a:pt x="12759" y="15439"/>
                  <a:pt x="12766" y="15551"/>
                  <a:pt x="12732" y="15653"/>
                </a:cubicBezTo>
                <a:cubicBezTo>
                  <a:pt x="12710" y="15719"/>
                  <a:pt x="12700" y="15717"/>
                  <a:pt x="12700" y="15780"/>
                </a:cubicBezTo>
              </a:path>
              <a:path w="8605" h="1842">
                <a:moveTo>
                  <a:pt x="12986" y="15272"/>
                </a:moveTo>
                <a:cubicBezTo>
                  <a:pt x="12953" y="15347"/>
                  <a:pt x="12927" y="15418"/>
                  <a:pt x="12890" y="15494"/>
                </a:cubicBezTo>
                <a:cubicBezTo>
                  <a:pt x="12852" y="15571"/>
                  <a:pt x="12859" y="15632"/>
                  <a:pt x="12859" y="15716"/>
                </a:cubicBezTo>
                <a:cubicBezTo>
                  <a:pt x="12859" y="15804"/>
                  <a:pt x="12875" y="15812"/>
                  <a:pt x="12954" y="15812"/>
                </a:cubicBezTo>
                <a:cubicBezTo>
                  <a:pt x="13037" y="15812"/>
                  <a:pt x="13042" y="15710"/>
                  <a:pt x="13081" y="15653"/>
                </a:cubicBezTo>
                <a:cubicBezTo>
                  <a:pt x="13141" y="15566"/>
                  <a:pt x="13097" y="15523"/>
                  <a:pt x="13081" y="15430"/>
                </a:cubicBezTo>
                <a:cubicBezTo>
                  <a:pt x="13072" y="15377"/>
                  <a:pt x="13051" y="15320"/>
                  <a:pt x="13018" y="15304"/>
                </a:cubicBezTo>
                <a:cubicBezTo>
                  <a:pt x="12986" y="15304"/>
                  <a:pt x="12976" y="15304"/>
                  <a:pt x="12986" y="15335"/>
                </a:cubicBezTo>
              </a:path>
              <a:path w="8605" h="1842">
                <a:moveTo>
                  <a:pt x="13208" y="14954"/>
                </a:moveTo>
                <a:cubicBezTo>
                  <a:pt x="13208" y="15014"/>
                  <a:pt x="13225" y="15057"/>
                  <a:pt x="13240" y="15113"/>
                </a:cubicBezTo>
                <a:cubicBezTo>
                  <a:pt x="13271" y="15225"/>
                  <a:pt x="13330" y="15312"/>
                  <a:pt x="13335" y="15430"/>
                </a:cubicBezTo>
                <a:cubicBezTo>
                  <a:pt x="13340" y="15546"/>
                  <a:pt x="13365" y="15711"/>
                  <a:pt x="13303" y="15812"/>
                </a:cubicBezTo>
                <a:cubicBezTo>
                  <a:pt x="13286" y="15841"/>
                  <a:pt x="13225" y="15959"/>
                  <a:pt x="13208" y="15970"/>
                </a:cubicBezTo>
                <a:cubicBezTo>
                  <a:pt x="13174" y="15992"/>
                  <a:pt x="13096" y="16044"/>
                  <a:pt x="13144" y="15970"/>
                </a:cubicBezTo>
              </a:path>
              <a:path w="8605" h="1842">
                <a:moveTo>
                  <a:pt x="13430" y="15018"/>
                </a:moveTo>
                <a:cubicBezTo>
                  <a:pt x="13458" y="14997"/>
                  <a:pt x="13514" y="14962"/>
                  <a:pt x="13557" y="14986"/>
                </a:cubicBezTo>
                <a:cubicBezTo>
                  <a:pt x="13602" y="15011"/>
                  <a:pt x="13609" y="15014"/>
                  <a:pt x="13621" y="15050"/>
                </a:cubicBezTo>
                <a:cubicBezTo>
                  <a:pt x="13574" y="15084"/>
                  <a:pt x="13558" y="15089"/>
                  <a:pt x="13526" y="15113"/>
                </a:cubicBezTo>
                <a:cubicBezTo>
                  <a:pt x="13445" y="15174"/>
                  <a:pt x="13478" y="15208"/>
                  <a:pt x="13494" y="15240"/>
                </a:cubicBezTo>
                <a:cubicBezTo>
                  <a:pt x="13511" y="15274"/>
                  <a:pt x="13533" y="15298"/>
                  <a:pt x="13589" y="15304"/>
                </a:cubicBezTo>
                <a:cubicBezTo>
                  <a:pt x="13621" y="15304"/>
                  <a:pt x="13631" y="15304"/>
                  <a:pt x="13652" y="15304"/>
                </a:cubicBezTo>
              </a:path>
              <a:path w="8605" h="1842">
                <a:moveTo>
                  <a:pt x="13621" y="15430"/>
                </a:moveTo>
                <a:cubicBezTo>
                  <a:pt x="13661" y="15461"/>
                  <a:pt x="13735" y="15485"/>
                  <a:pt x="13780" y="15494"/>
                </a:cubicBezTo>
                <a:cubicBezTo>
                  <a:pt x="13826" y="15503"/>
                  <a:pt x="13890" y="15494"/>
                  <a:pt x="13938" y="15494"/>
                </a:cubicBezTo>
              </a:path>
              <a:path w="8605" h="1842">
                <a:moveTo>
                  <a:pt x="14192" y="15050"/>
                </a:moveTo>
                <a:cubicBezTo>
                  <a:pt x="14192" y="15118"/>
                  <a:pt x="14164" y="15138"/>
                  <a:pt x="14160" y="15208"/>
                </a:cubicBezTo>
                <a:cubicBezTo>
                  <a:pt x="14155" y="15291"/>
                  <a:pt x="14119" y="15300"/>
                  <a:pt x="14097" y="15367"/>
                </a:cubicBezTo>
                <a:cubicBezTo>
                  <a:pt x="14086" y="15400"/>
                  <a:pt x="14097" y="15459"/>
                  <a:pt x="14097" y="15494"/>
                </a:cubicBezTo>
                <a:cubicBezTo>
                  <a:pt x="14161" y="15445"/>
                  <a:pt x="14155" y="15477"/>
                  <a:pt x="14224" y="15494"/>
                </a:cubicBezTo>
                <a:cubicBezTo>
                  <a:pt x="14237" y="15532"/>
                  <a:pt x="14277" y="15547"/>
                  <a:pt x="14319" y="15589"/>
                </a:cubicBezTo>
                <a:cubicBezTo>
                  <a:pt x="14348" y="15618"/>
                  <a:pt x="14354" y="15629"/>
                  <a:pt x="14383" y="15621"/>
                </a:cubicBezTo>
              </a:path>
              <a:path w="8605" h="1842">
                <a:moveTo>
                  <a:pt x="14414" y="15621"/>
                </a:moveTo>
                <a:lnTo>
                  <a:pt x="14414" y="15621"/>
                </a:lnTo>
              </a:path>
              <a:path w="8605" h="1842">
                <a:moveTo>
                  <a:pt x="14510" y="15050"/>
                </a:moveTo>
                <a:cubicBezTo>
                  <a:pt x="14478" y="15071"/>
                  <a:pt x="14428" y="15204"/>
                  <a:pt x="14414" y="15272"/>
                </a:cubicBezTo>
                <a:cubicBezTo>
                  <a:pt x="14394" y="15367"/>
                  <a:pt x="14335" y="15466"/>
                  <a:pt x="14319" y="15558"/>
                </a:cubicBezTo>
                <a:cubicBezTo>
                  <a:pt x="14301" y="15659"/>
                  <a:pt x="14248" y="15724"/>
                  <a:pt x="14224" y="15812"/>
                </a:cubicBezTo>
                <a:cubicBezTo>
                  <a:pt x="14203" y="15891"/>
                  <a:pt x="14210" y="15886"/>
                  <a:pt x="14192" y="15938"/>
                </a:cubicBezTo>
              </a:path>
              <a:path w="8605" h="1842">
                <a:moveTo>
                  <a:pt x="14859" y="15018"/>
                </a:moveTo>
                <a:cubicBezTo>
                  <a:pt x="14844" y="15079"/>
                  <a:pt x="14798" y="15092"/>
                  <a:pt x="14764" y="15145"/>
                </a:cubicBezTo>
                <a:cubicBezTo>
                  <a:pt x="14728" y="15200"/>
                  <a:pt x="14652" y="15304"/>
                  <a:pt x="14637" y="15367"/>
                </a:cubicBezTo>
                <a:cubicBezTo>
                  <a:pt x="14619" y="15443"/>
                  <a:pt x="14567" y="15607"/>
                  <a:pt x="14573" y="15684"/>
                </a:cubicBezTo>
                <a:cubicBezTo>
                  <a:pt x="14579" y="15762"/>
                  <a:pt x="14608" y="15933"/>
                  <a:pt x="14637" y="16002"/>
                </a:cubicBezTo>
                <a:cubicBezTo>
                  <a:pt x="14650" y="16034"/>
                  <a:pt x="14707" y="16073"/>
                  <a:pt x="14732" y="16097"/>
                </a:cubicBezTo>
              </a:path>
              <a:path w="8605" h="1842">
                <a:moveTo>
                  <a:pt x="14859" y="15462"/>
                </a:moveTo>
                <a:cubicBezTo>
                  <a:pt x="14870" y="15462"/>
                  <a:pt x="14880" y="15462"/>
                  <a:pt x="14891" y="15462"/>
                </a:cubicBezTo>
                <a:cubicBezTo>
                  <a:pt x="14907" y="15513"/>
                  <a:pt x="14941" y="15496"/>
                  <a:pt x="14986" y="15526"/>
                </a:cubicBezTo>
                <a:cubicBezTo>
                  <a:pt x="15033" y="15557"/>
                  <a:pt x="15024" y="15558"/>
                  <a:pt x="15081" y="15558"/>
                </a:cubicBezTo>
              </a:path>
              <a:path w="8605" h="1842">
                <a:moveTo>
                  <a:pt x="15208" y="15304"/>
                </a:moveTo>
                <a:cubicBezTo>
                  <a:pt x="15208" y="15372"/>
                  <a:pt x="15187" y="15398"/>
                  <a:pt x="15176" y="15462"/>
                </a:cubicBezTo>
                <a:cubicBezTo>
                  <a:pt x="15161" y="15546"/>
                  <a:pt x="15100" y="15598"/>
                  <a:pt x="15081" y="15684"/>
                </a:cubicBezTo>
                <a:cubicBezTo>
                  <a:pt x="15067" y="15747"/>
                  <a:pt x="15050" y="15809"/>
                  <a:pt x="15050" y="15875"/>
                </a:cubicBezTo>
              </a:path>
              <a:path w="8605" h="1842">
                <a:moveTo>
                  <a:pt x="15430" y="15304"/>
                </a:moveTo>
                <a:cubicBezTo>
                  <a:pt x="15414" y="15368"/>
                  <a:pt x="15351" y="15423"/>
                  <a:pt x="15335" y="15494"/>
                </a:cubicBezTo>
                <a:cubicBezTo>
                  <a:pt x="15316" y="15579"/>
                  <a:pt x="15277" y="15660"/>
                  <a:pt x="15272" y="15748"/>
                </a:cubicBezTo>
                <a:cubicBezTo>
                  <a:pt x="15270" y="15789"/>
                  <a:pt x="15292" y="15885"/>
                  <a:pt x="15335" y="15907"/>
                </a:cubicBezTo>
                <a:cubicBezTo>
                  <a:pt x="15346" y="15907"/>
                  <a:pt x="15356" y="15907"/>
                  <a:pt x="15367" y="15907"/>
                </a:cubicBezTo>
              </a:path>
              <a:path w="8605" h="1842">
                <a:moveTo>
                  <a:pt x="15399" y="15907"/>
                </a:moveTo>
                <a:cubicBezTo>
                  <a:pt x="15472" y="15877"/>
                  <a:pt x="15506" y="15829"/>
                  <a:pt x="15526" y="15748"/>
                </a:cubicBezTo>
                <a:cubicBezTo>
                  <a:pt x="15536" y="15709"/>
                  <a:pt x="15534" y="15641"/>
                  <a:pt x="15494" y="15621"/>
                </a:cubicBezTo>
                <a:cubicBezTo>
                  <a:pt x="15453" y="15600"/>
                  <a:pt x="15416" y="15640"/>
                  <a:pt x="15399" y="15653"/>
                </a:cubicBezTo>
                <a:cubicBezTo>
                  <a:pt x="15338" y="15698"/>
                  <a:pt x="15310" y="15775"/>
                  <a:pt x="15304" y="15843"/>
                </a:cubicBezTo>
                <a:cubicBezTo>
                  <a:pt x="15304" y="15854"/>
                  <a:pt x="15304" y="15864"/>
                  <a:pt x="15304" y="15875"/>
                </a:cubicBezTo>
              </a:path>
              <a:path w="8605" h="1842">
                <a:moveTo>
                  <a:pt x="15684" y="15018"/>
                </a:moveTo>
                <a:cubicBezTo>
                  <a:pt x="15723" y="15120"/>
                  <a:pt x="15722" y="15229"/>
                  <a:pt x="15748" y="15335"/>
                </a:cubicBezTo>
                <a:cubicBezTo>
                  <a:pt x="15778" y="15457"/>
                  <a:pt x="15780" y="15558"/>
                  <a:pt x="15780" y="15684"/>
                </a:cubicBezTo>
                <a:cubicBezTo>
                  <a:pt x="15780" y="15774"/>
                  <a:pt x="15781" y="15856"/>
                  <a:pt x="15748" y="15938"/>
                </a:cubicBezTo>
                <a:cubicBezTo>
                  <a:pt x="15736" y="15969"/>
                  <a:pt x="15684" y="16082"/>
                  <a:pt x="15653" y="16097"/>
                </a:cubicBezTo>
                <a:cubicBezTo>
                  <a:pt x="15611" y="16118"/>
                  <a:pt x="15621" y="16129"/>
                  <a:pt x="15558" y="16129"/>
                </a:cubicBezTo>
              </a:path>
              <a:path w="8605" h="1842">
                <a:moveTo>
                  <a:pt x="16256" y="15018"/>
                </a:moveTo>
                <a:lnTo>
                  <a:pt x="16256" y="15018"/>
                </a:lnTo>
              </a:path>
              <a:path w="8605" h="1842">
                <a:moveTo>
                  <a:pt x="16256" y="15018"/>
                </a:moveTo>
                <a:cubicBezTo>
                  <a:pt x="16256" y="15029"/>
                  <a:pt x="16256" y="15039"/>
                  <a:pt x="16256" y="15050"/>
                </a:cubicBezTo>
              </a:path>
              <a:path w="8605" h="1842">
                <a:moveTo>
                  <a:pt x="16256" y="15050"/>
                </a:moveTo>
                <a:cubicBezTo>
                  <a:pt x="16202" y="15067"/>
                  <a:pt x="16202" y="15149"/>
                  <a:pt x="16161" y="15208"/>
                </a:cubicBezTo>
                <a:cubicBezTo>
                  <a:pt x="16109" y="15283"/>
                  <a:pt x="16047" y="15349"/>
                  <a:pt x="16002" y="15430"/>
                </a:cubicBezTo>
                <a:cubicBezTo>
                  <a:pt x="15956" y="15513"/>
                  <a:pt x="15922" y="15626"/>
                  <a:pt x="15907" y="15716"/>
                </a:cubicBezTo>
                <a:cubicBezTo>
                  <a:pt x="15895" y="15791"/>
                  <a:pt x="15893" y="15914"/>
                  <a:pt x="15938" y="15970"/>
                </a:cubicBezTo>
                <a:cubicBezTo>
                  <a:pt x="15977" y="16020"/>
                  <a:pt x="15970" y="15986"/>
                  <a:pt x="15970" y="15970"/>
                </a:cubicBezTo>
              </a:path>
              <a:path w="8605" h="1842">
                <a:moveTo>
                  <a:pt x="16224" y="15399"/>
                </a:moveTo>
                <a:cubicBezTo>
                  <a:pt x="16266" y="15399"/>
                  <a:pt x="16309" y="15399"/>
                  <a:pt x="16351" y="15399"/>
                </a:cubicBezTo>
              </a:path>
              <a:path w="8605" h="1842">
                <a:moveTo>
                  <a:pt x="16542" y="15367"/>
                </a:moveTo>
                <a:cubicBezTo>
                  <a:pt x="16542" y="15413"/>
                  <a:pt x="16533" y="15460"/>
                  <a:pt x="16510" y="15494"/>
                </a:cubicBezTo>
                <a:cubicBezTo>
                  <a:pt x="16471" y="15553"/>
                  <a:pt x="16446" y="15547"/>
                  <a:pt x="16446" y="15621"/>
                </a:cubicBezTo>
                <a:cubicBezTo>
                  <a:pt x="16446" y="15632"/>
                  <a:pt x="16446" y="15642"/>
                  <a:pt x="16446" y="15653"/>
                </a:cubicBezTo>
                <a:cubicBezTo>
                  <a:pt x="16476" y="15663"/>
                  <a:pt x="16507" y="15664"/>
                  <a:pt x="16542" y="15684"/>
                </a:cubicBezTo>
                <a:cubicBezTo>
                  <a:pt x="16589" y="15710"/>
                  <a:pt x="16616" y="15735"/>
                  <a:pt x="16669" y="15748"/>
                </a:cubicBezTo>
              </a:path>
              <a:path w="8605" h="1842">
                <a:moveTo>
                  <a:pt x="16796" y="15335"/>
                </a:moveTo>
                <a:cubicBezTo>
                  <a:pt x="16781" y="15397"/>
                  <a:pt x="16744" y="15458"/>
                  <a:pt x="16732" y="15526"/>
                </a:cubicBezTo>
                <a:cubicBezTo>
                  <a:pt x="16717" y="15613"/>
                  <a:pt x="16683" y="15695"/>
                  <a:pt x="16669" y="15780"/>
                </a:cubicBezTo>
                <a:cubicBezTo>
                  <a:pt x="16656" y="15859"/>
                  <a:pt x="16637" y="15920"/>
                  <a:pt x="16637" y="16002"/>
                </a:cubicBezTo>
              </a:path>
              <a:path w="8605" h="1842">
                <a:moveTo>
                  <a:pt x="17050" y="15367"/>
                </a:moveTo>
                <a:cubicBezTo>
                  <a:pt x="17037" y="15419"/>
                  <a:pt x="16996" y="15477"/>
                  <a:pt x="16986" y="15526"/>
                </a:cubicBezTo>
                <a:cubicBezTo>
                  <a:pt x="16967" y="15618"/>
                  <a:pt x="16952" y="15725"/>
                  <a:pt x="16923" y="15812"/>
                </a:cubicBezTo>
                <a:cubicBezTo>
                  <a:pt x="16892" y="15873"/>
                  <a:pt x="16881" y="15891"/>
                  <a:pt x="16891" y="15938"/>
                </a:cubicBezTo>
              </a:path>
              <a:path w="8605" h="1842">
                <a:moveTo>
                  <a:pt x="17240" y="15494"/>
                </a:moveTo>
                <a:cubicBezTo>
                  <a:pt x="17198" y="15508"/>
                  <a:pt x="17190" y="15594"/>
                  <a:pt x="17177" y="15653"/>
                </a:cubicBezTo>
                <a:cubicBezTo>
                  <a:pt x="17158" y="15738"/>
                  <a:pt x="17131" y="15822"/>
                  <a:pt x="17113" y="15907"/>
                </a:cubicBezTo>
                <a:cubicBezTo>
                  <a:pt x="17096" y="15986"/>
                  <a:pt x="17126" y="16015"/>
                  <a:pt x="17177" y="16066"/>
                </a:cubicBezTo>
              </a:path>
              <a:path w="8605" h="1842">
                <a:moveTo>
                  <a:pt x="17272" y="16066"/>
                </a:moveTo>
                <a:cubicBezTo>
                  <a:pt x="17315" y="16012"/>
                  <a:pt x="17377" y="15942"/>
                  <a:pt x="17399" y="15875"/>
                </a:cubicBezTo>
                <a:cubicBezTo>
                  <a:pt x="17419" y="15814"/>
                  <a:pt x="17394" y="15769"/>
                  <a:pt x="17367" y="15748"/>
                </a:cubicBezTo>
                <a:cubicBezTo>
                  <a:pt x="17357" y="15737"/>
                  <a:pt x="17346" y="15727"/>
                  <a:pt x="17336" y="15716"/>
                </a:cubicBezTo>
                <a:cubicBezTo>
                  <a:pt x="17289" y="15751"/>
                  <a:pt x="17254" y="15766"/>
                  <a:pt x="17208" y="15812"/>
                </a:cubicBezTo>
                <a:cubicBezTo>
                  <a:pt x="17176" y="15844"/>
                  <a:pt x="17145" y="15875"/>
                  <a:pt x="17113" y="15907"/>
                </a:cubicBezTo>
              </a:path>
              <a:path w="8605" h="1842">
                <a:moveTo>
                  <a:pt x="15367" y="14859"/>
                </a:moveTo>
                <a:lnTo>
                  <a:pt x="15367" y="14859"/>
                </a:lnTo>
              </a:path>
              <a:path w="8605" h="1842">
                <a:moveTo>
                  <a:pt x="15367" y="14859"/>
                </a:moveTo>
                <a:cubicBezTo>
                  <a:pt x="15378" y="14859"/>
                  <a:pt x="15388" y="14859"/>
                  <a:pt x="15399" y="14859"/>
                </a:cubicBezTo>
              </a:path>
              <a:path w="8605" h="1842">
                <a:moveTo>
                  <a:pt x="15399" y="14859"/>
                </a:moveTo>
                <a:cubicBezTo>
                  <a:pt x="15604" y="14859"/>
                  <a:pt x="15806" y="14865"/>
                  <a:pt x="16002" y="14891"/>
                </a:cubicBezTo>
                <a:cubicBezTo>
                  <a:pt x="16192" y="14916"/>
                  <a:pt x="16389" y="14892"/>
                  <a:pt x="16574" y="14922"/>
                </a:cubicBezTo>
                <a:cubicBezTo>
                  <a:pt x="16658" y="14936"/>
                  <a:pt x="16745" y="14948"/>
                  <a:pt x="16828" y="14954"/>
                </a:cubicBezTo>
                <a:cubicBezTo>
                  <a:pt x="16891" y="14959"/>
                  <a:pt x="16955" y="14954"/>
                  <a:pt x="17018" y="14954"/>
                </a:cubicBezTo>
              </a:path>
              <a:path w="8605" h="1842">
                <a:moveTo>
                  <a:pt x="17462" y="15399"/>
                </a:moveTo>
                <a:cubicBezTo>
                  <a:pt x="17473" y="15388"/>
                  <a:pt x="17483" y="15378"/>
                  <a:pt x="17494" y="15367"/>
                </a:cubicBezTo>
                <a:cubicBezTo>
                  <a:pt x="17510" y="15431"/>
                  <a:pt x="17567" y="15457"/>
                  <a:pt x="17590" y="15526"/>
                </a:cubicBezTo>
                <a:cubicBezTo>
                  <a:pt x="17612" y="15592"/>
                  <a:pt x="17621" y="15644"/>
                  <a:pt x="17621" y="15716"/>
                </a:cubicBezTo>
                <a:cubicBezTo>
                  <a:pt x="17621" y="15800"/>
                  <a:pt x="17598" y="15860"/>
                  <a:pt x="17590" y="15938"/>
                </a:cubicBezTo>
                <a:cubicBezTo>
                  <a:pt x="17590" y="15974"/>
                  <a:pt x="17587" y="15988"/>
                  <a:pt x="17558" y="16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11"/>
          <p:cNvSpPr/>
          <p:nvPr/>
        </p:nvSpPr>
        <p:spPr>
          <a:xfrm>
            <a:off x="4286160" y="5886360"/>
            <a:ext cx="754200" cy="468360"/>
          </a:xfrm>
          <a:custGeom>
            <a:avLst/>
            <a:gdLst/>
            <a:ahLst/>
            <a:rect l="l" t="t" r="r" b="b"/>
            <a:pathLst>
              <a:path w="2097" h="1303">
                <a:moveTo>
                  <a:pt x="12002" y="16446"/>
                </a:moveTo>
                <a:lnTo>
                  <a:pt x="12002" y="16446"/>
                </a:lnTo>
              </a:path>
              <a:path w="2097" h="1303">
                <a:moveTo>
                  <a:pt x="12319" y="16415"/>
                </a:moveTo>
                <a:cubicBezTo>
                  <a:pt x="12330" y="16425"/>
                  <a:pt x="12340" y="16436"/>
                  <a:pt x="12351" y="16446"/>
                </a:cubicBezTo>
              </a:path>
              <a:path w="2097" h="1303">
                <a:moveTo>
                  <a:pt x="12319" y="16415"/>
                </a:moveTo>
                <a:cubicBezTo>
                  <a:pt x="12340" y="16436"/>
                  <a:pt x="12361" y="16457"/>
                  <a:pt x="12382" y="16478"/>
                </a:cubicBezTo>
              </a:path>
              <a:path w="2097" h="1303">
                <a:moveTo>
                  <a:pt x="12382" y="16478"/>
                </a:moveTo>
                <a:cubicBezTo>
                  <a:pt x="12436" y="16496"/>
                  <a:pt x="12421" y="16530"/>
                  <a:pt x="12382" y="16574"/>
                </a:cubicBezTo>
                <a:cubicBezTo>
                  <a:pt x="12334" y="16629"/>
                  <a:pt x="12297" y="16720"/>
                  <a:pt x="12256" y="16764"/>
                </a:cubicBezTo>
                <a:cubicBezTo>
                  <a:pt x="12201" y="16823"/>
                  <a:pt x="12124" y="16830"/>
                  <a:pt x="12065" y="16859"/>
                </a:cubicBezTo>
                <a:cubicBezTo>
                  <a:pt x="12015" y="16884"/>
                  <a:pt x="11989" y="16963"/>
                  <a:pt x="11938" y="16986"/>
                </a:cubicBezTo>
                <a:cubicBezTo>
                  <a:pt x="11872" y="17015"/>
                  <a:pt x="11970" y="16968"/>
                  <a:pt x="12002" y="16986"/>
                </a:cubicBezTo>
                <a:cubicBezTo>
                  <a:pt x="12044" y="17010"/>
                  <a:pt x="12091" y="16997"/>
                  <a:pt x="12128" y="17018"/>
                </a:cubicBezTo>
                <a:cubicBezTo>
                  <a:pt x="12169" y="17041"/>
                  <a:pt x="12227" y="17013"/>
                  <a:pt x="12256" y="17050"/>
                </a:cubicBezTo>
                <a:cubicBezTo>
                  <a:pt x="12281" y="17081"/>
                  <a:pt x="12310" y="17100"/>
                  <a:pt x="12351" y="17113"/>
                </a:cubicBezTo>
              </a:path>
              <a:path w="2097" h="1303">
                <a:moveTo>
                  <a:pt x="12922" y="16351"/>
                </a:moveTo>
                <a:cubicBezTo>
                  <a:pt x="12867" y="16406"/>
                  <a:pt x="12780" y="16426"/>
                  <a:pt x="12732" y="16478"/>
                </a:cubicBezTo>
                <a:cubicBezTo>
                  <a:pt x="12647" y="16570"/>
                  <a:pt x="12567" y="16671"/>
                  <a:pt x="12541" y="16796"/>
                </a:cubicBezTo>
                <a:cubicBezTo>
                  <a:pt x="12523" y="16880"/>
                  <a:pt x="12491" y="16993"/>
                  <a:pt x="12510" y="17082"/>
                </a:cubicBezTo>
                <a:cubicBezTo>
                  <a:pt x="12531" y="17179"/>
                  <a:pt x="12547" y="17282"/>
                  <a:pt x="12605" y="17367"/>
                </a:cubicBezTo>
                <a:cubicBezTo>
                  <a:pt x="12634" y="17410"/>
                  <a:pt x="12655" y="17399"/>
                  <a:pt x="12700" y="17399"/>
                </a:cubicBezTo>
              </a:path>
              <a:path w="2097" h="1303">
                <a:moveTo>
                  <a:pt x="12795" y="16796"/>
                </a:moveTo>
                <a:cubicBezTo>
                  <a:pt x="12847" y="16796"/>
                  <a:pt x="12913" y="16804"/>
                  <a:pt x="12954" y="16828"/>
                </a:cubicBezTo>
                <a:cubicBezTo>
                  <a:pt x="12986" y="16859"/>
                  <a:pt x="12997" y="16870"/>
                  <a:pt x="13018" y="16891"/>
                </a:cubicBezTo>
              </a:path>
              <a:path w="2097" h="1303">
                <a:moveTo>
                  <a:pt x="13272" y="16574"/>
                </a:moveTo>
                <a:cubicBezTo>
                  <a:pt x="13256" y="16635"/>
                  <a:pt x="13219" y="16696"/>
                  <a:pt x="13208" y="16764"/>
                </a:cubicBezTo>
                <a:cubicBezTo>
                  <a:pt x="13192" y="16860"/>
                  <a:pt x="13158" y="16900"/>
                  <a:pt x="13113" y="16986"/>
                </a:cubicBezTo>
                <a:cubicBezTo>
                  <a:pt x="13074" y="17059"/>
                  <a:pt x="13060" y="17132"/>
                  <a:pt x="13049" y="17208"/>
                </a:cubicBezTo>
              </a:path>
              <a:path w="2097" h="1303">
                <a:moveTo>
                  <a:pt x="13494" y="16605"/>
                </a:moveTo>
                <a:cubicBezTo>
                  <a:pt x="13479" y="16680"/>
                  <a:pt x="13462" y="16756"/>
                  <a:pt x="13430" y="16828"/>
                </a:cubicBezTo>
                <a:cubicBezTo>
                  <a:pt x="13389" y="16919"/>
                  <a:pt x="13396" y="17020"/>
                  <a:pt x="13367" y="17113"/>
                </a:cubicBezTo>
                <a:cubicBezTo>
                  <a:pt x="13336" y="17212"/>
                  <a:pt x="13322" y="17239"/>
                  <a:pt x="13367" y="17336"/>
                </a:cubicBezTo>
                <a:cubicBezTo>
                  <a:pt x="13397" y="17400"/>
                  <a:pt x="13440" y="17467"/>
                  <a:pt x="13526" y="17431"/>
                </a:cubicBezTo>
                <a:cubicBezTo>
                  <a:pt x="13590" y="17404"/>
                  <a:pt x="13622" y="17350"/>
                  <a:pt x="13652" y="17304"/>
                </a:cubicBezTo>
                <a:cubicBezTo>
                  <a:pt x="13702" y="17229"/>
                  <a:pt x="13676" y="17249"/>
                  <a:pt x="13652" y="17177"/>
                </a:cubicBezTo>
                <a:cubicBezTo>
                  <a:pt x="13636" y="17129"/>
                  <a:pt x="13615" y="17145"/>
                  <a:pt x="13557" y="17145"/>
                </a:cubicBezTo>
                <a:cubicBezTo>
                  <a:pt x="13486" y="17145"/>
                  <a:pt x="13444" y="17193"/>
                  <a:pt x="13398" y="17240"/>
                </a:cubicBezTo>
                <a:cubicBezTo>
                  <a:pt x="13363" y="17275"/>
                  <a:pt x="13365" y="17296"/>
                  <a:pt x="13335" y="17336"/>
                </a:cubicBezTo>
              </a:path>
              <a:path w="2097" h="1303">
                <a:moveTo>
                  <a:pt x="13811" y="16383"/>
                </a:moveTo>
                <a:cubicBezTo>
                  <a:pt x="13870" y="16456"/>
                  <a:pt x="13910" y="16547"/>
                  <a:pt x="13938" y="16637"/>
                </a:cubicBezTo>
                <a:cubicBezTo>
                  <a:pt x="13974" y="16753"/>
                  <a:pt x="13997" y="16898"/>
                  <a:pt x="14002" y="17018"/>
                </a:cubicBezTo>
                <a:cubicBezTo>
                  <a:pt x="14006" y="17115"/>
                  <a:pt x="13977" y="17217"/>
                  <a:pt x="13938" y="17304"/>
                </a:cubicBezTo>
                <a:cubicBezTo>
                  <a:pt x="13913" y="17360"/>
                  <a:pt x="13861" y="17458"/>
                  <a:pt x="13811" y="17494"/>
                </a:cubicBezTo>
                <a:cubicBezTo>
                  <a:pt x="13736" y="17548"/>
                  <a:pt x="13704" y="17605"/>
                  <a:pt x="13621" y="17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12"/>
          <p:cNvSpPr/>
          <p:nvPr/>
        </p:nvSpPr>
        <p:spPr>
          <a:xfrm>
            <a:off x="6550200" y="5052960"/>
            <a:ext cx="2046240" cy="1268640"/>
          </a:xfrm>
          <a:custGeom>
            <a:avLst/>
            <a:gdLst/>
            <a:ahLst/>
            <a:rect l="l" t="t" r="r" b="b"/>
            <a:pathLst>
              <a:path w="5684" h="3525">
                <a:moveTo>
                  <a:pt x="18256" y="15907"/>
                </a:moveTo>
                <a:cubicBezTo>
                  <a:pt x="18302" y="15881"/>
                  <a:pt x="18339" y="15856"/>
                  <a:pt x="18383" y="15812"/>
                </a:cubicBezTo>
                <a:cubicBezTo>
                  <a:pt x="18442" y="15753"/>
                  <a:pt x="18467" y="15697"/>
                  <a:pt x="18542" y="15653"/>
                </a:cubicBezTo>
                <a:cubicBezTo>
                  <a:pt x="18630" y="15600"/>
                  <a:pt x="18681" y="15522"/>
                  <a:pt x="18764" y="15462"/>
                </a:cubicBezTo>
                <a:cubicBezTo>
                  <a:pt x="18848" y="15401"/>
                  <a:pt x="18932" y="15329"/>
                  <a:pt x="19018" y="15272"/>
                </a:cubicBezTo>
                <a:cubicBezTo>
                  <a:pt x="19102" y="15216"/>
                  <a:pt x="19194" y="15177"/>
                  <a:pt x="19272" y="15113"/>
                </a:cubicBezTo>
                <a:cubicBezTo>
                  <a:pt x="19334" y="15062"/>
                  <a:pt x="19396" y="14998"/>
                  <a:pt x="19463" y="14954"/>
                </a:cubicBezTo>
                <a:cubicBezTo>
                  <a:pt x="19515" y="14920"/>
                  <a:pt x="19572" y="14913"/>
                  <a:pt x="19622" y="14891"/>
                </a:cubicBezTo>
              </a:path>
              <a:path w="5684" h="3525">
                <a:moveTo>
                  <a:pt x="18224" y="16637"/>
                </a:moveTo>
                <a:cubicBezTo>
                  <a:pt x="18166" y="16637"/>
                  <a:pt x="18245" y="16648"/>
                  <a:pt x="18256" y="16700"/>
                </a:cubicBezTo>
                <a:cubicBezTo>
                  <a:pt x="18279" y="16809"/>
                  <a:pt x="18317" y="16809"/>
                  <a:pt x="18383" y="16891"/>
                </a:cubicBezTo>
                <a:cubicBezTo>
                  <a:pt x="18444" y="16967"/>
                  <a:pt x="18478" y="17070"/>
                  <a:pt x="18542" y="17145"/>
                </a:cubicBezTo>
                <a:cubicBezTo>
                  <a:pt x="18610" y="17225"/>
                  <a:pt x="18667" y="17293"/>
                  <a:pt x="18732" y="17367"/>
                </a:cubicBezTo>
                <a:cubicBezTo>
                  <a:pt x="18799" y="17443"/>
                  <a:pt x="18871" y="17505"/>
                  <a:pt x="18955" y="17558"/>
                </a:cubicBezTo>
              </a:path>
              <a:path w="5684" h="3525">
                <a:moveTo>
                  <a:pt x="20320" y="14764"/>
                </a:moveTo>
                <a:cubicBezTo>
                  <a:pt x="20369" y="14727"/>
                  <a:pt x="20385" y="14732"/>
                  <a:pt x="20447" y="14732"/>
                </a:cubicBezTo>
                <a:cubicBezTo>
                  <a:pt x="20512" y="14732"/>
                  <a:pt x="20637" y="14710"/>
                  <a:pt x="20606" y="14732"/>
                </a:cubicBezTo>
                <a:cubicBezTo>
                  <a:pt x="20556" y="14768"/>
                  <a:pt x="20524" y="14739"/>
                  <a:pt x="20479" y="14764"/>
                </a:cubicBezTo>
                <a:cubicBezTo>
                  <a:pt x="20434" y="14789"/>
                  <a:pt x="20406" y="14821"/>
                  <a:pt x="20352" y="14827"/>
                </a:cubicBezTo>
                <a:cubicBezTo>
                  <a:pt x="20269" y="14836"/>
                  <a:pt x="20398" y="14827"/>
                  <a:pt x="20415" y="14827"/>
                </a:cubicBezTo>
                <a:cubicBezTo>
                  <a:pt x="20477" y="14827"/>
                  <a:pt x="20493" y="14822"/>
                  <a:pt x="20542" y="14859"/>
                </a:cubicBezTo>
              </a:path>
              <a:path w="5684" h="3525">
                <a:moveTo>
                  <a:pt x="20923" y="14351"/>
                </a:moveTo>
                <a:cubicBezTo>
                  <a:pt x="20923" y="14258"/>
                  <a:pt x="20952" y="14327"/>
                  <a:pt x="20987" y="14256"/>
                </a:cubicBezTo>
                <a:cubicBezTo>
                  <a:pt x="21011" y="14208"/>
                  <a:pt x="21015" y="14167"/>
                  <a:pt x="21082" y="14160"/>
                </a:cubicBezTo>
                <a:cubicBezTo>
                  <a:pt x="21133" y="14154"/>
                  <a:pt x="21142" y="14210"/>
                  <a:pt x="21146" y="14256"/>
                </a:cubicBezTo>
                <a:cubicBezTo>
                  <a:pt x="21156" y="14371"/>
                  <a:pt x="21132" y="14468"/>
                  <a:pt x="21114" y="14573"/>
                </a:cubicBezTo>
                <a:cubicBezTo>
                  <a:pt x="21096" y="14678"/>
                  <a:pt x="21065" y="14785"/>
                  <a:pt x="21050" y="14891"/>
                </a:cubicBezTo>
                <a:cubicBezTo>
                  <a:pt x="21039" y="14967"/>
                  <a:pt x="21003" y="15015"/>
                  <a:pt x="20987" y="15081"/>
                </a:cubicBezTo>
                <a:cubicBezTo>
                  <a:pt x="20998" y="15047"/>
                  <a:pt x="21010" y="15023"/>
                  <a:pt x="21050" y="15018"/>
                </a:cubicBezTo>
                <a:cubicBezTo>
                  <a:pt x="21115" y="15010"/>
                  <a:pt x="21127" y="15033"/>
                  <a:pt x="21177" y="15050"/>
                </a:cubicBezTo>
                <a:cubicBezTo>
                  <a:pt x="21209" y="15050"/>
                  <a:pt x="21219" y="15050"/>
                  <a:pt x="21209" y="15081"/>
                </a:cubicBezTo>
              </a:path>
              <a:path w="5684" h="3525">
                <a:moveTo>
                  <a:pt x="21368" y="14319"/>
                </a:moveTo>
                <a:cubicBezTo>
                  <a:pt x="21368" y="14446"/>
                  <a:pt x="21368" y="14573"/>
                  <a:pt x="21368" y="14700"/>
                </a:cubicBezTo>
                <a:cubicBezTo>
                  <a:pt x="21384" y="14652"/>
                  <a:pt x="21406" y="14668"/>
                  <a:pt x="21463" y="14668"/>
                </a:cubicBezTo>
                <a:cubicBezTo>
                  <a:pt x="21526" y="14668"/>
                  <a:pt x="21604" y="14688"/>
                  <a:pt x="21622" y="14637"/>
                </a:cubicBezTo>
              </a:path>
              <a:path w="5684" h="3525">
                <a:moveTo>
                  <a:pt x="21685" y="14097"/>
                </a:moveTo>
                <a:cubicBezTo>
                  <a:pt x="21685" y="14333"/>
                  <a:pt x="21679" y="14570"/>
                  <a:pt x="21717" y="14796"/>
                </a:cubicBezTo>
                <a:cubicBezTo>
                  <a:pt x="21723" y="14833"/>
                  <a:pt x="21717" y="14883"/>
                  <a:pt x="21717" y="14922"/>
                </a:cubicBezTo>
              </a:path>
              <a:path w="5684" h="3525">
                <a:moveTo>
                  <a:pt x="21876" y="14160"/>
                </a:moveTo>
                <a:cubicBezTo>
                  <a:pt x="21887" y="14150"/>
                  <a:pt x="21897" y="14139"/>
                  <a:pt x="21908" y="14129"/>
                </a:cubicBezTo>
                <a:cubicBezTo>
                  <a:pt x="21908" y="14222"/>
                  <a:pt x="21881" y="14289"/>
                  <a:pt x="21876" y="14383"/>
                </a:cubicBezTo>
                <a:cubicBezTo>
                  <a:pt x="21869" y="14527"/>
                  <a:pt x="21883" y="14672"/>
                  <a:pt x="21908" y="14796"/>
                </a:cubicBezTo>
                <a:cubicBezTo>
                  <a:pt x="21925" y="14879"/>
                  <a:pt x="21913" y="14891"/>
                  <a:pt x="22003" y="14891"/>
                </a:cubicBezTo>
                <a:cubicBezTo>
                  <a:pt x="22072" y="14891"/>
                  <a:pt x="22073" y="14817"/>
                  <a:pt x="22098" y="14764"/>
                </a:cubicBezTo>
                <a:cubicBezTo>
                  <a:pt x="22142" y="14670"/>
                  <a:pt x="22130" y="14582"/>
                  <a:pt x="22130" y="14478"/>
                </a:cubicBezTo>
                <a:cubicBezTo>
                  <a:pt x="22130" y="14389"/>
                  <a:pt x="22120" y="14329"/>
                  <a:pt x="22098" y="14256"/>
                </a:cubicBezTo>
                <a:cubicBezTo>
                  <a:pt x="22083" y="14205"/>
                  <a:pt x="22064" y="14167"/>
                  <a:pt x="22003" y="14160"/>
                </a:cubicBezTo>
                <a:cubicBezTo>
                  <a:pt x="21971" y="14160"/>
                  <a:pt x="21960" y="14160"/>
                  <a:pt x="21939" y="14160"/>
                </a:cubicBezTo>
              </a:path>
              <a:path w="5684" h="3525">
                <a:moveTo>
                  <a:pt x="22542" y="14034"/>
                </a:moveTo>
                <a:cubicBezTo>
                  <a:pt x="22492" y="14051"/>
                  <a:pt x="22511" y="14097"/>
                  <a:pt x="22511" y="14160"/>
                </a:cubicBezTo>
                <a:cubicBezTo>
                  <a:pt x="22511" y="14243"/>
                  <a:pt x="22538" y="14302"/>
                  <a:pt x="22542" y="14383"/>
                </a:cubicBezTo>
                <a:cubicBezTo>
                  <a:pt x="22547" y="14472"/>
                  <a:pt x="22574" y="14547"/>
                  <a:pt x="22574" y="14637"/>
                </a:cubicBezTo>
                <a:cubicBezTo>
                  <a:pt x="22574" y="14668"/>
                  <a:pt x="22574" y="14679"/>
                  <a:pt x="22574" y="14700"/>
                </a:cubicBezTo>
              </a:path>
              <a:path w="5684" h="3525">
                <a:moveTo>
                  <a:pt x="22479" y="14288"/>
                </a:moveTo>
                <a:cubicBezTo>
                  <a:pt x="22595" y="14288"/>
                  <a:pt x="22712" y="14288"/>
                  <a:pt x="22828" y="14288"/>
                </a:cubicBezTo>
              </a:path>
              <a:path w="5684" h="3525">
                <a:moveTo>
                  <a:pt x="20764" y="15430"/>
                </a:moveTo>
                <a:cubicBezTo>
                  <a:pt x="20791" y="15412"/>
                  <a:pt x="20830" y="15389"/>
                  <a:pt x="20892" y="15367"/>
                </a:cubicBezTo>
                <a:cubicBezTo>
                  <a:pt x="20957" y="15344"/>
                  <a:pt x="21046" y="15315"/>
                  <a:pt x="21114" y="15304"/>
                </a:cubicBezTo>
                <a:cubicBezTo>
                  <a:pt x="21209" y="15288"/>
                  <a:pt x="21303" y="15251"/>
                  <a:pt x="21400" y="15240"/>
                </a:cubicBezTo>
                <a:cubicBezTo>
                  <a:pt x="21549" y="15223"/>
                  <a:pt x="21646" y="15199"/>
                  <a:pt x="21780" y="15145"/>
                </a:cubicBezTo>
                <a:cubicBezTo>
                  <a:pt x="21918" y="15089"/>
                  <a:pt x="22052" y="15084"/>
                  <a:pt x="22193" y="15050"/>
                </a:cubicBezTo>
                <a:cubicBezTo>
                  <a:pt x="22345" y="15013"/>
                  <a:pt x="22489" y="14990"/>
                  <a:pt x="22638" y="14954"/>
                </a:cubicBezTo>
                <a:cubicBezTo>
                  <a:pt x="22787" y="14918"/>
                  <a:pt x="22936" y="14873"/>
                  <a:pt x="23082" y="14827"/>
                </a:cubicBezTo>
                <a:cubicBezTo>
                  <a:pt x="23201" y="14789"/>
                  <a:pt x="23318" y="14770"/>
                  <a:pt x="23432" y="14732"/>
                </a:cubicBezTo>
                <a:cubicBezTo>
                  <a:pt x="23533" y="14698"/>
                  <a:pt x="23612" y="14700"/>
                  <a:pt x="23717" y="14700"/>
                </a:cubicBezTo>
                <a:cubicBezTo>
                  <a:pt x="23770" y="14700"/>
                  <a:pt x="23823" y="14700"/>
                  <a:pt x="23876" y="14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13"/>
          <p:cNvSpPr/>
          <p:nvPr/>
        </p:nvSpPr>
        <p:spPr>
          <a:xfrm>
            <a:off x="3371760" y="4125960"/>
            <a:ext cx="811440" cy="492120"/>
          </a:xfrm>
          <a:custGeom>
            <a:avLst/>
            <a:gdLst/>
            <a:ahLst/>
            <a:rect l="l" t="t" r="r" b="b"/>
            <a:pathLst>
              <a:path w="2255" h="1366">
                <a:moveTo>
                  <a:pt x="9430" y="11811"/>
                </a:moveTo>
                <a:cubicBezTo>
                  <a:pt x="9401" y="11840"/>
                  <a:pt x="9395" y="11851"/>
                  <a:pt x="9366" y="11843"/>
                </a:cubicBezTo>
                <a:cubicBezTo>
                  <a:pt x="9446" y="11843"/>
                  <a:pt x="9490" y="11852"/>
                  <a:pt x="9557" y="11874"/>
                </a:cubicBezTo>
                <a:cubicBezTo>
                  <a:pt x="9633" y="11899"/>
                  <a:pt x="9711" y="11860"/>
                  <a:pt x="9779" y="11843"/>
                </a:cubicBezTo>
                <a:cubicBezTo>
                  <a:pt x="9790" y="11843"/>
                  <a:pt x="9800" y="11843"/>
                  <a:pt x="9811" y="11843"/>
                </a:cubicBezTo>
              </a:path>
              <a:path w="2255" h="1366">
                <a:moveTo>
                  <a:pt x="10255" y="11589"/>
                </a:moveTo>
                <a:cubicBezTo>
                  <a:pt x="10272" y="11656"/>
                  <a:pt x="10287" y="11698"/>
                  <a:pt x="10287" y="11779"/>
                </a:cubicBezTo>
                <a:cubicBezTo>
                  <a:pt x="10287" y="11906"/>
                  <a:pt x="10275" y="12010"/>
                  <a:pt x="10255" y="12128"/>
                </a:cubicBezTo>
                <a:cubicBezTo>
                  <a:pt x="10245" y="12190"/>
                  <a:pt x="10230" y="12354"/>
                  <a:pt x="10255" y="12319"/>
                </a:cubicBezTo>
                <a:cubicBezTo>
                  <a:pt x="10291" y="12269"/>
                  <a:pt x="10342" y="12251"/>
                  <a:pt x="10382" y="12224"/>
                </a:cubicBezTo>
                <a:cubicBezTo>
                  <a:pt x="10430" y="12192"/>
                  <a:pt x="10466" y="12216"/>
                  <a:pt x="10509" y="12192"/>
                </a:cubicBezTo>
                <a:cubicBezTo>
                  <a:pt x="10562" y="12162"/>
                  <a:pt x="10571" y="12160"/>
                  <a:pt x="10636" y="12160"/>
                </a:cubicBezTo>
                <a:cubicBezTo>
                  <a:pt x="10703" y="12160"/>
                  <a:pt x="10704" y="12166"/>
                  <a:pt x="10732" y="12128"/>
                </a:cubicBezTo>
                <a:cubicBezTo>
                  <a:pt x="10742" y="12118"/>
                  <a:pt x="10753" y="12107"/>
                  <a:pt x="10763" y="12097"/>
                </a:cubicBezTo>
              </a:path>
              <a:path w="2255" h="1366">
                <a:moveTo>
                  <a:pt x="10732" y="11462"/>
                </a:moveTo>
                <a:cubicBezTo>
                  <a:pt x="10677" y="11480"/>
                  <a:pt x="10700" y="11549"/>
                  <a:pt x="10700" y="11620"/>
                </a:cubicBezTo>
                <a:cubicBezTo>
                  <a:pt x="10700" y="11748"/>
                  <a:pt x="10668" y="11869"/>
                  <a:pt x="10668" y="12002"/>
                </a:cubicBezTo>
                <a:cubicBezTo>
                  <a:pt x="10668" y="12277"/>
                  <a:pt x="10668" y="12552"/>
                  <a:pt x="10668" y="12827"/>
                </a:cubicBezTo>
              </a:path>
              <a:path w="2255" h="1366">
                <a:moveTo>
                  <a:pt x="11081" y="11525"/>
                </a:moveTo>
                <a:cubicBezTo>
                  <a:pt x="11024" y="11544"/>
                  <a:pt x="11049" y="11616"/>
                  <a:pt x="11049" y="11684"/>
                </a:cubicBezTo>
                <a:cubicBezTo>
                  <a:pt x="11049" y="11859"/>
                  <a:pt x="11032" y="11992"/>
                  <a:pt x="10986" y="12160"/>
                </a:cubicBezTo>
                <a:cubicBezTo>
                  <a:pt x="10952" y="12285"/>
                  <a:pt x="10928" y="12415"/>
                  <a:pt x="10922" y="12541"/>
                </a:cubicBezTo>
                <a:cubicBezTo>
                  <a:pt x="10918" y="12629"/>
                  <a:pt x="10869" y="12661"/>
                  <a:pt x="10922" y="12732"/>
                </a:cubicBezTo>
              </a:path>
              <a:path w="2255" h="1366">
                <a:moveTo>
                  <a:pt x="11271" y="11589"/>
                </a:moveTo>
                <a:cubicBezTo>
                  <a:pt x="11271" y="11722"/>
                  <a:pt x="11254" y="11842"/>
                  <a:pt x="11240" y="11970"/>
                </a:cubicBezTo>
                <a:cubicBezTo>
                  <a:pt x="11226" y="12097"/>
                  <a:pt x="11222" y="12227"/>
                  <a:pt x="11208" y="12351"/>
                </a:cubicBezTo>
                <a:cubicBezTo>
                  <a:pt x="11200" y="12423"/>
                  <a:pt x="11214" y="12598"/>
                  <a:pt x="11240" y="12668"/>
                </a:cubicBezTo>
                <a:cubicBezTo>
                  <a:pt x="11249" y="12691"/>
                  <a:pt x="11306" y="12770"/>
                  <a:pt x="11335" y="12764"/>
                </a:cubicBezTo>
                <a:cubicBezTo>
                  <a:pt x="11373" y="12755"/>
                  <a:pt x="11469" y="12703"/>
                  <a:pt x="11494" y="12668"/>
                </a:cubicBezTo>
                <a:cubicBezTo>
                  <a:pt x="11551" y="12589"/>
                  <a:pt x="11567" y="12501"/>
                  <a:pt x="11589" y="12414"/>
                </a:cubicBezTo>
                <a:cubicBezTo>
                  <a:pt x="11613" y="12319"/>
                  <a:pt x="11620" y="12256"/>
                  <a:pt x="11620" y="12160"/>
                </a:cubicBezTo>
                <a:cubicBezTo>
                  <a:pt x="11620" y="12124"/>
                  <a:pt x="11617" y="12111"/>
                  <a:pt x="11589" y="12097"/>
                </a:cubicBezTo>
                <a:cubicBezTo>
                  <a:pt x="11518" y="12114"/>
                  <a:pt x="11498" y="12157"/>
                  <a:pt x="11462" y="12224"/>
                </a:cubicBezTo>
                <a:cubicBezTo>
                  <a:pt x="11414" y="12314"/>
                  <a:pt x="11378" y="12414"/>
                  <a:pt x="11366" y="12510"/>
                </a:cubicBezTo>
                <a:cubicBezTo>
                  <a:pt x="11352" y="12620"/>
                  <a:pt x="11346" y="12693"/>
                  <a:pt x="11366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4"/>
          <p:cNvSpPr/>
          <p:nvPr/>
        </p:nvSpPr>
        <p:spPr>
          <a:xfrm>
            <a:off x="7165800" y="5475240"/>
            <a:ext cx="1270080" cy="1074960"/>
          </a:xfrm>
          <a:custGeom>
            <a:avLst/>
            <a:gdLst/>
            <a:ahLst/>
            <a:rect l="l" t="t" r="r" b="b"/>
            <a:pathLst>
              <a:path w="3526" h="2986">
                <a:moveTo>
                  <a:pt x="21463" y="15589"/>
                </a:moveTo>
                <a:cubicBezTo>
                  <a:pt x="21505" y="15589"/>
                  <a:pt x="21548" y="15589"/>
                  <a:pt x="21590" y="15589"/>
                </a:cubicBezTo>
              </a:path>
              <a:path w="3526" h="2986">
                <a:moveTo>
                  <a:pt x="21812" y="15304"/>
                </a:moveTo>
                <a:cubicBezTo>
                  <a:pt x="21838" y="15278"/>
                  <a:pt x="21900" y="15212"/>
                  <a:pt x="21908" y="15208"/>
                </a:cubicBezTo>
                <a:cubicBezTo>
                  <a:pt x="21918" y="15208"/>
                  <a:pt x="21929" y="15208"/>
                  <a:pt x="21939" y="15208"/>
                </a:cubicBezTo>
                <a:cubicBezTo>
                  <a:pt x="21976" y="15257"/>
                  <a:pt x="21971" y="15273"/>
                  <a:pt x="21971" y="15335"/>
                </a:cubicBezTo>
                <a:cubicBezTo>
                  <a:pt x="21971" y="15372"/>
                  <a:pt x="21957" y="15461"/>
                  <a:pt x="21939" y="15494"/>
                </a:cubicBezTo>
                <a:cubicBezTo>
                  <a:pt x="21929" y="15505"/>
                  <a:pt x="21918" y="15515"/>
                  <a:pt x="21908" y="15526"/>
                </a:cubicBezTo>
                <a:cubicBezTo>
                  <a:pt x="21948" y="15470"/>
                  <a:pt x="21931" y="15462"/>
                  <a:pt x="22003" y="15462"/>
                </a:cubicBezTo>
                <a:cubicBezTo>
                  <a:pt x="22095" y="15462"/>
                  <a:pt x="22028" y="15491"/>
                  <a:pt x="22098" y="15526"/>
                </a:cubicBezTo>
                <a:cubicBezTo>
                  <a:pt x="22147" y="15550"/>
                  <a:pt x="22130" y="15581"/>
                  <a:pt x="22130" y="15653"/>
                </a:cubicBezTo>
                <a:cubicBezTo>
                  <a:pt x="22130" y="15718"/>
                  <a:pt x="22140" y="15760"/>
                  <a:pt x="22098" y="15812"/>
                </a:cubicBezTo>
                <a:cubicBezTo>
                  <a:pt x="22087" y="15826"/>
                  <a:pt x="22038" y="15943"/>
                  <a:pt x="22003" y="15907"/>
                </a:cubicBezTo>
                <a:cubicBezTo>
                  <a:pt x="22003" y="15896"/>
                  <a:pt x="22003" y="15886"/>
                  <a:pt x="22003" y="15875"/>
                </a:cubicBezTo>
              </a:path>
              <a:path w="3526" h="2986">
                <a:moveTo>
                  <a:pt x="22162" y="15399"/>
                </a:moveTo>
                <a:cubicBezTo>
                  <a:pt x="22209" y="15383"/>
                  <a:pt x="22198" y="15370"/>
                  <a:pt x="22225" y="15335"/>
                </a:cubicBezTo>
                <a:cubicBezTo>
                  <a:pt x="22258" y="15292"/>
                  <a:pt x="22291" y="15294"/>
                  <a:pt x="22320" y="15272"/>
                </a:cubicBezTo>
                <a:cubicBezTo>
                  <a:pt x="22331" y="15261"/>
                  <a:pt x="22341" y="15251"/>
                  <a:pt x="22352" y="15240"/>
                </a:cubicBezTo>
                <a:cubicBezTo>
                  <a:pt x="22364" y="15290"/>
                  <a:pt x="22384" y="15310"/>
                  <a:pt x="22384" y="15367"/>
                </a:cubicBezTo>
                <a:cubicBezTo>
                  <a:pt x="22384" y="15426"/>
                  <a:pt x="22369" y="15528"/>
                  <a:pt x="22352" y="15589"/>
                </a:cubicBezTo>
                <a:cubicBezTo>
                  <a:pt x="22333" y="15656"/>
                  <a:pt x="22295" y="15717"/>
                  <a:pt x="22288" y="15780"/>
                </a:cubicBezTo>
                <a:cubicBezTo>
                  <a:pt x="22280" y="15855"/>
                  <a:pt x="22254" y="15797"/>
                  <a:pt x="22288" y="15780"/>
                </a:cubicBezTo>
                <a:cubicBezTo>
                  <a:pt x="22319" y="15764"/>
                  <a:pt x="22333" y="15726"/>
                  <a:pt x="22352" y="15716"/>
                </a:cubicBezTo>
                <a:cubicBezTo>
                  <a:pt x="22414" y="15685"/>
                  <a:pt x="22493" y="15739"/>
                  <a:pt x="22511" y="15748"/>
                </a:cubicBezTo>
                <a:cubicBezTo>
                  <a:pt x="22542" y="15748"/>
                  <a:pt x="22553" y="15748"/>
                  <a:pt x="22574" y="15748"/>
                </a:cubicBezTo>
              </a:path>
              <a:path w="3526" h="2986">
                <a:moveTo>
                  <a:pt x="19907" y="17050"/>
                </a:moveTo>
                <a:cubicBezTo>
                  <a:pt x="19966" y="17050"/>
                  <a:pt x="19982" y="17076"/>
                  <a:pt x="20034" y="17082"/>
                </a:cubicBezTo>
                <a:cubicBezTo>
                  <a:pt x="20045" y="17082"/>
                  <a:pt x="20055" y="17082"/>
                  <a:pt x="20066" y="17082"/>
                </a:cubicBezTo>
                <a:cubicBezTo>
                  <a:pt x="20086" y="17140"/>
                  <a:pt x="20110" y="17086"/>
                  <a:pt x="20130" y="17145"/>
                </a:cubicBezTo>
              </a:path>
              <a:path w="3526" h="2986">
                <a:moveTo>
                  <a:pt x="20384" y="16796"/>
                </a:moveTo>
                <a:cubicBezTo>
                  <a:pt x="20384" y="16728"/>
                  <a:pt x="20380" y="16657"/>
                  <a:pt x="20415" y="16605"/>
                </a:cubicBezTo>
                <a:cubicBezTo>
                  <a:pt x="20451" y="16552"/>
                  <a:pt x="20483" y="16542"/>
                  <a:pt x="20542" y="16542"/>
                </a:cubicBezTo>
                <a:cubicBezTo>
                  <a:pt x="20542" y="16610"/>
                  <a:pt x="20563" y="16636"/>
                  <a:pt x="20574" y="16700"/>
                </a:cubicBezTo>
                <a:cubicBezTo>
                  <a:pt x="20590" y="16792"/>
                  <a:pt x="20556" y="16843"/>
                  <a:pt x="20542" y="16923"/>
                </a:cubicBezTo>
                <a:cubicBezTo>
                  <a:pt x="20528" y="17004"/>
                  <a:pt x="20530" y="17067"/>
                  <a:pt x="20510" y="17145"/>
                </a:cubicBezTo>
                <a:cubicBezTo>
                  <a:pt x="20495" y="17203"/>
                  <a:pt x="20536" y="17220"/>
                  <a:pt x="20479" y="17240"/>
                </a:cubicBezTo>
                <a:cubicBezTo>
                  <a:pt x="20495" y="17191"/>
                  <a:pt x="20506" y="17204"/>
                  <a:pt x="20542" y="17177"/>
                </a:cubicBezTo>
                <a:cubicBezTo>
                  <a:pt x="20613" y="17124"/>
                  <a:pt x="20601" y="17154"/>
                  <a:pt x="20669" y="17177"/>
                </a:cubicBezTo>
                <a:cubicBezTo>
                  <a:pt x="20712" y="17191"/>
                  <a:pt x="20709" y="17221"/>
                  <a:pt x="20764" y="17240"/>
                </a:cubicBezTo>
                <a:cubicBezTo>
                  <a:pt x="20775" y="17240"/>
                  <a:pt x="20785" y="17240"/>
                  <a:pt x="20796" y="17240"/>
                </a:cubicBezTo>
              </a:path>
              <a:path w="3526" h="2986">
                <a:moveTo>
                  <a:pt x="20796" y="16510"/>
                </a:moveTo>
                <a:cubicBezTo>
                  <a:pt x="20796" y="16637"/>
                  <a:pt x="20796" y="16764"/>
                  <a:pt x="20796" y="16891"/>
                </a:cubicBezTo>
                <a:cubicBezTo>
                  <a:pt x="20837" y="16836"/>
                  <a:pt x="20821" y="16828"/>
                  <a:pt x="20892" y="16828"/>
                </a:cubicBezTo>
                <a:cubicBezTo>
                  <a:pt x="20948" y="16828"/>
                  <a:pt x="20969" y="16847"/>
                  <a:pt x="21018" y="16859"/>
                </a:cubicBezTo>
              </a:path>
              <a:path w="3526" h="2986">
                <a:moveTo>
                  <a:pt x="21018" y="16351"/>
                </a:moveTo>
                <a:cubicBezTo>
                  <a:pt x="21018" y="16556"/>
                  <a:pt x="21019" y="16758"/>
                  <a:pt x="21050" y="16954"/>
                </a:cubicBezTo>
                <a:cubicBezTo>
                  <a:pt x="21060" y="17014"/>
                  <a:pt x="21050" y="17083"/>
                  <a:pt x="21050" y="17145"/>
                </a:cubicBezTo>
              </a:path>
              <a:path w="3526" h="2986">
                <a:moveTo>
                  <a:pt x="21146" y="16446"/>
                </a:moveTo>
                <a:cubicBezTo>
                  <a:pt x="21146" y="16569"/>
                  <a:pt x="21164" y="16677"/>
                  <a:pt x="21177" y="16796"/>
                </a:cubicBezTo>
                <a:cubicBezTo>
                  <a:pt x="21188" y="16897"/>
                  <a:pt x="21152" y="16991"/>
                  <a:pt x="21209" y="17082"/>
                </a:cubicBezTo>
                <a:cubicBezTo>
                  <a:pt x="21238" y="17110"/>
                  <a:pt x="21249" y="17116"/>
                  <a:pt x="21241" y="17145"/>
                </a:cubicBezTo>
                <a:cubicBezTo>
                  <a:pt x="21292" y="17145"/>
                  <a:pt x="21343" y="17137"/>
                  <a:pt x="21368" y="17082"/>
                </a:cubicBezTo>
                <a:cubicBezTo>
                  <a:pt x="21391" y="17030"/>
                  <a:pt x="21421" y="16953"/>
                  <a:pt x="21431" y="16891"/>
                </a:cubicBezTo>
                <a:cubicBezTo>
                  <a:pt x="21454" y="16750"/>
                  <a:pt x="21431" y="16589"/>
                  <a:pt x="21431" y="16446"/>
                </a:cubicBezTo>
                <a:cubicBezTo>
                  <a:pt x="21354" y="16446"/>
                  <a:pt x="21366" y="16482"/>
                  <a:pt x="21304" y="16510"/>
                </a:cubicBezTo>
                <a:cubicBezTo>
                  <a:pt x="21259" y="16530"/>
                  <a:pt x="21287" y="16526"/>
                  <a:pt x="21241" y="16542"/>
                </a:cubicBezTo>
              </a:path>
              <a:path w="3526" h="2986">
                <a:moveTo>
                  <a:pt x="21685" y="16605"/>
                </a:moveTo>
                <a:cubicBezTo>
                  <a:pt x="21726" y="16575"/>
                  <a:pt x="21795" y="16547"/>
                  <a:pt x="21844" y="16542"/>
                </a:cubicBezTo>
                <a:cubicBezTo>
                  <a:pt x="21889" y="16537"/>
                  <a:pt x="21939" y="16553"/>
                  <a:pt x="21971" y="16574"/>
                </a:cubicBezTo>
                <a:cubicBezTo>
                  <a:pt x="22000" y="16602"/>
                  <a:pt x="22006" y="16612"/>
                  <a:pt x="22034" y="16605"/>
                </a:cubicBezTo>
              </a:path>
              <a:path w="3526" h="2986">
                <a:moveTo>
                  <a:pt x="20256" y="17590"/>
                </a:moveTo>
                <a:cubicBezTo>
                  <a:pt x="20276" y="17574"/>
                  <a:pt x="20307" y="17545"/>
                  <a:pt x="20352" y="17526"/>
                </a:cubicBezTo>
                <a:cubicBezTo>
                  <a:pt x="20400" y="17506"/>
                  <a:pt x="20489" y="17473"/>
                  <a:pt x="20542" y="17462"/>
                </a:cubicBezTo>
                <a:cubicBezTo>
                  <a:pt x="20631" y="17443"/>
                  <a:pt x="20709" y="17429"/>
                  <a:pt x="20796" y="17399"/>
                </a:cubicBezTo>
                <a:cubicBezTo>
                  <a:pt x="20888" y="17367"/>
                  <a:pt x="21020" y="17320"/>
                  <a:pt x="21114" y="17304"/>
                </a:cubicBezTo>
                <a:cubicBezTo>
                  <a:pt x="21230" y="17285"/>
                  <a:pt x="21344" y="17272"/>
                  <a:pt x="21463" y="17272"/>
                </a:cubicBezTo>
                <a:cubicBezTo>
                  <a:pt x="21627" y="17272"/>
                  <a:pt x="21778" y="17195"/>
                  <a:pt x="21939" y="17177"/>
                </a:cubicBezTo>
                <a:cubicBezTo>
                  <a:pt x="22060" y="17164"/>
                  <a:pt x="22169" y="17130"/>
                  <a:pt x="22288" y="17113"/>
                </a:cubicBezTo>
                <a:cubicBezTo>
                  <a:pt x="22386" y="17099"/>
                  <a:pt x="22481" y="17066"/>
                  <a:pt x="22574" y="17050"/>
                </a:cubicBezTo>
                <a:cubicBezTo>
                  <a:pt x="22653" y="17037"/>
                  <a:pt x="22715" y="17024"/>
                  <a:pt x="22796" y="17018"/>
                </a:cubicBezTo>
                <a:cubicBezTo>
                  <a:pt x="22807" y="17018"/>
                  <a:pt x="22817" y="17018"/>
                  <a:pt x="22828" y="17018"/>
                </a:cubicBezTo>
              </a:path>
              <a:path w="3526" h="2986">
                <a:moveTo>
                  <a:pt x="20860" y="17907"/>
                </a:moveTo>
                <a:cubicBezTo>
                  <a:pt x="20927" y="17907"/>
                  <a:pt x="20938" y="17922"/>
                  <a:pt x="20987" y="17970"/>
                </a:cubicBezTo>
                <a:cubicBezTo>
                  <a:pt x="21031" y="17937"/>
                  <a:pt x="21027" y="17939"/>
                  <a:pt x="21082" y="17939"/>
                </a:cubicBezTo>
              </a:path>
              <a:path w="3526" h="2986">
                <a:moveTo>
                  <a:pt x="21209" y="17844"/>
                </a:moveTo>
                <a:cubicBezTo>
                  <a:pt x="21234" y="17811"/>
                  <a:pt x="21245" y="17703"/>
                  <a:pt x="21272" y="17685"/>
                </a:cubicBezTo>
                <a:cubicBezTo>
                  <a:pt x="21287" y="17675"/>
                  <a:pt x="21331" y="17605"/>
                  <a:pt x="21368" y="17621"/>
                </a:cubicBezTo>
                <a:cubicBezTo>
                  <a:pt x="21401" y="17636"/>
                  <a:pt x="21418" y="17717"/>
                  <a:pt x="21400" y="17748"/>
                </a:cubicBezTo>
                <a:cubicBezTo>
                  <a:pt x="21368" y="17805"/>
                  <a:pt x="21346" y="17821"/>
                  <a:pt x="21368" y="17812"/>
                </a:cubicBezTo>
                <a:cubicBezTo>
                  <a:pt x="21414" y="17794"/>
                  <a:pt x="21396" y="17780"/>
                  <a:pt x="21463" y="17780"/>
                </a:cubicBezTo>
                <a:cubicBezTo>
                  <a:pt x="21516" y="17780"/>
                  <a:pt x="21501" y="17838"/>
                  <a:pt x="21526" y="17875"/>
                </a:cubicBezTo>
                <a:cubicBezTo>
                  <a:pt x="21568" y="17937"/>
                  <a:pt x="21558" y="17988"/>
                  <a:pt x="21558" y="18066"/>
                </a:cubicBezTo>
                <a:cubicBezTo>
                  <a:pt x="21558" y="18123"/>
                  <a:pt x="21505" y="18141"/>
                  <a:pt x="21495" y="18161"/>
                </a:cubicBezTo>
                <a:cubicBezTo>
                  <a:pt x="21495" y="18193"/>
                  <a:pt x="21495" y="18204"/>
                  <a:pt x="21463" y="18193"/>
                </a:cubicBezTo>
                <a:cubicBezTo>
                  <a:pt x="21420" y="18179"/>
                  <a:pt x="21434" y="18176"/>
                  <a:pt x="21400" y="18129"/>
                </a:cubicBezTo>
              </a:path>
              <a:path w="3526" h="2986">
                <a:moveTo>
                  <a:pt x="21558" y="17716"/>
                </a:moveTo>
                <a:cubicBezTo>
                  <a:pt x="21601" y="17702"/>
                  <a:pt x="21596" y="17666"/>
                  <a:pt x="21622" y="17653"/>
                </a:cubicBezTo>
                <a:cubicBezTo>
                  <a:pt x="21662" y="17633"/>
                  <a:pt x="21703" y="17601"/>
                  <a:pt x="21749" y="17590"/>
                </a:cubicBezTo>
                <a:cubicBezTo>
                  <a:pt x="21761" y="17639"/>
                  <a:pt x="21780" y="17660"/>
                  <a:pt x="21780" y="17716"/>
                </a:cubicBezTo>
                <a:cubicBezTo>
                  <a:pt x="21780" y="17795"/>
                  <a:pt x="21767" y="17833"/>
                  <a:pt x="21749" y="17907"/>
                </a:cubicBezTo>
                <a:cubicBezTo>
                  <a:pt x="21731" y="17979"/>
                  <a:pt x="21651" y="18065"/>
                  <a:pt x="21717" y="18098"/>
                </a:cubicBezTo>
                <a:cubicBezTo>
                  <a:pt x="21755" y="18117"/>
                  <a:pt x="21786" y="18099"/>
                  <a:pt x="21812" y="18066"/>
                </a:cubicBezTo>
                <a:cubicBezTo>
                  <a:pt x="21812" y="18034"/>
                  <a:pt x="21812" y="18023"/>
                  <a:pt x="21844" y="18034"/>
                </a:cubicBezTo>
                <a:cubicBezTo>
                  <a:pt x="21890" y="18068"/>
                  <a:pt x="21949" y="18085"/>
                  <a:pt x="22003" y="18098"/>
                </a:cubicBezTo>
              </a:path>
              <a:path w="3526" h="2986">
                <a:moveTo>
                  <a:pt x="22288" y="16192"/>
                </a:moveTo>
                <a:lnTo>
                  <a:pt x="22288" y="16192"/>
                </a:lnTo>
              </a:path>
              <a:path w="3526" h="2986">
                <a:moveTo>
                  <a:pt x="22288" y="16192"/>
                </a:moveTo>
                <a:cubicBezTo>
                  <a:pt x="22288" y="16203"/>
                  <a:pt x="22288" y="16213"/>
                  <a:pt x="22288" y="16224"/>
                </a:cubicBezTo>
              </a:path>
              <a:path w="3526" h="2986">
                <a:moveTo>
                  <a:pt x="22288" y="16224"/>
                </a:moveTo>
                <a:cubicBezTo>
                  <a:pt x="22288" y="16460"/>
                  <a:pt x="22284" y="16697"/>
                  <a:pt x="22320" y="16923"/>
                </a:cubicBezTo>
                <a:cubicBezTo>
                  <a:pt x="22333" y="17006"/>
                  <a:pt x="22331" y="17074"/>
                  <a:pt x="22352" y="17145"/>
                </a:cubicBezTo>
                <a:cubicBezTo>
                  <a:pt x="22352" y="17156"/>
                  <a:pt x="22352" y="17166"/>
                  <a:pt x="22352" y="17177"/>
                </a:cubicBezTo>
              </a:path>
              <a:path w="3526" h="2986">
                <a:moveTo>
                  <a:pt x="22447" y="16224"/>
                </a:moveTo>
                <a:cubicBezTo>
                  <a:pt x="22490" y="16181"/>
                  <a:pt x="22514" y="16138"/>
                  <a:pt x="22542" y="16097"/>
                </a:cubicBezTo>
                <a:cubicBezTo>
                  <a:pt x="22558" y="16074"/>
                  <a:pt x="22636" y="16003"/>
                  <a:pt x="22638" y="16002"/>
                </a:cubicBezTo>
                <a:cubicBezTo>
                  <a:pt x="22649" y="16002"/>
                  <a:pt x="22659" y="16002"/>
                  <a:pt x="22670" y="16002"/>
                </a:cubicBezTo>
                <a:cubicBezTo>
                  <a:pt x="22670" y="16080"/>
                  <a:pt x="22648" y="16122"/>
                  <a:pt x="22638" y="16192"/>
                </a:cubicBezTo>
                <a:cubicBezTo>
                  <a:pt x="22624" y="16292"/>
                  <a:pt x="22632" y="16413"/>
                  <a:pt x="22606" y="16510"/>
                </a:cubicBezTo>
                <a:cubicBezTo>
                  <a:pt x="22577" y="16618"/>
                  <a:pt x="22574" y="16712"/>
                  <a:pt x="22574" y="16828"/>
                </a:cubicBezTo>
                <a:cubicBezTo>
                  <a:pt x="22574" y="16913"/>
                  <a:pt x="22574" y="16997"/>
                  <a:pt x="22574" y="17082"/>
                </a:cubicBezTo>
              </a:path>
              <a:path w="3526" h="2986">
                <a:moveTo>
                  <a:pt x="22733" y="16224"/>
                </a:moveTo>
                <a:cubicBezTo>
                  <a:pt x="22733" y="16138"/>
                  <a:pt x="22733" y="16273"/>
                  <a:pt x="22733" y="16288"/>
                </a:cubicBezTo>
                <a:cubicBezTo>
                  <a:pt x="22733" y="16371"/>
                  <a:pt x="22705" y="16429"/>
                  <a:pt x="22701" y="16510"/>
                </a:cubicBezTo>
                <a:cubicBezTo>
                  <a:pt x="22696" y="16634"/>
                  <a:pt x="22712" y="16755"/>
                  <a:pt x="22733" y="16859"/>
                </a:cubicBezTo>
                <a:cubicBezTo>
                  <a:pt x="22754" y="16964"/>
                  <a:pt x="22741" y="16885"/>
                  <a:pt x="22765" y="16954"/>
                </a:cubicBezTo>
                <a:cubicBezTo>
                  <a:pt x="22798" y="16954"/>
                  <a:pt x="22877" y="16945"/>
                  <a:pt x="22892" y="16923"/>
                </a:cubicBezTo>
                <a:cubicBezTo>
                  <a:pt x="22919" y="16883"/>
                  <a:pt x="22940" y="16814"/>
                  <a:pt x="22955" y="16764"/>
                </a:cubicBezTo>
                <a:cubicBezTo>
                  <a:pt x="22983" y="16670"/>
                  <a:pt x="22987" y="16606"/>
                  <a:pt x="22987" y="16510"/>
                </a:cubicBezTo>
                <a:cubicBezTo>
                  <a:pt x="22987" y="16468"/>
                  <a:pt x="22987" y="16425"/>
                  <a:pt x="22987" y="16383"/>
                </a:cubicBezTo>
                <a:cubicBezTo>
                  <a:pt x="22941" y="16444"/>
                  <a:pt x="22943" y="16500"/>
                  <a:pt x="22924" y="16574"/>
                </a:cubicBezTo>
                <a:cubicBezTo>
                  <a:pt x="22895" y="16685"/>
                  <a:pt x="22892" y="16776"/>
                  <a:pt x="22892" y="16891"/>
                </a:cubicBezTo>
                <a:cubicBezTo>
                  <a:pt x="22892" y="16962"/>
                  <a:pt x="22873" y="16969"/>
                  <a:pt x="22924" y="16986"/>
                </a:cubicBezTo>
              </a:path>
              <a:path w="3526" h="2986">
                <a:moveTo>
                  <a:pt x="23178" y="17113"/>
                </a:moveTo>
                <a:cubicBezTo>
                  <a:pt x="23178" y="17103"/>
                  <a:pt x="23178" y="17092"/>
                  <a:pt x="23178" y="17082"/>
                </a:cubicBezTo>
                <a:cubicBezTo>
                  <a:pt x="23267" y="17082"/>
                  <a:pt x="23326" y="17089"/>
                  <a:pt x="23400" y="17113"/>
                </a:cubicBezTo>
                <a:cubicBezTo>
                  <a:pt x="23411" y="17113"/>
                  <a:pt x="23421" y="17113"/>
                  <a:pt x="23432" y="17113"/>
                </a:cubicBezTo>
              </a:path>
              <a:path w="3526" h="2986">
                <a:moveTo>
                  <a:pt x="23178" y="17431"/>
                </a:moveTo>
                <a:cubicBezTo>
                  <a:pt x="23218" y="17421"/>
                  <a:pt x="23263" y="17414"/>
                  <a:pt x="23304" y="17399"/>
                </a:cubicBezTo>
                <a:cubicBezTo>
                  <a:pt x="23370" y="17375"/>
                  <a:pt x="23369" y="17367"/>
                  <a:pt x="23432" y="1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15"/>
          <p:cNvSpPr/>
          <p:nvPr/>
        </p:nvSpPr>
        <p:spPr>
          <a:xfrm>
            <a:off x="8298000" y="4903920"/>
            <a:ext cx="263520" cy="377640"/>
          </a:xfrm>
          <a:custGeom>
            <a:avLst/>
            <a:gdLst/>
            <a:ahLst/>
            <a:rect l="l" t="t" r="r" b="b"/>
            <a:pathLst>
              <a:path w="732" h="1048">
                <a:moveTo>
                  <a:pt x="23050" y="13716"/>
                </a:moveTo>
                <a:cubicBezTo>
                  <a:pt x="23050" y="14033"/>
                  <a:pt x="23050" y="14351"/>
                  <a:pt x="23050" y="14668"/>
                </a:cubicBezTo>
              </a:path>
              <a:path w="732" h="1048">
                <a:moveTo>
                  <a:pt x="23209" y="13875"/>
                </a:moveTo>
                <a:cubicBezTo>
                  <a:pt x="23221" y="13840"/>
                  <a:pt x="23266" y="13823"/>
                  <a:pt x="23304" y="13780"/>
                </a:cubicBezTo>
                <a:cubicBezTo>
                  <a:pt x="23353" y="13724"/>
                  <a:pt x="23410" y="13674"/>
                  <a:pt x="23463" y="13621"/>
                </a:cubicBezTo>
                <a:cubicBezTo>
                  <a:pt x="23463" y="13680"/>
                  <a:pt x="23442" y="13702"/>
                  <a:pt x="23432" y="13748"/>
                </a:cubicBezTo>
                <a:cubicBezTo>
                  <a:pt x="23414" y="13832"/>
                  <a:pt x="23427" y="13921"/>
                  <a:pt x="23400" y="14002"/>
                </a:cubicBezTo>
                <a:cubicBezTo>
                  <a:pt x="23367" y="14099"/>
                  <a:pt x="23351" y="14215"/>
                  <a:pt x="23336" y="14319"/>
                </a:cubicBezTo>
                <a:cubicBezTo>
                  <a:pt x="23324" y="14400"/>
                  <a:pt x="23336" y="14491"/>
                  <a:pt x="23336" y="14573"/>
                </a:cubicBezTo>
              </a:path>
              <a:path w="732" h="1048">
                <a:moveTo>
                  <a:pt x="23622" y="13652"/>
                </a:moveTo>
                <a:cubicBezTo>
                  <a:pt x="23604" y="13723"/>
                  <a:pt x="23570" y="13792"/>
                  <a:pt x="23558" y="13875"/>
                </a:cubicBezTo>
                <a:cubicBezTo>
                  <a:pt x="23536" y="14028"/>
                  <a:pt x="23528" y="14276"/>
                  <a:pt x="23590" y="14414"/>
                </a:cubicBezTo>
                <a:cubicBezTo>
                  <a:pt x="23625" y="14492"/>
                  <a:pt x="23618" y="14478"/>
                  <a:pt x="23686" y="14478"/>
                </a:cubicBezTo>
                <a:cubicBezTo>
                  <a:pt x="23739" y="14460"/>
                  <a:pt x="23745" y="14387"/>
                  <a:pt x="23749" y="14319"/>
                </a:cubicBezTo>
                <a:cubicBezTo>
                  <a:pt x="23754" y="14230"/>
                  <a:pt x="23781" y="14155"/>
                  <a:pt x="23781" y="14065"/>
                </a:cubicBezTo>
                <a:cubicBezTo>
                  <a:pt x="23781" y="14034"/>
                  <a:pt x="23781" y="14023"/>
                  <a:pt x="23781" y="14002"/>
                </a:cubicBezTo>
                <a:cubicBezTo>
                  <a:pt x="23720" y="14022"/>
                  <a:pt x="23734" y="14092"/>
                  <a:pt x="23717" y="14160"/>
                </a:cubicBezTo>
                <a:cubicBezTo>
                  <a:pt x="23687" y="14276"/>
                  <a:pt x="23683" y="14400"/>
                  <a:pt x="23654" y="14510"/>
                </a:cubicBezTo>
                <a:cubicBezTo>
                  <a:pt x="23628" y="14562"/>
                  <a:pt x="23617" y="14570"/>
                  <a:pt x="23622" y="14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16"/>
          <p:cNvSpPr/>
          <p:nvPr/>
        </p:nvSpPr>
        <p:spPr>
          <a:xfrm>
            <a:off x="8515440" y="4765680"/>
            <a:ext cx="560160" cy="1817640"/>
          </a:xfrm>
          <a:custGeom>
            <a:avLst/>
            <a:gdLst/>
            <a:ahLst/>
            <a:rect l="l" t="t" r="r" b="b"/>
            <a:pathLst>
              <a:path w="1557" h="5049">
                <a:moveTo>
                  <a:pt x="23940" y="14160"/>
                </a:moveTo>
                <a:lnTo>
                  <a:pt x="23940" y="14160"/>
                </a:lnTo>
              </a:path>
              <a:path w="1557" h="5049">
                <a:moveTo>
                  <a:pt x="23940" y="14160"/>
                </a:moveTo>
                <a:cubicBezTo>
                  <a:pt x="23961" y="14160"/>
                  <a:pt x="23982" y="14160"/>
                  <a:pt x="24003" y="14160"/>
                </a:cubicBezTo>
              </a:path>
              <a:path w="1557" h="5049">
                <a:moveTo>
                  <a:pt x="24003" y="14160"/>
                </a:moveTo>
                <a:cubicBezTo>
                  <a:pt x="24053" y="14160"/>
                  <a:pt x="24029" y="14129"/>
                  <a:pt x="24098" y="14129"/>
                </a:cubicBezTo>
              </a:path>
              <a:path w="1557" h="5049">
                <a:moveTo>
                  <a:pt x="23940" y="14446"/>
                </a:moveTo>
                <a:cubicBezTo>
                  <a:pt x="23997" y="14446"/>
                  <a:pt x="24019" y="14462"/>
                  <a:pt x="24035" y="14414"/>
                </a:cubicBezTo>
                <a:cubicBezTo>
                  <a:pt x="24063" y="14443"/>
                  <a:pt x="24069" y="14454"/>
                  <a:pt x="24098" y="14446"/>
                </a:cubicBezTo>
              </a:path>
              <a:path w="1557" h="5049">
                <a:moveTo>
                  <a:pt x="24416" y="13684"/>
                </a:moveTo>
                <a:cubicBezTo>
                  <a:pt x="24462" y="13638"/>
                  <a:pt x="24511" y="13564"/>
                  <a:pt x="24574" y="13557"/>
                </a:cubicBezTo>
                <a:cubicBezTo>
                  <a:pt x="24628" y="13551"/>
                  <a:pt x="24665" y="13607"/>
                  <a:pt x="24670" y="13652"/>
                </a:cubicBezTo>
                <a:cubicBezTo>
                  <a:pt x="24682" y="13758"/>
                  <a:pt x="24654" y="13842"/>
                  <a:pt x="24638" y="13938"/>
                </a:cubicBezTo>
                <a:cubicBezTo>
                  <a:pt x="24622" y="14036"/>
                  <a:pt x="24612" y="14131"/>
                  <a:pt x="24574" y="14224"/>
                </a:cubicBezTo>
                <a:cubicBezTo>
                  <a:pt x="24552" y="14277"/>
                  <a:pt x="24538" y="14369"/>
                  <a:pt x="24511" y="14414"/>
                </a:cubicBezTo>
                <a:cubicBezTo>
                  <a:pt x="24479" y="14446"/>
                  <a:pt x="24469" y="14456"/>
                  <a:pt x="24448" y="14478"/>
                </a:cubicBezTo>
                <a:cubicBezTo>
                  <a:pt x="24464" y="14428"/>
                  <a:pt x="24498" y="14444"/>
                  <a:pt x="24543" y="14414"/>
                </a:cubicBezTo>
                <a:cubicBezTo>
                  <a:pt x="24616" y="14366"/>
                  <a:pt x="24599" y="14391"/>
                  <a:pt x="24670" y="14414"/>
                </a:cubicBezTo>
                <a:cubicBezTo>
                  <a:pt x="24718" y="14429"/>
                  <a:pt x="24764" y="14412"/>
                  <a:pt x="24797" y="14383"/>
                </a:cubicBezTo>
                <a:cubicBezTo>
                  <a:pt x="24825" y="14354"/>
                  <a:pt x="24835" y="14348"/>
                  <a:pt x="24828" y="14319"/>
                </a:cubicBezTo>
              </a:path>
              <a:path w="1557" h="5049">
                <a:moveTo>
                  <a:pt x="24098" y="15875"/>
                </a:moveTo>
                <a:cubicBezTo>
                  <a:pt x="24056" y="15931"/>
                  <a:pt x="24066" y="15959"/>
                  <a:pt x="24066" y="16034"/>
                </a:cubicBezTo>
                <a:cubicBezTo>
                  <a:pt x="24066" y="16292"/>
                  <a:pt x="24072" y="16542"/>
                  <a:pt x="24098" y="16796"/>
                </a:cubicBezTo>
                <a:cubicBezTo>
                  <a:pt x="24109" y="16902"/>
                  <a:pt x="24098" y="17011"/>
                  <a:pt x="24130" y="17113"/>
                </a:cubicBezTo>
                <a:cubicBezTo>
                  <a:pt x="24151" y="17178"/>
                  <a:pt x="24162" y="17203"/>
                  <a:pt x="24162" y="17272"/>
                </a:cubicBezTo>
              </a:path>
              <a:path w="1557" h="5049">
                <a:moveTo>
                  <a:pt x="24289" y="16066"/>
                </a:moveTo>
                <a:cubicBezTo>
                  <a:pt x="24301" y="16015"/>
                  <a:pt x="24342" y="15989"/>
                  <a:pt x="24352" y="15970"/>
                </a:cubicBezTo>
                <a:cubicBezTo>
                  <a:pt x="24377" y="15921"/>
                  <a:pt x="24403" y="15888"/>
                  <a:pt x="24448" y="15843"/>
                </a:cubicBezTo>
                <a:cubicBezTo>
                  <a:pt x="24462" y="15829"/>
                  <a:pt x="24557" y="15762"/>
                  <a:pt x="24574" y="15780"/>
                </a:cubicBezTo>
                <a:cubicBezTo>
                  <a:pt x="24606" y="15813"/>
                  <a:pt x="24606" y="15837"/>
                  <a:pt x="24606" y="15907"/>
                </a:cubicBezTo>
                <a:cubicBezTo>
                  <a:pt x="24606" y="16004"/>
                  <a:pt x="24597" y="16100"/>
                  <a:pt x="24574" y="16192"/>
                </a:cubicBezTo>
                <a:cubicBezTo>
                  <a:pt x="24565" y="16230"/>
                  <a:pt x="24507" y="16422"/>
                  <a:pt x="24479" y="16446"/>
                </a:cubicBezTo>
                <a:cubicBezTo>
                  <a:pt x="24469" y="16446"/>
                  <a:pt x="24458" y="16446"/>
                  <a:pt x="24448" y="16446"/>
                </a:cubicBezTo>
                <a:cubicBezTo>
                  <a:pt x="24448" y="16389"/>
                  <a:pt x="24450" y="16331"/>
                  <a:pt x="24479" y="16288"/>
                </a:cubicBezTo>
                <a:cubicBezTo>
                  <a:pt x="24509" y="16243"/>
                  <a:pt x="24514" y="16199"/>
                  <a:pt x="24574" y="16192"/>
                </a:cubicBezTo>
                <a:cubicBezTo>
                  <a:pt x="24644" y="16184"/>
                  <a:pt x="24647" y="16202"/>
                  <a:pt x="24670" y="16256"/>
                </a:cubicBezTo>
                <a:cubicBezTo>
                  <a:pt x="24704" y="16335"/>
                  <a:pt x="24754" y="16392"/>
                  <a:pt x="24765" y="16478"/>
                </a:cubicBezTo>
                <a:cubicBezTo>
                  <a:pt x="24782" y="16606"/>
                  <a:pt x="24776" y="16772"/>
                  <a:pt x="24733" y="16891"/>
                </a:cubicBezTo>
                <a:cubicBezTo>
                  <a:pt x="24688" y="17017"/>
                  <a:pt x="24660" y="17171"/>
                  <a:pt x="24543" y="17240"/>
                </a:cubicBezTo>
                <a:cubicBezTo>
                  <a:pt x="24467" y="17285"/>
                  <a:pt x="24429" y="17334"/>
                  <a:pt x="24352" y="17272"/>
                </a:cubicBezTo>
                <a:cubicBezTo>
                  <a:pt x="24286" y="17219"/>
                  <a:pt x="24304" y="17267"/>
                  <a:pt x="24289" y="17177"/>
                </a:cubicBezTo>
              </a:path>
              <a:path w="1557" h="5049">
                <a:moveTo>
                  <a:pt x="24320" y="14605"/>
                </a:moveTo>
                <a:cubicBezTo>
                  <a:pt x="24294" y="14659"/>
                  <a:pt x="24293" y="14642"/>
                  <a:pt x="24289" y="14732"/>
                </a:cubicBezTo>
                <a:cubicBezTo>
                  <a:pt x="24286" y="14790"/>
                  <a:pt x="24293" y="14847"/>
                  <a:pt x="24320" y="14891"/>
                </a:cubicBezTo>
                <a:cubicBezTo>
                  <a:pt x="24349" y="14939"/>
                  <a:pt x="24434" y="14935"/>
                  <a:pt x="24479" y="14954"/>
                </a:cubicBezTo>
                <a:cubicBezTo>
                  <a:pt x="24555" y="14987"/>
                  <a:pt x="24587" y="14982"/>
                  <a:pt x="24670" y="14986"/>
                </a:cubicBezTo>
                <a:cubicBezTo>
                  <a:pt x="24761" y="14990"/>
                  <a:pt x="24840" y="14923"/>
                  <a:pt x="24892" y="14859"/>
                </a:cubicBezTo>
                <a:cubicBezTo>
                  <a:pt x="24968" y="14765"/>
                  <a:pt x="24996" y="14645"/>
                  <a:pt x="25051" y="14542"/>
                </a:cubicBezTo>
                <a:cubicBezTo>
                  <a:pt x="25134" y="14387"/>
                  <a:pt x="25144" y="14296"/>
                  <a:pt x="25178" y="14129"/>
                </a:cubicBezTo>
                <a:cubicBezTo>
                  <a:pt x="25258" y="13892"/>
                  <a:pt x="25121" y="13835"/>
                  <a:pt x="24670" y="13938"/>
                </a:cubicBezTo>
                <a:cubicBezTo>
                  <a:pt x="25088" y="13738"/>
                  <a:pt x="25313" y="13831"/>
                  <a:pt x="25146" y="13462"/>
                </a:cubicBezTo>
                <a:cubicBezTo>
                  <a:pt x="25069" y="13291"/>
                  <a:pt x="25077" y="13333"/>
                  <a:pt x="24956" y="13272"/>
                </a:cubicBezTo>
                <a:cubicBezTo>
                  <a:pt x="24910" y="13249"/>
                  <a:pt x="24861" y="13215"/>
                  <a:pt x="24797" y="13240"/>
                </a:cubicBezTo>
                <a:cubicBezTo>
                  <a:pt x="24760" y="13254"/>
                  <a:pt x="24633" y="13336"/>
                  <a:pt x="24606" y="13367"/>
                </a:cubicBezTo>
                <a:cubicBezTo>
                  <a:pt x="24542" y="13440"/>
                  <a:pt x="24470" y="13540"/>
                  <a:pt x="24416" y="13621"/>
                </a:cubicBezTo>
                <a:cubicBezTo>
                  <a:pt x="24335" y="13743"/>
                  <a:pt x="24346" y="13869"/>
                  <a:pt x="24320" y="14002"/>
                </a:cubicBezTo>
                <a:cubicBezTo>
                  <a:pt x="24290" y="14153"/>
                  <a:pt x="24289" y="14290"/>
                  <a:pt x="24289" y="14446"/>
                </a:cubicBezTo>
                <a:cubicBezTo>
                  <a:pt x="24289" y="14554"/>
                  <a:pt x="24318" y="14630"/>
                  <a:pt x="24352" y="14732"/>
                </a:cubicBezTo>
              </a:path>
              <a:path w="1557" h="5049">
                <a:moveTo>
                  <a:pt x="24194" y="15526"/>
                </a:moveTo>
                <a:cubicBezTo>
                  <a:pt x="24116" y="15526"/>
                  <a:pt x="24208" y="15526"/>
                  <a:pt x="24130" y="15526"/>
                </a:cubicBezTo>
                <a:cubicBezTo>
                  <a:pt x="24060" y="15526"/>
                  <a:pt x="24026" y="15520"/>
                  <a:pt x="23971" y="15558"/>
                </a:cubicBezTo>
                <a:cubicBezTo>
                  <a:pt x="23906" y="15603"/>
                  <a:pt x="23878" y="15680"/>
                  <a:pt x="23844" y="15748"/>
                </a:cubicBezTo>
                <a:cubicBezTo>
                  <a:pt x="23797" y="15841"/>
                  <a:pt x="23753" y="15937"/>
                  <a:pt x="23717" y="16034"/>
                </a:cubicBezTo>
                <a:cubicBezTo>
                  <a:pt x="23667" y="16170"/>
                  <a:pt x="23658" y="16334"/>
                  <a:pt x="23654" y="16478"/>
                </a:cubicBezTo>
                <a:cubicBezTo>
                  <a:pt x="23649" y="16664"/>
                  <a:pt x="23671" y="16837"/>
                  <a:pt x="23686" y="17018"/>
                </a:cubicBezTo>
                <a:cubicBezTo>
                  <a:pt x="23703" y="17216"/>
                  <a:pt x="23745" y="17369"/>
                  <a:pt x="23812" y="17558"/>
                </a:cubicBezTo>
                <a:cubicBezTo>
                  <a:pt x="23866" y="17711"/>
                  <a:pt x="23941" y="17813"/>
                  <a:pt x="24035" y="17939"/>
                </a:cubicBezTo>
                <a:cubicBezTo>
                  <a:pt x="24113" y="18043"/>
                  <a:pt x="24174" y="18130"/>
                  <a:pt x="24289" y="18193"/>
                </a:cubicBezTo>
                <a:cubicBezTo>
                  <a:pt x="24368" y="18236"/>
                  <a:pt x="24452" y="18292"/>
                  <a:pt x="24543" y="18288"/>
                </a:cubicBezTo>
                <a:cubicBezTo>
                  <a:pt x="24636" y="18284"/>
                  <a:pt x="24716" y="18185"/>
                  <a:pt x="24765" y="18129"/>
                </a:cubicBezTo>
                <a:cubicBezTo>
                  <a:pt x="24863" y="18018"/>
                  <a:pt x="24909" y="17922"/>
                  <a:pt x="24956" y="17780"/>
                </a:cubicBezTo>
                <a:cubicBezTo>
                  <a:pt x="25021" y="17584"/>
                  <a:pt x="25077" y="17383"/>
                  <a:pt x="25082" y="17177"/>
                </a:cubicBezTo>
                <a:cubicBezTo>
                  <a:pt x="25087" y="16967"/>
                  <a:pt x="25078" y="16749"/>
                  <a:pt x="25051" y="16542"/>
                </a:cubicBezTo>
                <a:cubicBezTo>
                  <a:pt x="25025" y="16347"/>
                  <a:pt x="25004" y="16162"/>
                  <a:pt x="24956" y="15970"/>
                </a:cubicBezTo>
                <a:cubicBezTo>
                  <a:pt x="24927" y="15854"/>
                  <a:pt x="24858" y="15676"/>
                  <a:pt x="24765" y="15589"/>
                </a:cubicBezTo>
                <a:cubicBezTo>
                  <a:pt x="24698" y="15526"/>
                  <a:pt x="24576" y="15441"/>
                  <a:pt x="24479" y="15430"/>
                </a:cubicBezTo>
                <a:cubicBezTo>
                  <a:pt x="24346" y="15415"/>
                  <a:pt x="24288" y="15438"/>
                  <a:pt x="24194" y="15526"/>
                </a:cubicBezTo>
                <a:cubicBezTo>
                  <a:pt x="24075" y="15638"/>
                  <a:pt x="24021" y="15756"/>
                  <a:pt x="23971" y="159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17"/>
          <p:cNvSpPr/>
          <p:nvPr/>
        </p:nvSpPr>
        <p:spPr>
          <a:xfrm>
            <a:off x="1063800" y="2343240"/>
            <a:ext cx="3325680" cy="639720"/>
          </a:xfrm>
          <a:custGeom>
            <a:avLst/>
            <a:gdLst/>
            <a:ahLst/>
            <a:rect l="l" t="t" r="r" b="b"/>
            <a:pathLst>
              <a:path w="9240" h="1779">
                <a:moveTo>
                  <a:pt x="5080" y="6604"/>
                </a:moveTo>
                <a:cubicBezTo>
                  <a:pt x="4927" y="6610"/>
                  <a:pt x="4783" y="6607"/>
                  <a:pt x="4636" y="6636"/>
                </a:cubicBezTo>
                <a:cubicBezTo>
                  <a:pt x="4526" y="6658"/>
                  <a:pt x="4391" y="6669"/>
                  <a:pt x="4286" y="6699"/>
                </a:cubicBezTo>
                <a:cubicBezTo>
                  <a:pt x="4182" y="6728"/>
                  <a:pt x="4070" y="6785"/>
                  <a:pt x="3969" y="6826"/>
                </a:cubicBezTo>
                <a:cubicBezTo>
                  <a:pt x="3847" y="6875"/>
                  <a:pt x="3702" y="6921"/>
                  <a:pt x="3588" y="6985"/>
                </a:cubicBezTo>
                <a:cubicBezTo>
                  <a:pt x="3473" y="7049"/>
                  <a:pt x="3366" y="7147"/>
                  <a:pt x="3270" y="7239"/>
                </a:cubicBezTo>
                <a:cubicBezTo>
                  <a:pt x="3203" y="7303"/>
                  <a:pt x="3104" y="7360"/>
                  <a:pt x="3048" y="7430"/>
                </a:cubicBezTo>
                <a:cubicBezTo>
                  <a:pt x="2993" y="7499"/>
                  <a:pt x="2962" y="7566"/>
                  <a:pt x="2953" y="7652"/>
                </a:cubicBezTo>
                <a:cubicBezTo>
                  <a:pt x="2945" y="7727"/>
                  <a:pt x="2949" y="7817"/>
                  <a:pt x="2984" y="7874"/>
                </a:cubicBezTo>
                <a:cubicBezTo>
                  <a:pt x="2996" y="7894"/>
                  <a:pt x="3089" y="7959"/>
                  <a:pt x="3112" y="7969"/>
                </a:cubicBezTo>
                <a:cubicBezTo>
                  <a:pt x="3176" y="7997"/>
                  <a:pt x="3237" y="7985"/>
                  <a:pt x="3302" y="8001"/>
                </a:cubicBezTo>
                <a:cubicBezTo>
                  <a:pt x="3401" y="8025"/>
                  <a:pt x="3483" y="8021"/>
                  <a:pt x="3588" y="8033"/>
                </a:cubicBezTo>
                <a:cubicBezTo>
                  <a:pt x="3677" y="8043"/>
                  <a:pt x="3750" y="8059"/>
                  <a:pt x="3842" y="8064"/>
                </a:cubicBezTo>
                <a:cubicBezTo>
                  <a:pt x="4094" y="8077"/>
                  <a:pt x="4358" y="8086"/>
                  <a:pt x="4604" y="8096"/>
                </a:cubicBezTo>
                <a:cubicBezTo>
                  <a:pt x="4913" y="8109"/>
                  <a:pt x="5223" y="8111"/>
                  <a:pt x="5524" y="8128"/>
                </a:cubicBezTo>
                <a:cubicBezTo>
                  <a:pt x="5724" y="8139"/>
                  <a:pt x="5934" y="8150"/>
                  <a:pt x="6128" y="8160"/>
                </a:cubicBezTo>
                <a:cubicBezTo>
                  <a:pt x="6371" y="8172"/>
                  <a:pt x="6621" y="8179"/>
                  <a:pt x="6858" y="8192"/>
                </a:cubicBezTo>
                <a:cubicBezTo>
                  <a:pt x="7478" y="8226"/>
                  <a:pt x="8114" y="8223"/>
                  <a:pt x="8731" y="8223"/>
                </a:cubicBezTo>
                <a:cubicBezTo>
                  <a:pt x="8894" y="8223"/>
                  <a:pt x="9050" y="8248"/>
                  <a:pt x="9208" y="8255"/>
                </a:cubicBezTo>
                <a:cubicBezTo>
                  <a:pt x="9482" y="8268"/>
                  <a:pt x="9763" y="8274"/>
                  <a:pt x="10033" y="8287"/>
                </a:cubicBezTo>
                <a:cubicBezTo>
                  <a:pt x="10394" y="8304"/>
                  <a:pt x="10759" y="8274"/>
                  <a:pt x="11112" y="8255"/>
                </a:cubicBezTo>
                <a:cubicBezTo>
                  <a:pt x="11242" y="8248"/>
                  <a:pt x="11368" y="8248"/>
                  <a:pt x="11494" y="8223"/>
                </a:cubicBezTo>
                <a:cubicBezTo>
                  <a:pt x="11602" y="8201"/>
                  <a:pt x="11704" y="8166"/>
                  <a:pt x="11811" y="8128"/>
                </a:cubicBezTo>
                <a:cubicBezTo>
                  <a:pt x="11926" y="8087"/>
                  <a:pt x="11983" y="8059"/>
                  <a:pt x="12065" y="7969"/>
                </a:cubicBezTo>
                <a:cubicBezTo>
                  <a:pt x="12117" y="7912"/>
                  <a:pt x="12171" y="7857"/>
                  <a:pt x="12192" y="7779"/>
                </a:cubicBezTo>
                <a:cubicBezTo>
                  <a:pt x="12218" y="7680"/>
                  <a:pt x="12199" y="7451"/>
                  <a:pt x="12160" y="7366"/>
                </a:cubicBezTo>
                <a:cubicBezTo>
                  <a:pt x="12113" y="7262"/>
                  <a:pt x="11994" y="7122"/>
                  <a:pt x="11906" y="7048"/>
                </a:cubicBezTo>
                <a:cubicBezTo>
                  <a:pt x="11816" y="6972"/>
                  <a:pt x="11724" y="6917"/>
                  <a:pt x="11620" y="6858"/>
                </a:cubicBezTo>
                <a:cubicBezTo>
                  <a:pt x="11502" y="6791"/>
                  <a:pt x="11369" y="6744"/>
                  <a:pt x="11240" y="6699"/>
                </a:cubicBezTo>
                <a:cubicBezTo>
                  <a:pt x="11073" y="6640"/>
                  <a:pt x="10903" y="6601"/>
                  <a:pt x="10732" y="6572"/>
                </a:cubicBezTo>
                <a:cubicBezTo>
                  <a:pt x="10571" y="6545"/>
                  <a:pt x="10419" y="6519"/>
                  <a:pt x="10255" y="6509"/>
                </a:cubicBezTo>
                <a:cubicBezTo>
                  <a:pt x="9822" y="6483"/>
                  <a:pt x="9382" y="6521"/>
                  <a:pt x="8954" y="6540"/>
                </a:cubicBezTo>
                <a:cubicBezTo>
                  <a:pt x="8749" y="6549"/>
                  <a:pt x="8552" y="6548"/>
                  <a:pt x="8350" y="6572"/>
                </a:cubicBezTo>
                <a:cubicBezTo>
                  <a:pt x="8190" y="6591"/>
                  <a:pt x="8035" y="6589"/>
                  <a:pt x="7874" y="6604"/>
                </a:cubicBezTo>
                <a:cubicBezTo>
                  <a:pt x="7684" y="6621"/>
                  <a:pt x="7494" y="6659"/>
                  <a:pt x="7302" y="6668"/>
                </a:cubicBezTo>
                <a:cubicBezTo>
                  <a:pt x="6630" y="6700"/>
                  <a:pt x="5932" y="6601"/>
                  <a:pt x="5270" y="6699"/>
                </a:cubicBezTo>
                <a:cubicBezTo>
                  <a:pt x="5145" y="6717"/>
                  <a:pt x="5014" y="6710"/>
                  <a:pt x="4890" y="6731"/>
                </a:cubicBezTo>
                <a:cubicBezTo>
                  <a:pt x="4778" y="6750"/>
                  <a:pt x="4650" y="6769"/>
                  <a:pt x="4540" y="6794"/>
                </a:cubicBezTo>
                <a:cubicBezTo>
                  <a:pt x="4449" y="6815"/>
                  <a:pt x="4341" y="6828"/>
                  <a:pt x="4254" y="6858"/>
                </a:cubicBezTo>
                <a:cubicBezTo>
                  <a:pt x="4191" y="6890"/>
                  <a:pt x="4170" y="6901"/>
                  <a:pt x="4128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8"/>
          <p:cNvSpPr/>
          <p:nvPr/>
        </p:nvSpPr>
        <p:spPr>
          <a:xfrm>
            <a:off x="3314880" y="5761080"/>
            <a:ext cx="2949480" cy="149040"/>
          </a:xfrm>
          <a:custGeom>
            <a:avLst/>
            <a:gdLst/>
            <a:ahLst/>
            <a:rect l="l" t="t" r="r" b="b"/>
            <a:pathLst>
              <a:path w="8192" h="414">
                <a:moveTo>
                  <a:pt x="17399" y="16415"/>
                </a:moveTo>
                <a:cubicBezTo>
                  <a:pt x="17373" y="16393"/>
                  <a:pt x="17341" y="16344"/>
                  <a:pt x="17304" y="16320"/>
                </a:cubicBezTo>
                <a:cubicBezTo>
                  <a:pt x="17255" y="16288"/>
                  <a:pt x="17209" y="16264"/>
                  <a:pt x="17145" y="16256"/>
                </a:cubicBezTo>
                <a:cubicBezTo>
                  <a:pt x="16964" y="16232"/>
                  <a:pt x="16749" y="16236"/>
                  <a:pt x="16574" y="16224"/>
                </a:cubicBezTo>
                <a:cubicBezTo>
                  <a:pt x="16317" y="16206"/>
                  <a:pt x="16060" y="16234"/>
                  <a:pt x="15812" y="16192"/>
                </a:cubicBezTo>
                <a:cubicBezTo>
                  <a:pt x="15725" y="16177"/>
                  <a:pt x="15643" y="16179"/>
                  <a:pt x="15558" y="16161"/>
                </a:cubicBezTo>
                <a:cubicBezTo>
                  <a:pt x="15473" y="16143"/>
                  <a:pt x="15356" y="16105"/>
                  <a:pt x="15272" y="16097"/>
                </a:cubicBezTo>
                <a:cubicBezTo>
                  <a:pt x="15171" y="16087"/>
                  <a:pt x="15083" y="16084"/>
                  <a:pt x="14986" y="16066"/>
                </a:cubicBezTo>
                <a:cubicBezTo>
                  <a:pt x="14864" y="16043"/>
                  <a:pt x="14733" y="16011"/>
                  <a:pt x="14605" y="16002"/>
                </a:cubicBezTo>
                <a:cubicBezTo>
                  <a:pt x="14322" y="15983"/>
                  <a:pt x="14019" y="15996"/>
                  <a:pt x="13748" y="16034"/>
                </a:cubicBezTo>
                <a:cubicBezTo>
                  <a:pt x="13652" y="16048"/>
                  <a:pt x="13557" y="16051"/>
                  <a:pt x="13462" y="16066"/>
                </a:cubicBezTo>
                <a:cubicBezTo>
                  <a:pt x="13370" y="16081"/>
                  <a:pt x="13268" y="16092"/>
                  <a:pt x="13176" y="16097"/>
                </a:cubicBezTo>
                <a:cubicBezTo>
                  <a:pt x="13079" y="16102"/>
                  <a:pt x="12978" y="16123"/>
                  <a:pt x="12890" y="16129"/>
                </a:cubicBezTo>
                <a:cubicBezTo>
                  <a:pt x="12813" y="16135"/>
                  <a:pt x="12701" y="16129"/>
                  <a:pt x="12605" y="16129"/>
                </a:cubicBezTo>
                <a:cubicBezTo>
                  <a:pt x="12474" y="16129"/>
                  <a:pt x="12344" y="16104"/>
                  <a:pt x="12224" y="16097"/>
                </a:cubicBezTo>
                <a:cubicBezTo>
                  <a:pt x="11972" y="16083"/>
                  <a:pt x="11705" y="16079"/>
                  <a:pt x="11462" y="16066"/>
                </a:cubicBezTo>
                <a:cubicBezTo>
                  <a:pt x="11250" y="16055"/>
                  <a:pt x="11029" y="16049"/>
                  <a:pt x="10827" y="16034"/>
                </a:cubicBezTo>
                <a:cubicBezTo>
                  <a:pt x="10664" y="16022"/>
                  <a:pt x="10438" y="15996"/>
                  <a:pt x="10287" y="16002"/>
                </a:cubicBezTo>
                <a:cubicBezTo>
                  <a:pt x="10171" y="16007"/>
                  <a:pt x="10025" y="16020"/>
                  <a:pt x="9906" y="16034"/>
                </a:cubicBezTo>
                <a:cubicBezTo>
                  <a:pt x="9810" y="16045"/>
                  <a:pt x="9715" y="16048"/>
                  <a:pt x="9620" y="16066"/>
                </a:cubicBezTo>
                <a:cubicBezTo>
                  <a:pt x="9535" y="16082"/>
                  <a:pt x="9453" y="16083"/>
                  <a:pt x="9366" y="16097"/>
                </a:cubicBezTo>
                <a:cubicBezTo>
                  <a:pt x="9312" y="16106"/>
                  <a:pt x="9263" y="16119"/>
                  <a:pt x="9208" y="16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2:46:39Z</dcterms:created>
  <dc:creator>Sharon Fieldman</dc:creator>
  <dc:description/>
  <dc:language>en-US</dc:language>
  <cp:lastModifiedBy>njamison</cp:lastModifiedBy>
  <dcterms:modified xsi:type="dcterms:W3CDTF">2011-05-20T12:56:41Z</dcterms:modified>
  <cp:revision>18</cp:revision>
  <dc:subject/>
  <dc:title>Goal 4.02 Quadratic Functions</dc:title>
</cp:coreProperties>
</file>